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3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1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F4A5-B96F-4E91-9BE6-620F4710D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33DF-D684-4FB9-92A7-3010FB071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23D8-C6F4-477D-B8F3-C74DC851A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BF56-8441-4BD8-BED1-4748496BA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86627-F651-409C-9397-D0B60B1E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1F0E6-EF57-4B19-B6EF-AAA47986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A0B5D-0AC5-4A16-A0AB-667BF335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DD550-7322-42EC-8AF2-1FB02B2F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09FDA-35E9-4293-A61F-D3FB7F5C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D04D1-BF23-4725-B0CB-078EB125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CED3E-BCC6-4967-829A-07BFC5D9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0097-C8C3-40A8-B683-8FD7BADA6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84938-D723-40E4-BEF1-A92A01D9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BC5D4-4AAD-4F75-AC2F-30C009E2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AC5E0-AC73-4652-BBBA-35E1800A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0DB6A-4867-4593-8CBF-8A9BE0EF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076CA-D17E-4FC0-9610-84072287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AD11-C9A4-4315-841B-0BE33EAB2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FCC5-F2C3-45A0-AB11-F4B01006B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6DD7-D643-494F-9D8F-32738C8B2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2C34-B2BC-49A4-B6A7-6BBAC58E8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B5EC-5278-4A7D-8A70-EA2B3A639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B077-C251-461B-8A58-D4833B1E8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99C0-5E72-476F-A3A2-BC3C751B0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3226-06CC-43AD-B283-EF92185AD3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23A9-BB01-417F-BEFE-1569CE724D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360" y="3357360"/>
            <a:ext cx="748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(Parte V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402920" y="1714680"/>
            <a:ext cx="720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 de Controle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B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ncroniza as atividades do siste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duz 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a informação de controle de/para o microprocessad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um Barramento de Controle ser formado, várias linhas de controle são necessár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CE3E-A13A-47E9-80A0-74DB158E6E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2066" t="0" r="2334" b="0"/>
          <a:stretch/>
        </p:blipFill>
        <p:spPr>
          <a:xfrm>
            <a:off x="1258920" y="2637000"/>
            <a:ext cx="7740720" cy="2465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E9AB-035B-46AD-8FC3-0CE150D9F8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Barr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d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para linhas de dados e endere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ltiplex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artilha linhas de dados e endere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 linhas de endereço válido ou dado vá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ntag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Poucas linhas, espaço, cu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vant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ole mais compl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ução do desempe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DA01-598D-4229-AD41-640134298D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ada dispositivo de E/S é composto de duas part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Controladora – contém a maioria dos circuitos eletrônicos do dispositiv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O dispositivo propriamente dito (ex.: drive de disco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3716280"/>
            <a:ext cx="6909120" cy="29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CAD5-3D93-4E26-BBFE-06A8BE5F71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rolad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geral está em uma placa ligada a um slot livre, exceto no caso daquelas que não são opcionais (ex.: teclado), que muitas vezes está na placa mã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: controlar seu dispositivo de E/S e tratar o acesso do dispositivo ao barr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controladora que lê ou escreve dados da/na memória sem que seja necessária a intervenção do processador, executa Acesso Direto à Memória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irect Memory Access – D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2FA3-4577-4EBC-AACE-E4310B94C9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sso Direto à Memória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do termina a transferência dos dados, a controladora força um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rup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azendo com que o processador suspenda a execução do programa corrente, para começar a rodar um procedimento especial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tina de tratamento da interrup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do a rotina de tratamento da interrupção terminar sua execução, o processador retorna a execução do programa interrompido quando da ocorrência da interrup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3F14-B8E0-4A31-9F89-EAE9681FCD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0160" y="2565360"/>
            <a:ext cx="7773840" cy="28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0ECB-2C80-4634-8E23-B682C665FD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58560" y="1916280"/>
            <a:ext cx="7257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barramento não é usado apenas pelas controladoras de E/S, mas também pelo processador na busca de instruções e dados da memó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que vai acontecer se o processador e uma controladora de E/S decidirem usar o barramento ao mesmo temp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B6B6-4868-4F9F-9EBA-47A767178F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Árbitro de barr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um chip), decide de quem é a v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geral, os dispositivos de E/S têm preferência, preterindo o processador, pois os discos e demais dispositivos, cuja operação dependa de movimento de suas partes, não podem ter seu trabalho interromp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uma operação de E/S estiver em andamento, será garantido acesso prioritário ao barramento ao dispositivo que estiver realizando a tarefa. Denominação: roubo de ciclo (tem influência direta no desempenho do comput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5805360"/>
            <a:ext cx="7634160" cy="824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sa metodologia funcionou muito bem nos primeiros PC, dado que a velocidade de operação de todos os seus componentes era, em linhas gerais, da mesma ordem de magnitude da banda passante do barram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8549-9A87-48C9-87F3-7A08FBCF42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531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Arbitragem de Bar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bitragem centr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cisa de um árbitro para controlar o acesso ao barramento que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a quem será o próximo mestre do barr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bitragem descentr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usa árbitro para controlar o acesso ao barr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um dispositivo precisar usar o barramento, o dispositivo deve ativar a linha de requisi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dispositivos monitoram todas as linhas de requis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9117-AA2D-4772-BA69-ACD93C4557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Básica de Comput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ção (Dispositivos de Entrada e Saída Interlig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97EB-EBBA-46C6-9B95-7079D529B0F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258920" y="1628280"/>
            <a:ext cx="7531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bitragem de Barramento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7502400" cy="45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07CE-9A2C-4061-AD28-9BBC694441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920" y="1844640"/>
            <a:ext cx="7531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bitragem de Barramento Des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7008840" cy="24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104C-09AD-40EE-A28D-268D8CA899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34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tocolo de bar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junto de regras que especificam o funcionamento do barr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e as regras e especificações, elétricas e mecânicas, de compatibilização de um conjunto de dispositivos de E/S, em geral fornecidos por terceiros, com o barr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dispositivos ligados ao barramento podem funcionar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st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dispositivos ativos, ou seja, que comandam o bar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crav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dispositivos passivos, ou seja, não controlam o barramento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45A1-4AFF-4D81-8F17-B9C8ACF682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763884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7F52-B734-4D7A-961C-C8801140F4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rização do bar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s Síncr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êm uma de suas linhas alimentada por um oscilador a cristal (clock). Todas as atividades do barramento gastam um número inteiro de ciclos desse sinal – ciclos do barr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s Assíncr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usam clock para sincronização de oper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62160" y="5805360"/>
            <a:ext cx="7630920" cy="863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ortante: O maior problema com o barramento síncrono é que os dispositivos mais rápidos têm que esperar alguns clocks inteiros para finalização de operações com dispositivos mais len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21A0-7659-4269-ADB7-8A705C2F83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s Síncr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5793"/>
          <a:stretch/>
        </p:blipFill>
        <p:spPr>
          <a:xfrm>
            <a:off x="1763640" y="2276640"/>
            <a:ext cx="6553440" cy="41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E9F7-90EE-4C29-B870-3D5B21A23E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s Assíncr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7053120" cy="34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274E-8B0A-443D-AB82-4737084C2C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 Síncr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nhuma ou pouca lógica é necessária durante a trans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rramento rápido e de baixo cu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dispositivos devem operar na mesma velo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isc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êm comprimento físico limi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ação consiste basicamente de duas par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o do endereço e leitura dos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09B9-943A-4549-A4B5-51FDB74C8D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 Assíncr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unicação se dá a partir de um protocolo conhecido como aperto de mã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andshak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que é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lf-ti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s adaptável a mudanças tecn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aptável a uma grande variedade de dispositivos (velocid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mite maior comprimento fí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o tipicamente em transações de entrada/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68FB-DEEA-4644-A5E1-98C462C68D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920" y="184464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 Assíncr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ógica dedicada é necessária em cada dispos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verhead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ido ao processo de sincron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r BW (Banda Pass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3B3C-DF93-40FF-9C13-E330D3EF31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aminho de comunicação entre duas ou mais 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artilhado –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m usuário por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unicação é do tipo um para todos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s são agrupamentos de canais da largura de um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Um barramento de 32 bits é constituído de 32 canais de um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A9D2-A17F-4339-A07B-C8C80CA8CE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 Assíncrono - Trans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0 – colocação do endereço nas linhas de dados e ativação do sinal de leitura requerida pelo dispositivo de entrada/saí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1 – leitura do endereço e ativação do sinal de reconhecimento pela memó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2 – detecção do sinal de reconhecimento e liberação das linhas de dados e leitura requerida pelo dispos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3 – reconhecimento da liberação das linhas e desativação do sinal de reconhecimento pela memó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4 – quando pronta, a memória coloca os dados nas linhas de dados e ativa o sinal de dados pro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5 – o dispositivo reconhece o sinal de dados prontos, lê os dados e ativa o sinal de reconhecim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6 – a memória detecta o sinal de reconhecimento, e então libera as linhas de dados e dados pro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7 – o dispositivo detecta a liberação da linha dados prontos e desativa o sinal de reconhecim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13A9-851E-4350-AE16-AD230303A2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373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rcício 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Considere um barramento síncrono com as seguintes caracterís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 do barramento = 4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o do endereço para a memória: 5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itura da memória: 2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o do dado para o dispositivo: 5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responda as questões abaix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o tempo total para a leitura de uma palav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a banda passante máxi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33BA-A8FB-4F08-A707-E86D0A4C97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os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 do barramento = 4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o do endereço para a memória: 5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itura da memória: 2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o do dado para o dispositivo: 5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total para a leitura de uma palav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 ns + 20 ns + 5 ns = 3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Banda passante máxi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 bytes / 30 ns  = 133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6BE5-012C-44A1-A028-10329F9097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4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rcício 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Considere um barramento assíncrono com as seguintes caracterís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largura do barramento = 4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cada passo: 4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passo da memória: 2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responda as questões abaix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o tempo total para a leitura de uma palav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a banda passante máxi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9316-5D42-4DDE-9064-F6DB400741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os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 do barramento = 4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asso: 4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sso da memória: 2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total para a leitura de uma palav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sso 1: 4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ssos 2,3,4: máximo (3 x 4 ns , 20 ns) = 2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ssos 5,6,7: 3 x 4 ns = 12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 ns + 20 ns + 12 ns = 36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Banda passante máxi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 bytes / 36 ns = 111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1498-B275-4962-997E-061AC9972C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512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 Síncron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Assíncr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barramentos síncronos não podem tirar vantagem dos ganhos em desempenho das novas tecnologias surgidas após a sua defini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ada mudança de tecnologia, para se aumentar o desempenho do sistema, é necessário trocar todos os dispositivos da tecnologia anterior. Isto não acontece com os barramentos assíncronos, pois cada operação pode definir a sua própria temporiz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m conviver num mesmo barramento assíncrono dispositivos de tecnologias diferentes. Esta flexibilidade tem, como custo, uma maior complexidade do barr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BD38-51A2-42EE-BFB7-AC6EBEFBBD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 Síncron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Assíncr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edida que os avanços tecnológicos aproximam-se dos limites físicos de velocidade dos dispositivos, a vantagem da flexibilidade dos barramentos assíncronos perde um pouco a sua importâ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is numa mesma tecnologia, o desempenho dos barramentos síncronos é um pouco maior que o desempenho dos barramentos assíncro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EF6A-8DFC-430C-B2C4-11E33EAF4A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258920" y="184464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arramento assíncrono tem vantagens em relação ao síncrono, porém os síncronos são mais usados pois: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mais fáceis de construir, o processador simplesmente ativa seus sinais e a memória simplesmente reage a eles. Não há realimentação (causa e efei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á uma boa soma de dinheiro investida na tecnologia de barramentos síncron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889E-AE14-48FF-BB45-C46D8230C7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332000" y="981000"/>
          <a:ext cx="7592760" cy="5678280"/>
        </p:xfrm>
        <a:graphic>
          <a:graphicData uri="http://schemas.openxmlformats.org/drawingml/2006/table">
            <a:tbl>
              <a:tblPr/>
              <a:tblGrid>
                <a:gridCol w="1528560"/>
                <a:gridCol w="1118880"/>
                <a:gridCol w="1281240"/>
                <a:gridCol w="1432080"/>
                <a:gridCol w="2232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arr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úmero de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ado p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iclo de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axa máxima de transferê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3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3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66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3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66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33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-X 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33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-X 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3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066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-X 2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3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132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-X 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3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266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GP X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66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GP X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33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GP X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066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GP X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133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 Express X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5 G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rial/1la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50 MB/s em cada sen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 Express X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5 G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rial/2la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00 MB/s em cada sen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 Express X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5 G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rial/4la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000 MB/s em cada sen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 Express X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5 G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rial/16la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000 MB/s em cada sen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 Express X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5 G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rial/32la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.000 MB/s em cada sen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990880" y="26028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Barr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140B-AB56-4BAF-A19D-C7B3A3D6B0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6064200" cy="451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E3F6-47CD-491B-8312-3FD587DD3B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31640" y="1628280"/>
            <a:ext cx="7561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s de um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24000" y="2637000"/>
            <a:ext cx="7812000" cy="32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C857-49A2-4FC7-92A6-CDEC13CF4C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5936" t="0" r="0" b="0"/>
          <a:stretch/>
        </p:blipFill>
        <p:spPr>
          <a:xfrm>
            <a:off x="2124000" y="1690560"/>
            <a:ext cx="6264360" cy="5167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6648-8CD2-476E-BF0C-07B68898344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58920" y="1773000"/>
            <a:ext cx="763416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os barramentos são longos e com muitos dispositivos usam-se chips amplificadores digit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arramento tem linhas de endereços, dados e controle, porém não é necessário o mapeamento 1 para 1 com os pinos do processador. Para compatibilizar sinais e pinos dos processadores são usados chips conhecidos com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codificador de barr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o se projetar um barramento, faz-se necessário considerar os seguintes aspectos: largura, metodologia de temporização, arbitragem e operações possíveis.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6308640"/>
            <a:ext cx="7226280" cy="312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 projeto eficiente de barramentos é crucial para a velocidade do siste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26D8-5B80-41AC-82D2-A08A049960D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7143840" cy="32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CEFB-72EF-47CA-879D-6D348DCC07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últi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6603840" cy="33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3F7D-0783-4FB2-B538-587CC3B7BA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7338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s – T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 de dados – bidire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 de endereços – unidire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 de controle - bidire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3AA5-9B6A-41A4-AA95-E2EC2D63ED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 de Dados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 Bu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ão linhas usadas para transferência de dados e instruções entre processador, memória e dispositivos de E/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suem diferentes tamanhos, dependendo do processador. Exemplo: 8, 16, 32, 64 e 12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27C4-0B48-4EC6-9065-09D914FFBF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553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 de Endereços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ddress Bu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sado para selecionar a origem ou destino de sinais transmitidos em um dos outros barramentos ou em uma de suas linhas. Conduz endereç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 função típica: selecionar um registrador em um dos dispositivos do sistema, que é usado como a fonte ou o destino do da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cessador us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linhas de endereço do barramento para endereçar 2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osições diferentes de memó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mplo: Barramento de Endereços com 32 linhas, pode endereçar 2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ispositiv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C51C-E5D7-49EE-B87F-A0DCA8D018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3-13T10:19:40Z</dcterms:modified>
  <cp:revision>239</cp:revision>
  <dc:subject/>
  <dc:title>Organização e Arquitetura de Computadores I</dc:title>
</cp:coreProperties>
</file>