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B59C-E66D-4432-889F-5084CE3D6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7865-F189-46EF-BBAD-4A5B8C20C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97FF-FE76-41C9-A80D-15A657345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C049-ADEE-407D-A5CF-A34EF035F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6569A-D6FC-46EF-8626-76EEFA24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E980B-E82A-4D23-95D7-3DF1C641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F870C-A330-431D-8248-7D89C320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97C63-C09B-4326-9B34-FDF4746F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9FEC0-F2A3-4D27-A79B-A2089256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1D3D9-38AA-42C8-B957-6E8C689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8A049-A070-449A-92C7-639C27B9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45AA-2362-4FF8-B9B2-8D78ECE5A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E514C-6A5C-4F67-9FD5-F88A7516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A074E-0FB9-4E10-BF84-A58F4B8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1A524-F52C-4DA0-8471-0011A445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5F67A-F81A-4B1D-B536-285AD109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1054F-D0AE-4DE8-A350-3FBC883F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4897-47C4-461A-87CD-5C6720B3E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C1BF-BF25-4C18-B0C4-C47CBE6A1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97F8-4235-490E-8D02-01E8B3835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0728-51B0-4400-922E-12F4B12FA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F051-7C01-4D45-9287-D19C483D7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9B44-CD50-4E7F-9374-50E5BEE62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270F-DEB9-47A0-903D-057674354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297A-4CA0-4126-BAC9-6D7F4A00D9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2BFD-28EC-493A-A807-3106E34DB8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V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6553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 - Ordenação dos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35280" y="2924280"/>
          <a:ext cx="2049480" cy="2374920"/>
        </p:xfrm>
        <a:graphic>
          <a:graphicData uri="http://schemas.openxmlformats.org/drawingml/2006/table">
            <a:tbl>
              <a:tblPr/>
              <a:tblGrid>
                <a:gridCol w="693720"/>
                <a:gridCol w="135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50920" y="544500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19640" y="2924280"/>
          <a:ext cx="2232000" cy="23749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580000" y="5445000"/>
            <a:ext cx="230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6093000"/>
            <a:ext cx="46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lor em hexadecimal: 6151CE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8696-2244-4F6F-90DA-A856283EE8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s causados pela falta de padronização do armazenamento em memó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ção de instruções e dados em re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s que rodam em várias plataformas devem tratar essas diferenç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o de plataformas de palavras de diferentes taman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e: A solução para o problema não é trivial, em geral se baseia em inversão dos bytes. Isto funciona para valores numéricos mas não para cadeias de caracte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1A8F-A6D7-4D58-87AA-969222484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Códigos com  corre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s da memória podem, ocasionalmente, conter erros causados por oscilação de tensão, por exemp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olu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s são armazenados na memória com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ódig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permita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tec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rre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er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acrescentad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ts extr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 palavras de memória usados para verificar a exatidão da inform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alavra de códig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=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bits conterá: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ts de dados +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bits de redundância (ou verificaç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C152-3E92-4C45-9928-97FE401597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Códigos com corre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de Hamm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igual ao número de bits correspondentes que diferem em duas palavras de código quaisqu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ropriedades de detecção de erros e de correção de erros dependem fundamentalmente da sua distância de Ham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s palavras de código 10001001 e 10110001 distam 3 unidades de Ham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erv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É necessário que ocorram 3 erros (inversões) nos bits em destaque da palavra 2 para que ela se transforme na palavra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B955-C91D-4748-9F40-423A9E78F9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Códigos com  corre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cçã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stância de Hamming =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çã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rro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stância de Hamming =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2d+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mesmo em presenç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rros, a palavra de código original pode ser recomposta por meio dos bits redund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35C6-E044-42BA-87F7-60DAAE6845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com  detec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t de Par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efinido pelo número de 1s que ocorrem em uma palavra. Paridade par: associada a um número par de 1s. Paridade ímpar: associada a um número ímpar de 1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Si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lusão de 1 bit de paridade (0 - par e 1 - ímpar) aos bits de dados da palavra de códi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corrência de 1 único erro produz palavra de código errada (Distância de Hamming=2, são necessários 2 erros para transformar uma palavra de código válida em outra palavra de código válid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 só é detectado, e não corrigido. Programa cancela o processamento para não gerar resultados err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A34A-5AB0-40FB-9C75-A1509A9FC3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488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com  correção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ódigo com somente quatro palavras de código vál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0000000000      0000011111      1111100000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  111111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ância de Hamming = 5 (correção de dois erro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de palavra de código recebida pelo recep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000000011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incorr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lavra correta: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000001111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ocorrência de no máximo dois erros)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44F0-38FF-40D0-9B2F-19095B6F07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(Processador – Memóri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à memória, leitura e escrita, é um dos motivos para menor velocidade de process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dor é muito mais rápido do que a transferência de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dor deve executar outras instruções enquanto aguarda acesso à memória. Isto nem sempre é possível e é difícil de implem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locar memória principal no Chip do processador. Isto tornaria o chip maior e mais ca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ória menor e mais rápi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em relação à memória principal) chamada Memória Ca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96F3-1699-4656-8CB6-A61F484A77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ípio da loc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calidade temp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posição de memória referenciada recentemente tem boas chances de ser referenciada no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erações e recurs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calida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posição de memória vizinha de uma posição referenciada recentemente tem boas chances de ser referenci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dos tendem a ser armazenados em posições contí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783E-08AD-410F-9FF6-77F5C619E2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execução de um programa de computador, muitas das referências são a um pequeno conjunto de posições de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073B-647C-41FC-AE38-CB5D088E3B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ção (Memó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1D18-9FC4-4A7F-A774-DF0D31B1E1B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400880" cy="3154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47640" y="5011560"/>
            <a:ext cx="68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ória cache e Memória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6093000"/>
            <a:ext cx="705636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ait Sta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é a manutenção do endereço no barramento por vários ciclos devido à diferença de velocidade entre processador e memó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18900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7A4D-1AE9-4644-800D-A75B2ED896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29840" y="1844280"/>
            <a:ext cx="76345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 – Exemplo de funcionamento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CP vai buscar uma nova instrução (ou dado), após a busca inicial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cesso à memória ca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rução (ou dado) na cach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cert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rução (ou dado) não está na cach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alta/falha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s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5661000"/>
            <a:ext cx="754704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lha no acesso à cach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– ocorre sempre que o processador procura uma informação na cache e essa informação não está armazenada neste local, havendo necessidade de buscá-la n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4FDA-14DA-4C39-8B8C-EB791C5937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19280" y="6237360"/>
            <a:ext cx="68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ória cache e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553080" cy="611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6F65-FB44-431F-81AC-8303AE5A06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linhas de memória cache &lt; número de blocos da memória principal. Soluç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r um algoritmo para mapear os blocos da memória principal em linhas da memória ca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r um mecanismo para determinar o bloco da memória principal que ocupa uma dada linha da memória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Técnicas utiliz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associ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associativo por 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785C-6672-4F1D-A8D6-D9816DFF14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bloco da memória principal é mapeado em uma única linha de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simplicidade e baixo cu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cada bloco é mapeado em uma posição fixa da memória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16DF-C00F-4ECB-AA6D-E04D75ED87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eamento Direto para 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648180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7C47-A30E-448D-8244-0CED026563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58920" y="1916280"/>
            <a:ext cx="734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peamento associ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bloco da memória principal é carregado em qualquer linha da memória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oferece maior flexibilidade para escolha do bloco a ser substituído quando um novo bloco é trazido para a memória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complexidade do conjunto de circuitos necess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E0AE-35BA-4372-AB79-7DFF00F5D1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eamento Associativo para 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5000" r="0" b="0"/>
          <a:stretch/>
        </p:blipFill>
        <p:spPr>
          <a:xfrm>
            <a:off x="1763640" y="2565360"/>
            <a:ext cx="655956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43CF-460A-4FFE-89B4-F74D29C2B5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416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peamento associativo por conju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bina as vantagens do mapeamento direto e do mapeamento associativo e diminui suas desvanta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E707-4D0C-46E4-9586-5B842F7E17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489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 novo bloco é trazido para a memória cache, um dos blocos existentes deve ser substituí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cada bloco é mapeado em uma única linha, o que determina o bloco a ser substituído, não há altern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peamento Associativo e Associativo por Conjun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uso de algoritmo de substitu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AED6-8A52-4718-AACC-8767C6196F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06080" y="1740960"/>
            <a:ext cx="7658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sição básica de um Computador eletrônic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emó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s de entrada e saída interli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4005360"/>
            <a:ext cx="39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3860640"/>
            <a:ext cx="88920" cy="1276560"/>
          </a:xfrm>
          <a:custGeom>
            <a:avLst/>
            <a:gdLst>
              <a:gd name="textAreaLeft" fmla="*/ 56880 w 88920"/>
              <a:gd name="textAreaRight" fmla="*/ 89280 w 88920"/>
              <a:gd name="textAreaTop" fmla="*/ 33120 h 1276560"/>
              <a:gd name="textAreaBottom" fmla="*/ 1243440 h 12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1778-678B-42D5-A020-31E985CCFA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oritmos de sub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R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east Recently Use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– substituir o bloco usado menos recen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F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First-in-first-ou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– substituir o bloco que está no conjunto há mais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FU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east Frequently Use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– substituir o bloco que foi utilizado menos vez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a técn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- substituir aleatoriamente uma das linhas candida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734080"/>
            <a:ext cx="7561080" cy="1067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quem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rite-throu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ória principal é atualizada a cada modificação da memóri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quem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rite-ba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ória principal só é atualizada quando um bloco d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c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a ser substituí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23CA-EABB-4A20-93A7-970496A827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bricada com tecnologia semelhante à da CPU (possui tempos de acesso compatíveis, resultando numa considerável redução da espera da CPU para receber dados e instruções da cache, ao contrário do que acontece em sistemas sem cach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diversos tipos de memória cache utilizados em sistemas de computação modernos: Cache para a Memória Principal (RAM cache), Cache para Dis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mbrar que: podem existir caches primárias (dentro do processador) e outra secundária (fora do chip do processador) e até uma terceira cache mais ex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61E0-A1BA-42D8-9C6D-3BCBCA0AA2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81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 – Formas utiliz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che unif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truções e dados usando a mesma ca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simples de projet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belece automaticamente um equilíbrio entre as buscas de instruções e as buscas de d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che dividida (Arquitetura de Harv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ache para instruções e outra para d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e acesso em paralelo a instruções e a d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6093000"/>
            <a:ext cx="734544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 de Harvard – alusão ao computador Mark III projetado por Howard Aiken, que tinha memórias diferentes para instruções e para d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AA37-CC27-4CE0-811F-FA2D0924FC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87280" y="2636640"/>
            <a:ext cx="1872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ganização das Memórias Cache do Pent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3666" t="0" r="0" b="0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CFBC-DBD4-4261-9287-417E9A21EF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59280" y="1628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quia de 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63320" y="543096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91040" y="45925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ória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5240" y="37101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ória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41360" y="27813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1760" y="2230560"/>
            <a:ext cx="3886200" cy="3717720"/>
          </a:xfrm>
          <a:prstGeom prst="triangle">
            <a:avLst>
              <a:gd name="adj" fmla="val 50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9080" y="5091120"/>
            <a:ext cx="2914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3080" y="4303800"/>
            <a:ext cx="220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7040" y="3446640"/>
            <a:ext cx="1295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1080" y="2992320"/>
            <a:ext cx="167652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08640" y="3906720"/>
            <a:ext cx="129528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41800" y="4821120"/>
            <a:ext cx="68580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399000" y="5659560"/>
            <a:ext cx="260280" cy="144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2565360"/>
            <a:ext cx="228600" cy="3200400"/>
          </a:xfrm>
          <a:prstGeom prst="upDownArrow">
            <a:avLst>
              <a:gd name="adj1" fmla="val 50000"/>
              <a:gd name="adj2" fmla="val 278704"/>
            </a:avLst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5840" y="5803920"/>
            <a:ext cx="32418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sto baix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locidade baix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pacidade elev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1700280"/>
            <a:ext cx="28958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sto alt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locidade alta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ixa capac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6381720"/>
            <a:ext cx="4464000" cy="52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informações estão disponíveis no material de I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861E-76C8-4D4A-AEF7-7869081BE8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489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rcício de Revisã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a memória principal RAM (MP) tem um espaço máximo de endereçamento de 2K. Cada célula pode armazenar 16 b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total de bits que pode ser armazenado nesta memó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 cada endereç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2F54-FBEC-449C-B9F4-C7D9421C51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rcíc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computador, cuja memória RAM (MP) tem uma capacidade máxima de armazenamento de 2K palavras de 16 bits cada, possui um MAR e um M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stes registra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do maior endereço dessa MP (em decimal e em hex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a quantidade total de bits que nela pode ser armazen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5853-A233-4B8A-8E46-7A0CAA3A25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7058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Ordenação dos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, basicamente, 2 formas de organização dos bytes em uma palavra de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ig end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5084640"/>
            <a:ext cx="7634160" cy="1554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termos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ig endia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maior valor-big-em primeiro lugar-menor endereço) 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ittle endia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menor valor-little-em primeiro lugar) foram inseridos no jargão da computação por um artigo publicado em 1981, citando o problema e relacionando-o a um episódio mencionado no livro As Viagens de Gulliver – povo que foi à guerra para decidir qual a melhor maneira de quebrar ovos, se pelo maior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 lado ou se pelo menor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itt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 lad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B270-D5EB-4E88-98BA-EAEA4ABBEB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216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Ordenação dos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ytes são numerados da esquerda para a direita  (0, 1, 2,..., 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 por sistemas Unix (arquiteturas SPARC, IBM Main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numérico com 2 by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305H = 00000011 0000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CE25-1721-4C2E-8DD9-A2C0DA513F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67000" y="1844640"/>
            <a:ext cx="7208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Principal - Ordenação dos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ttle end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ytes são numerados da direita para esquerda (n-1, ..., 2, 1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 por IBM PCs (arquiteturas INT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numérico com 2 by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305H = 00000101 00000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8215-2318-4691-A66F-18A69C87CB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2-28T09:23:03Z</dcterms:modified>
  <cp:revision>224</cp:revision>
  <dc:subject/>
  <dc:title>Organização e Arquitetura de Computadores I</dc:title>
</cp:coreProperties>
</file>