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0DA7B-C0F7-4C30-9FAC-068AEF0FE2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63E64-D2A5-40B3-A578-FAB752D1F1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BA502-B70D-427F-973B-3108D3B0FF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96000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51672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40328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96000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51672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EA68E-9485-4269-BCEF-A948EB190D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93B0A4-6485-461C-AD7A-029B6E3FE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C19863-06EA-42CB-80AE-E7554BDF8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F913A9-575F-4DF7-9C61-2969FE6CA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50DF8D-7E70-4A99-9C92-A401B7758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3F6E58-AFFB-4EED-A70A-917C90469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219320" y="18864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BE8E7A-30AF-444A-835C-FE5AD3948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822960-2508-4D7D-B996-C0A62FDE1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70328-66CD-458E-AA7B-33B8671A83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511A36-F752-405D-8FF5-F2F7DA4C6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4EA1BD-5011-49A6-9FCF-A735612FC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83D37B-BF2F-4933-A2EE-AD54B99F7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ED9C82-5F4B-4193-AAF5-3B79D9627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96000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51672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40328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96000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51672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7B8EB4-A845-4FEA-AC38-78D6022FF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4DB3A-CBC6-43F1-9BC0-B21B8C3720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9D1CA-6DFA-47DC-A24D-9DE9F812D1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BB050-ACB2-44C3-A312-FC8ECF33BA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219320" y="18864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5DB29-FC9A-4FB0-92D8-E523FE6E63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D4BB1-8354-4AFE-9631-8EC61B6F0F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B964F-9913-4938-A675-1B67009C17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4F08D-DD47-4A95-B6B8-67BAE12F13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143000" y="1557360"/>
            <a:ext cx="8001000" cy="0"/>
          </a:xfrm>
          <a:prstGeom prst="line">
            <a:avLst/>
          </a:prstGeom>
          <a:ln cap="sq"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872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FE307-80E4-4114-9387-F2CE722655C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50920" y="6237000"/>
            <a:ext cx="647640" cy="576360"/>
            <a:chOff x="250920" y="6237000"/>
            <a:chExt cx="647640" cy="576360"/>
          </a:xfrm>
        </p:grpSpPr>
        <p:sp>
          <p:nvSpPr>
            <p:cNvPr id="6" name=""/>
            <p:cNvSpPr/>
            <p:nvPr/>
          </p:nvSpPr>
          <p:spPr>
            <a:xfrm>
              <a:off x="250920" y="6698880"/>
              <a:ext cx="647640" cy="1144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000000"/>
                  </a:solidFill>
                  <a:latin typeface="Humanst521 BT"/>
                </a:rPr>
                <a:t>DSC/CEEI/UFC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13000" y="641952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flipV="1">
              <a:off x="281520" y="6236640"/>
              <a:ext cx="35172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15160" y="642816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flipV="1">
              <a:off x="282600" y="6245280"/>
              <a:ext cx="35388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92080" y="3141720"/>
            <a:ext cx="8001000" cy="0"/>
          </a:xfrm>
          <a:prstGeom prst="line">
            <a:avLst/>
          </a:prstGeom>
          <a:ln cap="sq"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6364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14400" y="141300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2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3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47A3C-7257-49F4-96C1-F10D1937808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39640" y="6165360"/>
            <a:ext cx="647640" cy="576360"/>
            <a:chOff x="539640" y="6165360"/>
            <a:chExt cx="647640" cy="576360"/>
          </a:xfrm>
        </p:grpSpPr>
        <p:sp>
          <p:nvSpPr>
            <p:cNvPr id="54" name=""/>
            <p:cNvSpPr/>
            <p:nvPr/>
          </p:nvSpPr>
          <p:spPr>
            <a:xfrm>
              <a:off x="539640" y="6627240"/>
              <a:ext cx="647640" cy="1144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000000"/>
                  </a:solidFill>
                  <a:latin typeface="Humanst521 BT"/>
                </a:rPr>
                <a:t>DSC/CEEI/UFC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01720" y="634788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 flipV="1">
              <a:off x="570240" y="6165000"/>
              <a:ext cx="35172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03880" y="635652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571320" y="6173640"/>
              <a:ext cx="35388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numaboa.com.br/informatica/oiciliS/assembler/referencias/arquitetura.php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763640" y="115920"/>
            <a:ext cx="71294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partamento de Sistemas e Comput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692000" y="3357360"/>
            <a:ext cx="738036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Verdana"/>
              </a:rPr>
              <a:t>(Parte II)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Prof</a:t>
            </a:r>
            <a:r>
              <a:rPr b="1" lang="pt-BR" sz="1600" spc="-1" strike="noStrike" u="sng" baseline="30000">
                <a:solidFill>
                  <a:srgbClr val="000000"/>
                </a:solidFill>
                <a:uFillTx/>
                <a:latin typeface="Verdana"/>
              </a:rPr>
              <a:t>a</a:t>
            </a: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 Joseana Macêdo Fechin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joseana@dsc.ufcg.edu.b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Carga Horária: 60 hora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908000" y="141300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Organização e Arquitetura </a:t>
            </a:r>
            <a:br>
              <a:rPr sz="3200"/>
            </a:b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de Computadores 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332000" y="1844640"/>
            <a:ext cx="7632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istr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nçã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mazenamento de dados e resultados que serão usados pela U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m de memória auxiliar básica para a 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ificação (atual): registradores de uso geral e registradores de uso específ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 geral, os registradores de dados da UCP têm uma largura (quantidade de bits que podem armazenar) igual ao tamanho estabelecido pelo fabricante para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lavra do referido processa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quantidade e o emprego dos registradores variam bastante de modelo para modelo de UC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171C2-3146-4FC2-936D-0E93C0AC46D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258560" y="1844640"/>
            <a:ext cx="7561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gistr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 função de estarem dentro do processador, podem ser lidos e escritos a uma velocidade bastante al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empl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Program Counter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(PC): armazena o endereço da próxima instru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Registrador de Instruçõe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(IR): armazena instrução que está sendo execut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gistradores de uso geral, registradores de segmentos, registrador FLAGS (PSW -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Program Status Word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,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1311480" y="6237360"/>
            <a:ext cx="7390800" cy="5504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ais informações: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969696"/>
                </a:solidFill>
                <a:uFillTx/>
                <a:latin typeface="Arial"/>
                <a:hlinkClick r:id="rId1"/>
              </a:rPr>
              <a:t>http://www.numaboa.com.br/informatica/oiciliS/assembler/referencias/arquitetura.php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A9C39-425E-4E79-9ED0-1615C1D77AC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31640" y="1628640"/>
            <a:ext cx="21207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Registradores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(Intel):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419640" y="0"/>
            <a:ext cx="5594040" cy="661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75795-C71B-408F-9724-461551DF1E6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476000" y="1844640"/>
            <a:ext cx="7201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gistradores (processadores de 64 bi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s registradores do x86 foram extendidos para 64 bits e receberam o prefixo “R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gistrador de 64 bits correspondente ao EAX -&gt; RA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oram acrescentados mais 8 registradores de uso geral: R8-R1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oram acrescentados 8 registradores XMM: XMM8-XMM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apontador de instrução, EIP, foi ampliado também, e agora se chama RI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gistrador de FLAGS aumentou, embora não foram acrescentadas novas flag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39B64-AEFC-46D4-851E-009F264EA4A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332000" y="1844640"/>
            <a:ext cx="7488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Barra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junto de fios paralelos que permite a transmissão de dados, endereços, sinais de controle e instruç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ipo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barramentos internos e externos ao process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00B02-5509-433D-A32A-5F4C737C14D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332000" y="1844640"/>
            <a:ext cx="7632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PU - Elementos import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2880" indent="-35712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aminho de d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42880" indent="-35712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iclo de Busca-Decodificação-Execução de Instruçã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42880" indent="-35712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xecução de Instruçõ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1C4D2-F068-4FB3-9FD5-AD3009E9107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óp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03280" y="1916280"/>
            <a:ext cx="7593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rganização Básica de Computado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ceitos Básicos (Processador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4ED75-FD15-4BBF-9732-E6B7ACCC5A4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306080" y="1740960"/>
            <a:ext cx="76582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mposição básica de um Computador dig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Process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emór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spositivos de entrada e saída interlig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780000" y="3789360"/>
            <a:ext cx="392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ória Princip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ória Secundá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635280" y="3645000"/>
            <a:ext cx="88920" cy="1276200"/>
          </a:xfrm>
          <a:custGeom>
            <a:avLst/>
            <a:gdLst>
              <a:gd name="textAreaLeft" fmla="*/ 56880 w 88920"/>
              <a:gd name="textAreaRight" fmla="*/ 89280 w 88920"/>
              <a:gd name="textAreaTop" fmla="*/ 33120 h 1276200"/>
              <a:gd name="textAreaBottom" fmla="*/ 1243080 h 127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8B389-91C5-44AE-83CD-2B976DA7E86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306080" y="1740960"/>
            <a:ext cx="76582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sição básica de um Computador dig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547640" y="2492280"/>
            <a:ext cx="6783480" cy="36892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47640" y="2708280"/>
            <a:ext cx="2733840" cy="31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61F90-523A-42EF-A1B6-7F3A304707F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476360" y="1916280"/>
            <a:ext cx="6858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UCP - Componentes fundament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nidade de Contr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nidade Aritmética e 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gistros (Registrado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stemas de Comunicação (Barrament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BC4FF-C042-47E2-AD52-3FE5EEFCD65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2692" t="10040" r="7441" b="4799"/>
          <a:stretch/>
        </p:blipFill>
        <p:spPr>
          <a:xfrm>
            <a:off x="1187280" y="1204920"/>
            <a:ext cx="7956720" cy="565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AF9A3-B4FA-4BC7-9212-218968E9903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332000" y="1773360"/>
            <a:ext cx="7488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C - Unidade de Contr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çõ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busca, interpretação e controle de execução das instruções, e o controle dos demais componentes do computa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a ordens de cálculo para a UAL, que indica os valores a processar, e os coloca nos registradores para esse efei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artir da UC a informação é transferida para as outras partes que constituem o computador, como a memória, os sistemas de E/S, etc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19654-69B6-44E9-8463-0CF5AD48779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332000" y="1844640"/>
            <a:ext cx="7488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UC - Unidade de Contr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ositivos básicos da área de control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dade de controle (UC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odificad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strador de instrução (RI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ador de instrução (CI ou PC - Program Counter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ógio (Clock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stradores MAR e MB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03F50-6EB1-4355-8B41-B1F1AE88010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332000" y="1773360"/>
            <a:ext cx="7632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UAL - Unidade Aritmética e Lógica (UL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unç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a execução efetiva das instruçõ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glomerado de circuitos lógicos e componentes eletrônicos simples que, integrados, realizam as operações aritméticas e lógicas (soma, subtração, multiplicação, divisão, AND, OR, XOR, complemento, deslocamento, incremento e decrement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essadores modernos utilizam mais de uma U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5486C-EB55-4467-87F4-F4FD5A5C904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22:34:42Z</dcterms:created>
  <dc:creator>Joseana Macêdo Fechine/DSC/UFCG</dc:creator>
  <dc:description/>
  <dc:language>en-US</dc:language>
  <cp:lastModifiedBy>USE</cp:lastModifiedBy>
  <dcterms:modified xsi:type="dcterms:W3CDTF">2008-02-24T04:27:31Z</dcterms:modified>
  <cp:revision>230</cp:revision>
  <dc:subject/>
  <dc:title>Organização e Arquitetura de Computadores I</dc:title>
</cp:coreProperties>
</file>