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0452-BD38-49F5-A093-598D7FF93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0E084-5486-4AB0-96AF-4D8862395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278F-34B6-4A99-9991-4BB72AD0E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8ECF-3600-4B4D-ACC2-CF47A2021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3DC61-CA34-4710-96D6-99B30931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C1A72-9D38-480F-81B1-195545C0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DCBAB-17BD-4943-869E-19ECD056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F7282-B61F-4769-8717-02AF3D76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C04CA-B57E-4B27-96E4-B9CD5A8A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15933-BC60-4412-B51F-8B745277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9B3BC-D0A8-4896-802D-35DF19B9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DA32-8A8A-49B6-BC95-D6858E201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45FCC-A5C6-4B69-A197-4BBF9CB3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257B0-5609-428E-BCFB-F44FD1DD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37C81-B31E-4086-8445-A4E7C915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9AAB6-7074-465D-A5B0-859BDBF6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A3DA7-D58B-41EA-BAE8-4846D53C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A966-F532-4974-8CE8-7C2CBA79E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64A19-0F33-40BA-ACCE-FAA592C75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0479-3B6E-4990-8479-DD607CB9A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8A64-0108-4B0A-8F66-F739950D8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D92FE-8CCA-4DDB-A8F8-60F4C8DD8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7D80-4C4F-42F8-BD91-3163823A7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55BAF-BD58-4EAE-82C0-09FE23C3A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CD94-2E5D-4648-96F3-2A8866739B2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237000"/>
            <a:ext cx="647640" cy="576360"/>
            <a:chOff x="250920" y="623700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9888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419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23664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42816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24528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20CE-C806-4705-BD00-F433D1466E6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728360" y="3357360"/>
            <a:ext cx="73803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Verdana"/>
              </a:rPr>
              <a:t>(Parte I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Penguin"/>
                <a:ea typeface="Times New Roman"/>
              </a:rPr>
              <a:t>Linguagens, Níveis e Máquinas Virtu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por a existência das linguage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1: linguagem natural, do usuário (alto nível e complex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0: linguagem da máquina (baixo nível e simpl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o compatibilizar L1 com L0? Existem 2 soluções (tradução e interpret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sar um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tradut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sar um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interpre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15040" y="5578560"/>
            <a:ext cx="3257640" cy="947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de ser utilizada uma metodologia híbrida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dutor + interpretad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6F2F-8C63-4757-B000-63D919DCAB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Trad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Courier New"/>
              </a:rPr>
              <a:t>Cada instrução de L1 é substituída por um conjunto de instruções equivalen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e L0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cessador executa programa em L0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odo programa em L0 é carregado em memória e é execut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grama pode ser traduzido uma única vez e executado várias vez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0" y="5516640"/>
            <a:ext cx="7543800" cy="916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uns autores usam o termo tradução em sentido genérico, englobando os conceitos de compilação e interpretação. Aqui, ele está sendo empregado como sinônimo de compil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E427-74A0-4D6A-B564-AA59D6D320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258920" y="1916280"/>
            <a:ext cx="7518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352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Interpre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41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Courier New"/>
              </a:rPr>
              <a:t>Cada instrução de L1 é substituída por um conjunto de instruções equivalentes de L0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41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Courier New"/>
              </a:rPr>
              <a:t>Processador executa uma instrução de L1 (transformada para L0) antes de executar próxima instrução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41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Courier New"/>
              </a:rPr>
              <a:t>Cada instrução de L1, transformada para L0, é carregada na memória e execut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41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Courier New"/>
              </a:rPr>
              <a:t>Não é criado um programa em L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41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Courier New"/>
              </a:rPr>
              <a:t>Programa deve ser novamente interpretado para ser execut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06488-F7C9-4D48-8150-A87D67B018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258560" y="1988640"/>
            <a:ext cx="7561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 possível não pensar em tradução ou interpretação, imaginando-se a existência de um computador hipotético, ou de um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áquina virtual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uja linguagem de máquina seja L1 (e uma máquina real M0 com linguagem L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s programas poderiam ser escritos em L1, para a máquina M1 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760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Courier New"/>
              </a:rPr>
              <a:t>serem executados diretamente em M1 se esta máquina fosse de custo de construção baixo 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760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Courier New"/>
              </a:rPr>
              <a:t>serem  traduzidos ou interpretados para L0 e executados em M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14FF-A015-46DC-ACA5-4F1AFA50D7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86920" y="1773360"/>
            <a:ext cx="770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 prática se implementa a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solução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1240" indent="-376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pessoas escrevem programas para máquinas virtuais como se elas realmente existis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1240" indent="-376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itos níveis de máquinas virtuais podem ser implement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1240" indent="-376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da linguagem usa a sua linguagem antecessora como base, de modo que um computador que use essa técnica pode ser visto como um conjunto de camadas ou ní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5855E-1AB8-47B0-9E86-B1EECC3799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18640" y="6237360"/>
            <a:ext cx="83250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nguin"/>
                <a:ea typeface="Times New Roman"/>
              </a:rPr>
              <a:t>Máquina de vários nívei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5019" t="2253" r="5618" b="9740"/>
          <a:stretch/>
        </p:blipFill>
        <p:spPr>
          <a:xfrm>
            <a:off x="1476360" y="404640"/>
            <a:ext cx="7432560" cy="577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4AC7B-1A80-43B9-8049-4B7DA7A49B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352320" y="114480"/>
            <a:ext cx="554364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nguin"/>
                <a:ea typeface="Times New Roman"/>
              </a:rPr>
              <a:t>Máquinas Multiní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6093000"/>
            <a:ext cx="8400960" cy="580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s.: Existe um outro nível situado abaixo do Nível 0 – nível dos dispositivos. Nesse nível o projetista trabalha com os elementos básicos do projeto (transistores)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1680" t="3386" r="4037" b="0"/>
          <a:stretch/>
        </p:blipFill>
        <p:spPr>
          <a:xfrm>
            <a:off x="3187800" y="695160"/>
            <a:ext cx="5759280" cy="503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611280" y="1700280"/>
            <a:ext cx="2209680" cy="40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dor com 6 ní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étodo por meio do qual cada nível que é suportado é indicado abaixo do nível (junto com o nome do programa que o suport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71640" y="1844640"/>
            <a:ext cx="255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06640" y="2319480"/>
            <a:ext cx="5029200" cy="363852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EEE9-EFFB-49C5-AE3E-C027E1C75F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ível 0: Nível da Lógica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ível mais baixo da estrutu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tos de interesse são conhecidos como portas lógic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porta lógica possui 1 ou mais entradas digitais (aceitam 0 ou 1) e calculam funções lógicas simples sobre essas entrada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os: AND, OR, XOR,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tas lógicas são combinadas para formar memórias de um bit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registradores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 processador - principal dispositivo do computador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F7D9-5534-4DDA-B56E-083D85CFF2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ível 1: Nível da Microarquite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memória local (8 a 32 registradores) e a UAL (Unidade Aritmética Lógica) que realiza operações aritméticas muito simp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gistradores - conectados a UAL formando o caminho dos d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perações são controladas por um microprograma ou diretamente por hardw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croprograma - interpretador para as instruções do Nível 2. Busca, decodifica e executa as instruções, uma a uma, usando o caminho de dados para a realização desta taref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28671-E793-481D-B4DC-4816C66F1E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ível 2: Nível da Arquitetura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junto de Instru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ível IS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 Set  Architectur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nida pelo fabricante e dependente da arquitetura da máqu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bricantes disponibilizam “Manual de Referência da Linguagem de Máquina” ou “Princípios de operação do Computador Modelo XYZW” (ou algo simila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uais descrevem como as instruções são executadas interpretativamente pelo microprograma ou como são executadas diretamente pelo hardw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sas informações são necessárias para os desenvolvedores de sistemas operacion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62E8-8CD8-4C96-9311-735A92765A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áquinas Multiníve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ceitos Bás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BAD2-95F5-4085-AA98-45C31EA5D2A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ível 3: Nível do Sistema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ções da linguagem deste nível também podem conter instruções do nível I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orta uma organização diferente de memó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orta capacidade de rodar 2 ou mais programas simultane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orta sistemas de comandos ou de janelas (window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dores deste nível, e também dos níveis mais baixos, são conhecidos como programadores de siste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programadores dos níveis mais altos que este são chamados programadores de aplic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5444C-A7F9-48B1-97DF-E48CB7DA35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Penguin"/>
                <a:ea typeface="Times New Roman"/>
              </a:rPr>
              <a:t>Nível 4: Nível da linguagem do montad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Penguin"/>
                <a:ea typeface="Times New Roman"/>
              </a:rPr>
              <a:t>              </a:t>
            </a:r>
            <a:r>
              <a:rPr b="1" lang="pt-BR" sz="2400" spc="-1" strike="noStrike">
                <a:solidFill>
                  <a:srgbClr val="000000"/>
                </a:solidFill>
                <a:latin typeface="Penguin"/>
                <a:ea typeface="Times New Roman"/>
              </a:rPr>
              <a:t>ou de montagem (</a:t>
            </a:r>
            <a:r>
              <a:rPr b="1" i="1" lang="pt-BR" sz="2400" spc="-1" strike="noStrike">
                <a:solidFill>
                  <a:srgbClr val="000000"/>
                </a:solidFill>
                <a:latin typeface="Penguin"/>
                <a:ea typeface="Times New Roman"/>
              </a:rPr>
              <a:t>Assembly language</a:t>
            </a:r>
            <a:r>
              <a:rPr b="1" lang="pt-BR" sz="2400" spc="-1" strike="noStrike">
                <a:solidFill>
                  <a:srgbClr val="000000"/>
                </a:solidFill>
                <a:latin typeface="Pengui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Linguagem de montage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forma simbólica de representação das linguagens do nível mais baix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gramas nessa linguagem são, inicialmente,  traduzidos para as linguagens dos níveis 1, 2 e 3 e depois interpretados pela máquina virtual apropriada ou pela própria máquina re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grama que realiza a tradução - mont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2961-8BA8-4697-BFFC-1C51A4B768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ível 5: Nível das linguagens orientadas par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lução dos 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hecidas como linguagens de alto nível. Exemplos: Basic, C, Pascal, Java, LISP, 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gramas são geralmente traduzidos para os níveis 3 e 4 por compiladores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guns são interpretados: Exemplo: programas em J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E741-E9E2-4EA1-A1C7-CB3259933B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86920" y="1773360"/>
            <a:ext cx="770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servações finais importan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dores são projetados como uma série de níveis, cada um deles construído em cima de seus precurso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nível representa uma abstração distinta, com diferentes objetos e opera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bstração permite ignorar, "abstrair", temporariamente detalhes irrelevantes, de níveis mais baixos, reduzindo uma questão complexa a algo muito mais fácil de ser entendi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BDE5-0C6B-4AA4-96C6-120BC4EA9C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servações finais importan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junto de tipos de dados, operações e características de cada um dos níveis - arquitetura do nív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es da arquitetura - as características que um programador do nível deve enxergar, por exemplo, a disponibilidade de memó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3529-D72F-44D2-B777-4E209220A0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ção das máquinas de vários ní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iros computadores – fronteira entre o hardware e o software era muito cla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mente – muito difícil separar o hardware do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D580C-1C5C-4AAA-950B-566CD81AF9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195640" y="2637000"/>
            <a:ext cx="5314680" cy="15620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258920" y="184428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volução das máquinas de vários ní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Hardware e software s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equivalentes logicamente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Qualquer operação realizada por software pode ser realizada diretamente por hardwar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Qualquer instrução executada por hardware pode ser simulada em softwar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03F6-FB8F-4675-A052-030758B856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clus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onteira entre o hardware e o software pode ser arbitrária e está sempre muda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que hoje está implementado em software poderá em breve estar implementado em hardware, e vice-versa - O software de hoje pode ser o hardware de amanhã e vice-ver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fronteiras entre os demais níveis não estão bem definidas e podem também ser alter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FCBE-7FEC-4C10-9B9C-1EF6AD953D0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clus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 ponto de vista do programador, não tem muita importância a maneira como uma instrução é realmente implement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dor de um nível, em geral, não deve se preocupar com implementações de níveis inf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60348-F090-4CD2-82E9-C1C3844CF5F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62080" y="1773360"/>
            <a:ext cx="7981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dor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quina que pode resolver problemas executando uma série de instruções que lhe são fornec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a Programas – conjunto de instruções que descrevem a maneira de realizar determinada taref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B85BA-83FB-4AB2-964F-1AF1971ECB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rcuitos de um computador (Hardwar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onhecem e executam um conjunto limitado e simples de instruções (linguagem de máquina- binári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soma, comparação, transferência de dados de uma parte da memória para outra par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FFF7-960D-4DB2-AF0D-1D34ABFFD0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32000" y="4653000"/>
            <a:ext cx="7451640" cy="16556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58560" y="1844280"/>
            <a:ext cx="7885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ções da  linguagem de máquina (decidida pelos projetistas de computadores) dev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 simp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 compatíveis com o uso da máqu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 compatíveis com o desempenho requer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r custo e complexidade da eletrônica reduzidos (aplicaçã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linguagem de máquina (binária-baixo níve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á muito distante de uma linguagem nat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humana-alto ní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CCCF1-1F7F-427B-A71F-81D01EBE43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95280" y="2565360"/>
            <a:ext cx="7597800" cy="250020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86920" y="1844640"/>
            <a:ext cx="770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Complexidade do que as pessoas precisam faz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versus</a:t>
            </a:r>
            <a:r>
              <a:rPr b="0" lang="pt-BR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simplicidade do conjunto de instruções do comput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06A9F-60B5-4A76-A1F4-D94D3574DF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95280" y="4581360"/>
            <a:ext cx="7777440" cy="165600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65400" y="2205000"/>
            <a:ext cx="7807320" cy="144000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90160" y="1773360"/>
            <a:ext cx="80614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  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Criar uma </a:t>
            </a:r>
            <a:r>
              <a:rPr b="0" i="1" lang="pt-B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hierarquia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de abstrações de níve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mais altos baseados nos níveis mais baix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   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Criar uma </a:t>
            </a:r>
            <a:r>
              <a:rPr b="0" i="1" lang="pt-B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organização estruturada de computadores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ara facilitar a comunicação homem-máquin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96000" y="3789360"/>
            <a:ext cx="647640" cy="590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607D3-C0FB-4E13-ACC1-798D5085DA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 hierárqu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ituído de um conjunto de subsistemas inter-relacionados, cada qual, possuindo também uma estrutura hierárquica, contendo, em seu nível mais baixo, subsistemas element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mportamento de cada nível depende apenas de uma caracterização abstrata e simplificada do sistema de nível imediatamente inf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EBBC-F334-464E-8C16-0BA3330C2D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50920" y="3141720"/>
            <a:ext cx="6408720" cy="1727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258920" y="19162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solucion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As pessoas devem fazer X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mas os computadores só podem fazer 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40FF-9546-462C-97B1-91634C72FC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2-24T04:16:51Z</dcterms:modified>
  <cp:revision>209</cp:revision>
  <dc:subject/>
  <dc:title>Organização e Arquitetura de Computadores I</dc:title>
</cp:coreProperties>
</file>