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DBCF-EB9E-42A1-8251-D36555160A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E04D-F64E-4803-B99D-13B4B1D90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451E-4F92-4E5E-9BD5-C99603849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BD2E-CC54-45B7-8BA4-44503EA68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768B-FE62-4AC2-93B3-FF5C625FF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C8297-DC90-4C24-97E3-29A3F0AF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E5F88-3E54-4621-AF81-00B24565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FE787-543A-4CF2-A50A-83EC9985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1E552-2ABE-4DBD-ADA8-BEDB004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DF74E-1275-451D-B51B-A198D71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C84E9-D7E6-42DE-A625-9252F74B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E47CB-A811-4F67-89E6-604950F3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A675-039B-4E8A-8ED5-86210BE8C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D1F61-E846-4DC1-811F-EECDAE0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9E235-AF04-4DAE-8DF4-7F61B19C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F599-FDD4-4E54-81BA-7509454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90D1B-67C1-42ED-85D5-11010821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07B71-4EEF-41C5-93AB-C00F9B35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7729-F72A-4475-B822-67D5E911C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702E-5FE9-49D2-8D32-998C051E8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8312-72B5-47B7-B508-2295EE5F9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5A43-0BE8-44F5-82F0-AFB8483F9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6E1F-11D6-47AA-8CC8-FE0E03065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CAAC-19D4-4423-80A0-8A2B92F52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AD0E-79CD-4838-A299-3875EC758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36CF-4EAD-46E4-BF87-CDA9915221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094-5C05-49A4-BB36-3D964C1910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0560" y="3357360"/>
            <a:ext cx="6697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II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 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(H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ystemVeri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D442-F6B3-4D6E-B940-C7CC56CD46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560" y="1412640"/>
            <a:ext cx="81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ra Ge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ma variável será sintetizada como flip-flop se o seu valor é atribuído apenas no momento da transição de um s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708280"/>
            <a:ext cx="70754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D_reg4a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[3:0] Data_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ock, 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logic [3:0] Data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99cc"/>
                </a:solidFill>
                <a:latin typeface="Lucida Console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reset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or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ock)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reset) Data_out &lt;= 4'b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Data_out &lt;= Data_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4811760"/>
            <a:ext cx="622764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– Lógica Sequenc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81080" y="1482480"/>
            <a:ext cx="80280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registrador de deslocamento pode ser implementado, conhecendo-se a forma como os flip-flops são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Arial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ck)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eset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a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b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c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d &lt;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a &lt;= Shift_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b &lt;= reg_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c &lt;= reg_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_d &lt;= reg_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37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99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5435640" cy="1557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gistrador de Desloca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2228" t="0" r="554" b="0"/>
          <a:stretch/>
        </p:blipFill>
        <p:spPr>
          <a:xfrm>
            <a:off x="2771640" y="5332320"/>
            <a:ext cx="6372360" cy="1409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16000" y="1484280"/>
            <a:ext cx="8028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rador de deslocamento pode ser implementado a partir da operação de concatenação referenciando-se as saídas do registrador.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Shift_reg4 (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3333cc"/>
                </a:solidFill>
                <a:latin typeface="Tahoma"/>
              </a:rPr>
              <a:t>input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Data_in, clock, rese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logic Data_out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logic [3:0] Data_reg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009900"/>
                </a:solidFill>
                <a:latin typeface="Tahoma"/>
              </a:rPr>
              <a:t>always_comb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Data_out = Data_reg[0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0099cc"/>
                </a:solidFill>
                <a:latin typeface="Tahoma"/>
              </a:rPr>
              <a:t>always @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negedge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reset 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or posedge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clock)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500" spc="-1" strike="noStrike">
                <a:solidFill>
                  <a:srgbClr val="cc9900"/>
                </a:solidFill>
                <a:latin typeface="Tahoma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1500" spc="-1" strike="noStrike">
                <a:solidFill>
                  <a:srgbClr val="ff3300"/>
                </a:solidFill>
                <a:latin typeface="Tahoma"/>
              </a:rPr>
              <a:t>if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(reset == 0) Data_reg &lt;=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1500" spc="-1" strike="noStrike">
                <a:solidFill>
                  <a:srgbClr val="ff3300"/>
                </a:solidFill>
                <a:latin typeface="Tahoma"/>
              </a:rPr>
              <a:t>else</a:t>
            </a: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</a:rPr>
              <a:t>Data_reg &lt;= {Data_in, Data_reg[3:1]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1500" spc="-1" strike="noStrike">
                <a:solidFill>
                  <a:srgbClr val="cc9900"/>
                </a:solidFill>
                <a:latin typeface="Tahoma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</a:rPr>
              <a:t>endmo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1000"/>
              </a:lnSpc>
              <a:spcBef>
                <a:spcPts val="374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gistrador de Desloca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91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ógica combinacional que está incluída em um comportamento síncrono poderá ser sintetizada com a saída registr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1000"/>
              </a:lnSpc>
              <a:spcBef>
                <a:spcPts val="624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1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1000"/>
              </a:lnSpc>
              <a:spcBef>
                <a:spcPts val="1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x_reg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7:0] a, b, c, 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gic [7:0] 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1:0] selec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99cc"/>
                </a:solidFill>
                <a:latin typeface="Arial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c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ca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el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: y &lt;= 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: y &lt;= b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: y &lt;=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ault: y &lt;=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end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707" t="0" r="6914" b="0"/>
          <a:stretch/>
        </p:blipFill>
        <p:spPr>
          <a:xfrm>
            <a:off x="4608360" y="3213000"/>
            <a:ext cx="442764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ógica Combinacional Registra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2994120" cy="3725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3645000"/>
            <a:ext cx="4648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240" indent="-219240">
              <a:lnSpc>
                <a:spcPct val="101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counter with Data_in when load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1000"/>
              </a:lnSpc>
              <a:tabLst>
                <a:tab algn="l" pos="0"/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1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 counts when counter_o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77840">
              <a:lnSpc>
                <a:spcPct val="101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s-up when count_up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77840">
              <a:lnSpc>
                <a:spcPct val="101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19240"/>
                <a:tab algn="l" pos="676440"/>
                <a:tab algn="l" pos="1133640"/>
                <a:tab algn="l" pos="1590840"/>
                <a:tab algn="l" pos="2048040"/>
                <a:tab algn="l" pos="2505240"/>
                <a:tab algn="l" pos="2962440"/>
                <a:tab algn="l" pos="3419640"/>
                <a:tab algn="l" pos="3876840"/>
                <a:tab algn="l" pos="4334040"/>
                <a:tab algn="l" pos="4791240"/>
                <a:tab algn="l" pos="5248440"/>
                <a:tab algn="l" pos="5705640"/>
                <a:tab algn="l" pos="6162840"/>
                <a:tab algn="l" pos="6620040"/>
                <a:tab algn="l" pos="7077240"/>
                <a:tab algn="l" pos="7534440"/>
                <a:tab algn="l" pos="7991640"/>
                <a:tab algn="l" pos="8448840"/>
                <a:tab algn="l" pos="8906040"/>
                <a:tab algn="l" pos="9363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s-down when count_up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000" y="2997360"/>
            <a:ext cx="3838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specificação Fun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ntador Up-Dow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87280" y="1671480"/>
            <a:ext cx="77058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4800" indent="-3348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up_down_count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k, reset, load, count_up, counter_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[2:0] Data_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logic [2:0] 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2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99cc"/>
                </a:solidFill>
                <a:latin typeface="Lucida Console"/>
              </a:rPr>
              <a:t>always_ff @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reset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or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posedg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l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rese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 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lo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&lt;= Data_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 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counter_on)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count_u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&lt;= Count 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Count &lt;= Count –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cc9900"/>
                </a:solidFill>
                <a:latin typeface="Lucida Console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ntador Up-Dow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6-13T10:16:37Z</dcterms:modified>
  <cp:revision>206</cp:revision>
  <dc:subject/>
  <dc:title>Organização e Arquitetura de Computadores I</dc:title>
</cp:coreProperties>
</file>