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3FB8-1A6C-40C9-B0FB-28F2F3194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8D5C-DD5E-4C4E-B5E5-2EF25EB9D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AC89-3460-4217-BCB9-526554AC0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C249-73AF-48A1-BAF7-C2049CF48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B690C-09CF-46C7-B56B-9FABE8AA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2A3FD-EBF6-4CBB-8A73-6326B6C5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36299-D3F8-4E9A-8573-80A49D14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F2198-8604-494F-8865-5383C757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74E9F-B6E3-47DE-A398-EA0C8861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2F69D-0949-4E25-B644-03CA63D9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08920-7260-4598-B640-A84848E2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E08E-867B-4D89-A97B-591948E68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FCECB-EF6C-4E6E-8F69-E354EC2C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30A66-7A16-43B9-A85C-4DFE9BAE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BD8BC-1853-4498-8BAA-11C5782F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FC41C-1EBC-4B56-8A2A-9436B762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AD3AC-7EF9-4989-9952-C5A5AA49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D17F-A06E-4235-8AC8-2A1268476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98C4-0CAD-48CD-834C-917F9C1C9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0F28-9295-4FD3-AB14-193A2DD0F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3C3A-30F6-4FA6-A32B-EA3693486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331C-E202-4C3C-863F-8B8DF6681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7A74-E371-4EFB-AC22-81A159956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0123-DCCA-47F9-9A07-1CDE3A425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FF66-C041-4057-98D5-F1E5596326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14F1-5686-4166-9A03-3249DC4F00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Seqüenci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7280" y="2276640"/>
            <a:ext cx="2016360" cy="25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a Lógico de uma memória 4 x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linha de memória representa uma palavra de 3 b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348000" y="14400"/>
            <a:ext cx="5724360" cy="6798960"/>
            <a:chOff x="3348000" y="14400"/>
            <a:chExt cx="5724360" cy="6798960"/>
          </a:xfrm>
        </p:grpSpPr>
        <p:pic>
          <p:nvPicPr>
            <p:cNvPr id="128" name="" descr=""/>
            <p:cNvPicPr/>
            <p:nvPr/>
          </p:nvPicPr>
          <p:blipFill>
            <a:blip r:embed="rId1">
              <a:lum contrast="-6000"/>
            </a:blip>
            <a:stretch/>
          </p:blipFill>
          <p:spPr>
            <a:xfrm>
              <a:off x="3348000" y="14400"/>
              <a:ext cx="5724360" cy="67989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29" name=""/>
            <p:cNvSpPr/>
            <p:nvPr/>
          </p:nvSpPr>
          <p:spPr>
            <a:xfrm>
              <a:off x="8242920" y="4804920"/>
              <a:ext cx="78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uffer não-invers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8409600" y="5157720"/>
              <a:ext cx="102240" cy="40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2584-88E3-41FE-B44F-08DD349E8E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8920" y="170028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erísticas da memória 4 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linhas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dos 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ereço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 (CS –  habilitação do chip, RD – leitura/escrita e OE – habilitação da saí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inhas de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ACEC-73F8-4A03-9869-DD72302737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331640" y="1773000"/>
            <a:ext cx="756108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cterísticas da memória 4 x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ção de lei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S = 1, RD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ção de escr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S=1, R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has de endereç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indicam qual das 4 palavras de 3 bits deve ser lida ou escr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ção de lei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s linhas de dados da entrada não são usadas, mas a palavra selecionada é colocada nas linhas de saída de 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ção de escr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os bits presentes nas linhas de entrada de dados são carregados na palavra de memória selecionada; as linhas de saída de dados não são us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8F89-B0DB-4742-96BB-C6ABF77A83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32000" y="2349360"/>
            <a:ext cx="763272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esquema mostrado na figura pode ser facilmente estendido para tamanhos maiores de memór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Estender a memória 4 x 3 para 4 x 8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– acrescentar 5 colunas de 4 flip-flops cada e 5 linhas de saíd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Estender a memória 4 x 3 para 8 x 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– acrescentar 4 linhas de 3 flip-flops cada e 1 linha de endereç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Um chip de memória de 4</a:t>
            </a: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bits pode ser obtido da form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: 512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K x 8 ( 19 linhas de endereço e 8 linhas de dados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5805360"/>
            <a:ext cx="7518240" cy="750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 esse tipo de estrutura, o número de palavras da memória deve ser uma potência inteira de 2, a fim de que se possa ter a máxima eficiência, mas o número de bits da palavra pode ser qualquer u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7080" y="1773360"/>
            <a:ext cx="280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ps de 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0F63-08A0-4D1E-B35C-8BB0F04057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8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 contador é um sistema seqüencial que varia os seus estados, sob o comando de um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ock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de acordo com uma seqüência predetermin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s contadores são utilizados principalmente para contagens diversas, geração de palavras, divisão de freqüência, medição de freqüência e tempo, geração de forma de onda, conversão analógico/digital, seqüenciamento de operações de máquinas, etc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do o contador é incrementado além do seu valor máximo, seu valor volta para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de contador da UCP – contador de programa (P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119F-5F44-4885-8F3C-123C7C468F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58560" y="191628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figurações Bá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contadores podem ser classificados segundo alguns crité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po de control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ssíncrono, Síncro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po de contag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Crescente (up) e Decrescente (dow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po de códig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Hexadecimal, Decimal (Década), Outr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7F50-5F2A-40BE-84B3-6B1D63A061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adores Assíncron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a entrad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oc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e faz apenas no primeiro flip-flop, sendo as outras derivadas das saídas dos blocos anteriores. Ou seja, a saída de um flip-flop dispara uma mudança no estado do flip-flop seguinte. São relativamente l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adores Síncron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o estado de todos os flip-flps é alterado simultaneamente. Por ser mais rápido, esse tipo de contador é utilizado, por exemplo, na C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1A3B-A738-40D2-9874-BC93EE37EF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9076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090880" y="2789280"/>
          <a:ext cx="532908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0880" y="2789280"/>
                    <a:ext cx="53290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56108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 de Contador Assíncro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dor Hexadecimal Cresc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8560" y="6237360"/>
            <a:ext cx="32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a de 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4C13-646B-41ED-84EA-E596A0A5E7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81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Contador Assíncro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dor Hexadecimal Cresc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ontador1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7647120" cy="247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76360" y="595008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g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0000 a 1111 ( 0 a 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49DE-B481-4531-A121-4E85464962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dor Assíncrono Hexadecimal Crescent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rama de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4332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contador3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6269040" cy="3506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5867280"/>
            <a:ext cx="7772400" cy="680040"/>
          </a:xfrm>
          <a:prstGeom prst="rect">
            <a:avLst/>
          </a:prstGeom>
          <a:noFill/>
          <a:ln cap="sq" w="12600">
            <a:solidFill>
              <a:srgbClr val="fff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Este circuito também pode ser usado como um divisor de freqüência, pois f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Q0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=f 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CK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/2, f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Q1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=f 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CK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/4, f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Q2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=f 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CK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/8 e f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Q3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=f </a:t>
            </a:r>
            <a:r>
              <a:rPr b="0" lang="en-US" sz="1800" spc="-1" strike="noStrike" baseline="-25000">
                <a:solidFill>
                  <a:srgbClr val="ffffdf"/>
                </a:solidFill>
                <a:latin typeface="Arial"/>
              </a:rPr>
              <a:t>CK</a:t>
            </a:r>
            <a:r>
              <a:rPr b="0" lang="en-US" sz="1800" spc="-1" strike="noStrike">
                <a:solidFill>
                  <a:srgbClr val="ffffdf"/>
                </a:solidFill>
                <a:latin typeface="Arial"/>
              </a:rPr>
              <a:t>/1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BBD9-357E-4F66-8259-10EC7A0F8E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os Lógicos Seqü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62CC-74C0-4258-9DD2-427D253BA9B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5856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Contador Síncro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dor em A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4 bits) – usando flip-flop 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32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11280" y="3068640"/>
          <a:ext cx="5112000" cy="22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068640"/>
                    <a:ext cx="5112000" cy="227016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8A1B-F532-4D9D-AE0C-75AB7A587E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8850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Contador Síncro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dor em A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4 bits) – usando flip-flop 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32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92720" y="4724280"/>
          <a:ext cx="307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4724280"/>
                    <a:ext cx="3079800" cy="184788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258920" y="5157720"/>
            <a:ext cx="398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tilizando, por exemplo, o Mapa de Karnaugh, obtém-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47640" y="3068640"/>
          <a:ext cx="7247160" cy="15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068640"/>
                    <a:ext cx="7247160" cy="152100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270828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bela-verdade do comportamento das entradas J e 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F26A-2C76-4BE8-994C-B2D33F53D7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Contador Síncron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dor em A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4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32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contador13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7067880" cy="32004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59B3-A52F-41A7-9850-14033A9743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332000" y="1699920"/>
            <a:ext cx="74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: Diagrama de blocos de um relógio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0988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contador14" descr=""/>
          <p:cNvPicPr/>
          <p:nvPr/>
        </p:nvPicPr>
        <p:blipFill>
          <a:blip r:embed="rId1"/>
          <a:stretch/>
        </p:blipFill>
        <p:spPr>
          <a:xfrm>
            <a:off x="1644480" y="2349360"/>
            <a:ext cx="7499520" cy="39164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B131-C7CE-4A98-B9A6-ECC59F6A8E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 seqüencial constituído basicamente por flip-flops e que serve para a manipulação e armazenamento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registradores mais simples guardam palavras binárias, outros modificam a palavra guardada somando 1, ou deslocando bits para a direita ou para a esquerda, ou ainda executando outras operaçõ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básicos de registradores comumente utilizados: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adores paralel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gistradores de deslocament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BB68-5F9F-4497-AB29-9815E13AFA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adores Paral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 de um conjunto de memórias de 1 bit, que podem ser lidas ou escritas simultane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do para armazenar 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DCD9-602C-4249-A5F6-29D5A39432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488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Registrador Paralelo de 4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2896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regist5" descr=""/>
          <p:cNvPicPr/>
          <p:nvPr/>
        </p:nvPicPr>
        <p:blipFill>
          <a:blip r:embed="rId1"/>
          <a:srcRect l="6529" t="0" r="0" b="0"/>
          <a:stretch/>
        </p:blipFill>
        <p:spPr>
          <a:xfrm>
            <a:off x="1547640" y="2708280"/>
            <a:ext cx="7282080" cy="3297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67000" y="5943600"/>
            <a:ext cx="63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f"/>
                </a:solidFill>
                <a:latin typeface="Arial"/>
              </a:rPr>
              <a:t>Informação de 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F3C3-8572-45FA-B22B-C29C3F8580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81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ções gera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=1 </a:t>
            </a:r>
            <a:r>
              <a:rPr b="0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os flip-flops irão assumir os valores que estiverem, respectivamente, em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e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 Assim, se “zerarmos” o registrador (CLEAR=0) e, logo após introduzirmos a informação paralela (I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I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I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e I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 pelas entradas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e PR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as saídas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, Q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Q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e Q</a:t>
            </a:r>
            <a:r>
              <a:rPr b="0" lang="pt-BR" sz="19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assumirão respectivamente, os valores da informaçã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ssa forma de inserção da informação no registrador é chamada de entrada paralela de informação, sendo a entrada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ável pela habilitação da mesm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1EBA-F955-4C50-A085-4193919B15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adores de desloc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ita e/ou transfere informação seri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ser usados como interface para dispositivos de E/S seri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ser usados dentro da ULA, para implementar as funções de deslocamento lógico e rotação. Nesse caso, eles devem também ser equipados com circuitos para leitura/escrita paralela e também s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3CEA-12FA-4FB8-8581-8A48B83995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83250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: Conversor série/paralelo de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920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regist3" descr=""/>
          <p:cNvPicPr/>
          <p:nvPr/>
        </p:nvPicPr>
        <p:blipFill>
          <a:blip r:embed="rId1"/>
          <a:stretch/>
        </p:blipFill>
        <p:spPr>
          <a:xfrm>
            <a:off x="1528920" y="2219400"/>
            <a:ext cx="6819840" cy="2203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906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regist4" descr=""/>
          <p:cNvPicPr/>
          <p:nvPr/>
        </p:nvPicPr>
        <p:blipFill>
          <a:blip r:embed="rId2"/>
          <a:stretch/>
        </p:blipFill>
        <p:spPr>
          <a:xfrm>
            <a:off x="1700280" y="5056200"/>
            <a:ext cx="6535800" cy="1685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04920" y="4603680"/>
            <a:ext cx="79628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mplo: armazenamento da informação I = 1010 (I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I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EAFA-1D3E-49D8-813F-0821011E52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999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FLIP-FLO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mento básico utilizado para o armazenamento de inform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um sistema 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memória de um bit é o elemento fundamental para desenvolver qualquer outra memória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211464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37162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5373720"/>
            <a:ext cx="7632720" cy="1390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b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:Existe um tipo de memória que pode ser implementada usando circuitos combinacionais: a memória apenas de leitura (ROM –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Read-Only Memor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Uma dada entrada para a ROM (linhas de endereço) sempre produz a mesma saída (linhas de dados). Um ROM pode ser implementada usando decodificador e um conjunto de portas 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Seqüenc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84F9-2C2C-4332-9490-7903EE0E04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6-11T09:40:53Z</dcterms:modified>
  <cp:revision>199</cp:revision>
  <dc:subject/>
  <dc:title>Organização e Arquitetura de Computadores I</dc:title>
</cp:coreProperties>
</file>