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E84B-3F83-434A-9A8F-CB47340B9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3235-DBB9-44B5-976E-6944F1E82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E7F1-8FAD-4A69-AB28-CF121D839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F6BE-1773-4997-A5AF-867544609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06C37-86DC-42DD-93F9-4B9DDB2E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18CE2-5A15-4EE6-9347-7CC14F23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58FAE-6379-4D03-AC36-F346B60F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1BCA4-6435-4772-9B63-E922368C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6E443-6442-4712-9C47-986B803A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F65A6-4474-4A31-AFAA-F1C9EA44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7F83E-BDDA-4D8B-8C74-51C49C24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8214-00F4-4E67-9532-64EEC559C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0ECE7-924A-47BD-9B70-9A05F8D1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B356F-833B-4546-99A3-CE0F2C98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A3E8E-D267-4C9E-A1C9-3F1A038C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DB9A5-612C-4C05-9ABC-60B2DFB4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5529B-CB52-4981-B0FA-B6CF3935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9CF2-6E2C-4B3D-8CEA-02D850715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FBBA-4B24-495D-A9F5-A24AA53ED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2A24-468D-4F68-BF2D-F23B2CFFD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5ED87-F2BE-4CCC-A17E-7BD57695D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8CDF-263F-4E92-AC3A-75EB88B35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312D-DFC2-4A22-AF4C-E45BDF663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7EBB-8012-47F0-BE30-F2410FE37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3CD0-D888-4B89-AA34-7BEAF37AFE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165360"/>
            <a:ext cx="647640" cy="576360"/>
            <a:chOff x="25092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7D41-7D87-482D-86DD-278485FE4B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34920" y="3499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ircuitos Lógicos Seqüencia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(Parte I)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09680" y="3971880"/>
            <a:ext cx="6480" cy="35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80040" y="3971880"/>
            <a:ext cx="6120" cy="35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52560" y="4322880"/>
            <a:ext cx="4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43228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58880" y="4322880"/>
            <a:ext cx="27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85880" y="4322880"/>
            <a:ext cx="525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11480" y="43228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17960" y="4322880"/>
            <a:ext cx="4316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49600" y="4322880"/>
            <a:ext cx="27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6600" y="4322880"/>
            <a:ext cx="703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80040" y="432288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86160" y="4322880"/>
            <a:ext cx="703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89600" y="4322880"/>
            <a:ext cx="27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97800" y="4322880"/>
            <a:ext cx="28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40760" y="4322880"/>
            <a:ext cx="4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4330800"/>
            <a:ext cx="648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80040" y="4330800"/>
            <a:ext cx="612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4533840"/>
            <a:ext cx="648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80040" y="4533840"/>
            <a:ext cx="612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47084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85880" y="4708440"/>
            <a:ext cx="525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17960" y="4708440"/>
            <a:ext cx="4316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76600" y="4708440"/>
            <a:ext cx="703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80040" y="470844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86160" y="4708440"/>
            <a:ext cx="703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52560" y="4932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52560" y="4932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57240" y="4932360"/>
            <a:ext cx="352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4716360"/>
            <a:ext cx="648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49323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16160" y="4932360"/>
            <a:ext cx="342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58880" y="493236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63920" y="4932360"/>
            <a:ext cx="5475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11480" y="49323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17960" y="4932360"/>
            <a:ext cx="4316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49600" y="4932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54280" y="4932360"/>
            <a:ext cx="725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80040" y="4716360"/>
            <a:ext cx="612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80040" y="49323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86160" y="4932360"/>
            <a:ext cx="703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89600" y="4932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94280" y="4932360"/>
            <a:ext cx="234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40760" y="4932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40760" y="4932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2565360"/>
          <a:ext cx="9144000" cy="32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65360"/>
                    <a:ext cx="914400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403280" y="1773360"/>
            <a:ext cx="7153200" cy="590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atch SR – Tabela-Verdade 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14880" y="49150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1D887-6935-46CB-BA98-9F6A90D964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200720" cy="628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tch SR (formado por portas NAND e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flipflopRS" descr=""/>
          <p:cNvPicPr/>
          <p:nvPr/>
        </p:nvPicPr>
        <p:blipFill>
          <a:blip r:embed="rId1"/>
          <a:stretch/>
        </p:blipFill>
        <p:spPr>
          <a:xfrm rot="60000">
            <a:off x="1619280" y="2997000"/>
            <a:ext cx="6699240" cy="24555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4B6E-08EB-4100-A110-28E37F8574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8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atch SR com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Utilizado quando é conveniente fazer com que o latch só troque de estado em instantes determinad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187280" y="3573360"/>
            <a:ext cx="5689800" cy="2284560"/>
            <a:chOff x="1187280" y="3573360"/>
            <a:chExt cx="5689800" cy="228456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rcRect l="3656" t="0" r="1666" b="0"/>
            <a:stretch/>
          </p:blipFill>
          <p:spPr>
            <a:xfrm>
              <a:off x="1547640" y="3573360"/>
              <a:ext cx="5329440" cy="22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544760" y="4327560"/>
              <a:ext cx="341280" cy="75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87280" y="3575160"/>
              <a:ext cx="536760" cy="227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58920" y="44895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164360" y="3645000"/>
            <a:ext cx="1757520" cy="2167920"/>
          </a:xfrm>
          <a:prstGeom prst="rect">
            <a:avLst/>
          </a:prstGeom>
          <a:noFill/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lock=0, o latch não muda de est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lock=1, o latch passa a ser sensível às variações de S e de 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3679-73BC-48B6-8EA6-97B473FA7E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atch D com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lementa a memória de 1 bit. O valor armazenado estará sempre disponível em 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arregar na memória o valor corrente de D, basta colocar um pulso positivo na linha de 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e a questão da ambuigüidade do Latch SR (quando S=R=1) – não permite que esta possibilidade oco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AB8D-A7FE-4BE6-9D62-0D86070BCE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258920" y="1628280"/>
            <a:ext cx="8324640" cy="449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tch D com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4896000" cy="2276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771640" y="4869000"/>
            <a:ext cx="4140360" cy="1671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258920" y="5229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ois tipos de Laches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16720" y="1989000"/>
            <a:ext cx="2381040" cy="2086920"/>
          </a:xfrm>
          <a:prstGeom prst="rect">
            <a:avLst/>
          </a:prstGeom>
          <a:noFill/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iderando o clock=1 (nível alto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D=0 (S=0, R=1)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Q=0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D=1 (S=1, R=0)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Q=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31040" y="4869000"/>
            <a:ext cx="27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ível ao nível ba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6491160"/>
            <a:ext cx="27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ível ao nível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3276720" y="6093000"/>
            <a:ext cx="1224000" cy="5047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533920" y="5229360"/>
            <a:ext cx="1774800" cy="61884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9CF0-0289-4BB6-8886-A9AE5BDA76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332000" y="2421000"/>
            <a:ext cx="763416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muitos circuitos, é preciso amostrar o valor de uma linha de dados em um determinado instante, para depois armazenar o valor amostrado. Para isso, existe um circuito derivado do latch, conhecido como flip-flo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a mudança do estado não acontece quando a linha de clock assume valor 1, mas durante a transição de 0 para 1 do sinal de clock (transição positiva) ou durante a transição de 1 para 0 (transição negativa) desse mesmo s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50800" y="172404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55C7-F896-4017-912F-FA6F6C414E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81952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33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33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5288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5288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58920" y="16286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e acordo com o funcionamento de suas entradas existem diversos tipos de flip-flops, os mais comuns são: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JK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52720" y="2349360"/>
            <a:ext cx="5904000" cy="4508640"/>
            <a:chOff x="2052720" y="2349360"/>
            <a:chExt cx="5904000" cy="4508640"/>
          </a:xfrm>
        </p:grpSpPr>
        <p:grpSp>
          <p:nvGrpSpPr>
            <p:cNvPr id="218" name=""/>
            <p:cNvGrpSpPr/>
            <p:nvPr/>
          </p:nvGrpSpPr>
          <p:grpSpPr>
            <a:xfrm>
              <a:off x="2052720" y="2349360"/>
              <a:ext cx="5904000" cy="4508640"/>
              <a:chOff x="2052720" y="2349360"/>
              <a:chExt cx="5904000" cy="4508640"/>
            </a:xfrm>
          </p:grpSpPr>
          <p:sp>
            <p:nvSpPr>
              <p:cNvPr id="219" name=""/>
              <p:cNvSpPr/>
              <p:nvPr/>
            </p:nvSpPr>
            <p:spPr>
              <a:xfrm>
                <a:off x="2052720" y="2349360"/>
                <a:ext cx="5904000" cy="450864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070440" y="6435000"/>
                <a:ext cx="427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lip-Flop JK Mestre-Escravo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1" name="flipflopmestreescravo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391840" y="2419560"/>
                <a:ext cx="5157360" cy="276336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222" name=""/>
              <p:cNvGraphicFramePr/>
              <p:nvPr/>
            </p:nvGraphicFramePr>
            <p:xfrm>
              <a:off x="3749040" y="5237640"/>
              <a:ext cx="3393000" cy="12632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23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749040" y="5237640"/>
                        <a:ext cx="3393000" cy="1263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24" name=""/>
            <p:cNvSpPr/>
            <p:nvPr/>
          </p:nvSpPr>
          <p:spPr>
            <a:xfrm>
              <a:off x="2171520" y="5519520"/>
              <a:ext cx="142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nsível à transição negati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06520" y="5871600"/>
              <a:ext cx="559440" cy="10548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629440" y="5219640"/>
              <a:ext cx="0" cy="28188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46360" y="5202360"/>
              <a:ext cx="28501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96480" y="5202360"/>
              <a:ext cx="678600" cy="56340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3A7B-3195-4A6D-9766-0C4047F49E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81952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33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33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3368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3364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692360" y="2133720"/>
            <a:ext cx="6408720" cy="3456000"/>
            <a:chOff x="1692360" y="2133720"/>
            <a:chExt cx="6408720" cy="3456000"/>
          </a:xfrm>
        </p:grpSpPr>
        <p:sp>
          <p:nvSpPr>
            <p:cNvPr id="239" name=""/>
            <p:cNvSpPr/>
            <p:nvPr/>
          </p:nvSpPr>
          <p:spPr>
            <a:xfrm>
              <a:off x="1692360" y="2133720"/>
              <a:ext cx="6408720" cy="3456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37080" y="3473640"/>
              <a:ext cx="438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lip-Flop Tipo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60640" y="3335400"/>
              <a:ext cx="203040" cy="1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89040" y="3297240"/>
              <a:ext cx="3308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3" name=""/>
            <p:cNvGraphicFramePr/>
            <p:nvPr/>
          </p:nvGraphicFramePr>
          <p:xfrm>
            <a:off x="4548240" y="2203920"/>
            <a:ext cx="3343320" cy="134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48240" y="2203920"/>
                      <a:ext cx="3343320" cy="13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5" name=""/>
            <p:cNvGraphicFramePr/>
            <p:nvPr/>
          </p:nvGraphicFramePr>
          <p:xfrm>
            <a:off x="4199760" y="3826440"/>
            <a:ext cx="3831120" cy="1460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99760" y="3826440"/>
                      <a:ext cx="3831120" cy="146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7" name=""/>
            <p:cNvSpPr/>
            <p:nvPr/>
          </p:nvSpPr>
          <p:spPr>
            <a:xfrm>
              <a:off x="2737080" y="5166360"/>
              <a:ext cx="438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lip-Flop Tipo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8" name=""/>
            <p:cNvGraphicFramePr/>
            <p:nvPr/>
          </p:nvGraphicFramePr>
          <p:xfrm>
            <a:off x="1761840" y="2203920"/>
            <a:ext cx="2159280" cy="104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61840" y="2203920"/>
                      <a:ext cx="2159280" cy="104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0" name=""/>
            <p:cNvGraphicFramePr/>
            <p:nvPr/>
          </p:nvGraphicFramePr>
          <p:xfrm>
            <a:off x="1901160" y="4038120"/>
            <a:ext cx="1880640" cy="1068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01160" y="4038120"/>
                      <a:ext cx="1880640" cy="106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2" name=""/>
          <p:cNvSpPr/>
          <p:nvPr/>
        </p:nvSpPr>
        <p:spPr>
          <a:xfrm>
            <a:off x="1332000" y="1628640"/>
            <a:ext cx="54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Flip-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76240" y="5734080"/>
            <a:ext cx="760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5734080"/>
            <a:ext cx="7589880" cy="916920"/>
          </a:xfrm>
          <a:prstGeom prst="rect">
            <a:avLst/>
          </a:prstGeom>
          <a:noFill/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guns latches e flip-flops têm duas entradas adicionais, a primeir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rese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força a estrutura para o estado Q=1) e a segund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Reset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força a estrutura para o estado Q=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2F4C-9118-4F61-B36E-B16FFEC22F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331640" y="1988640"/>
            <a:ext cx="7561080" cy="449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p-Flop D – Outra forma de ob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692360" y="3068640"/>
            <a:ext cx="6659640" cy="223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30A7-43C2-4E09-AC3B-530C8C8C99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D – Outra forma de ob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547640" y="2708280"/>
            <a:ext cx="6902640" cy="3340080"/>
            <a:chOff x="1547640" y="2708280"/>
            <a:chExt cx="6902640" cy="334008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1547640" y="2708280"/>
              <a:ext cx="6902640" cy="334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62" name=""/>
            <p:cNvSpPr/>
            <p:nvPr/>
          </p:nvSpPr>
          <p:spPr>
            <a:xfrm>
              <a:off x="6138720" y="3290400"/>
              <a:ext cx="1778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98960" y="3890160"/>
              <a:ext cx="8892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98960" y="4523760"/>
              <a:ext cx="10101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63000" y="4934880"/>
              <a:ext cx="1010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38720" y="3307680"/>
              <a:ext cx="10098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68480" y="5397480"/>
              <a:ext cx="690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56280" y="3753000"/>
              <a:ext cx="7423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 AND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87920" y="3146040"/>
              <a:ext cx="3106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87920" y="4208040"/>
              <a:ext cx="3106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87920" y="4654800"/>
              <a:ext cx="3106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87920" y="5099040"/>
              <a:ext cx="3106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93CA-00B3-4FBC-8BFC-A29D6A8D98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os Lógicos Seqü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E887-54FD-4228-BD2C-4CB1A740BCF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ircuitos Seqüenciai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a saída é função dos valores de entrada correntes e dos valores de entrada no instante anterior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         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5184720" cy="353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3C65-AF0A-4696-AB03-60AB2A27BE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odo o desenvolvimento computacional e de comunicações digitais está suportado pela concepção 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emóri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 computador depende da existência de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cilador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gistrador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tador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 toda uma lógica que depende, fundamentalmente, da existência de conhecimento sobre o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stados anteriores do sistema em função do temp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ou seja,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emóri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nceito de tempo está associado a pulsos de um relógio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, que vai alternar estados entre 0 e 1, com uma freqüência pré-determinada, e será utilizado na propagação temporal da informação.          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2DCB-A6B4-4137-9CAC-0D096130BB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32000" y="1628280"/>
            <a:ext cx="7632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um computador, muitos eventos podem ocorrer durante um único período do clo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os eventos precisam acontecer em determinada ordem, o período do clock precisa ser subdividido em subperíodos (ou subciclo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3280" y="3583080"/>
            <a:ext cx="4164120" cy="3274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4005360"/>
            <a:ext cx="3097440" cy="514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ação do sinal de clo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diagrama de tempo para o cloc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ação de um sinal de clock assimétr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93B3-5D5A-4581-A4E1-00D1256E60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58560" y="1981080"/>
            <a:ext cx="7504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istem tipos distintos de memória, porém, a lógica de todas elas está associada a circuitos oscilantes, chamados de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e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latch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, que podem alternar sua saída (estados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lip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lop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em função dos parâmetros de entrada e do tempo decorrid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Diferença entre flip-flop e latch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O flip-flop é sensível à transição do sinal de clock, enquanto que o latch é sensível ao nível desse mesmo s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5950080"/>
            <a:ext cx="7201080" cy="586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sed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ged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transições positiva e negativa do clock, respectivam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circuitos seqüencias síncron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0A26-DC85-4D88-91AE-259774229B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635280" y="3716280"/>
            <a:ext cx="1407960" cy="343080"/>
            <a:chOff x="3635280" y="3716280"/>
            <a:chExt cx="1407960" cy="343080"/>
          </a:xfrm>
        </p:grpSpPr>
        <p:sp>
          <p:nvSpPr>
            <p:cNvPr id="114" name=""/>
            <p:cNvSpPr/>
            <p:nvPr/>
          </p:nvSpPr>
          <p:spPr>
            <a:xfrm>
              <a:off x="3635280" y="3716280"/>
              <a:ext cx="135684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3669480" y="3716280"/>
                  <a:ext cx="13737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0 e  {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580000" y="3716280"/>
                <a:ext cx="136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e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771640" y="2924280"/>
                <a:ext cx="2923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796000" y="4653000"/>
            <a:ext cx="3019320" cy="1797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sinal de entrada causa a ida de um FF para um dado estado, o FF permanecerá neste estado mesmo depois deste sinal de entrada ter terminado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sta é a característica de memór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03280" y="4724280"/>
            <a:ext cx="4206960" cy="1776600"/>
            <a:chOff x="1403280" y="4724280"/>
            <a:chExt cx="4206960" cy="1776600"/>
          </a:xfrm>
        </p:grpSpPr>
        <p:graphicFrame>
          <p:nvGraphicFramePr>
            <p:cNvPr id="120" name=""/>
            <p:cNvGraphicFramePr/>
            <p:nvPr/>
          </p:nvGraphicFramePr>
          <p:xfrm>
            <a:off x="1403280" y="4724280"/>
            <a:ext cx="4206960" cy="177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03280" y="4724280"/>
                      <a:ext cx="4206960" cy="177660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2949120" y="5371920"/>
              <a:ext cx="4982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575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aracterísticas gerais dos Flip-flops e La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Muitos apresentam duas saídas complementares chama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ída   Q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- saída norm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ída          - saída inverti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F (ou do Latch) no estado  alto (1) ou baixo (0)  condição de Q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Estados possíveis: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     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Entradas do FF (ou do Latch) - chaveamento  entre os dois estado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2886-9037-4C98-B22F-224A6C121D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8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riar uma memória de 1 bit, é necessário um circuito que de alguma maneira possa lembrar valores anteriores que lhe foram fornecidos como ent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9822-57D5-4CFB-9965-F2EAD0E654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58920" y="1700280"/>
            <a:ext cx="83246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atch SR (formado por portas N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7200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68320" y="2522520"/>
          <a:ext cx="3899160" cy="24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522520"/>
                    <a:ext cx="389916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804000" y="2492280"/>
            <a:ext cx="2087640" cy="3385800"/>
          </a:xfrm>
          <a:prstGeom prst="rect">
            <a:avLst/>
          </a:prstGeom>
          <a:noFill/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se circuito “lembra” qual das duas entradas, S ou R, esteve pela última vez em 1. Usando essa propriedade, é possível construir memórias de computador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692360" y="5013360"/>
          <a:ext cx="4708440" cy="160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5013360"/>
                    <a:ext cx="470844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3493-F9BC-4CDE-B61F-99F40001F3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6-04T09:40:24Z</dcterms:modified>
  <cp:revision>195</cp:revision>
  <dc:subject/>
  <dc:title>Organização e Arquitetura de Computadores I</dc:title>
</cp:coreProperties>
</file>