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71B9-81A0-441F-A147-085536DCF6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C366-3B36-40FA-86EE-9A20D4503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2B18-0CCF-4841-8D5E-08BFE07EE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154A-8B49-4A5E-A7C8-CC71EE80F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76E8-B2CA-4440-AF2A-BD240F98E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FAD00-DEA6-4164-B3B3-6C0FF81C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5B965-E153-4EBF-AADD-B173CA9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C797F-E332-4A09-A50C-3BB4B5B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33879-2D6A-4851-B344-900AF7D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392DE-D920-4787-B0BE-FBBDE8B7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65742-FDDA-4D61-A0A3-6689EB83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30A8F-7013-4E07-A87E-BEDEE794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4354-6036-4CFC-84DC-8ED0D8B47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7F03E-59B2-46AA-993B-03BE1138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B13E0-7B1F-4717-80F8-511D3E8E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BD4E2-B597-4B18-953F-23E39FAE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43731-6E14-429E-A750-F6231D5E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2F418-BEF5-4AF8-9337-C3596485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DB63-8966-473D-9CA9-23C85621F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879F-11C1-4783-AE4F-907A08063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F9AA-B2F0-48FD-893F-109ACD94E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518F-6840-4D42-84FE-CC76AE680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F333-6CA6-4505-A5C3-53AE1287C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6D74-E26B-486B-988C-097707920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8B55-CFE8-479B-B3AC-5739817CF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B1B-3763-4F45-B16C-B723FDA588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DD61-2DBA-4144-9829-0E6CC8CB19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0560" y="3357720"/>
            <a:ext cx="66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Linguagem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scrição de Hardw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(Parte 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87280" y="1482840"/>
            <a:ext cx="78487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e de evento de trans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últiplos eventos de controle com o mesmo compo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tos derivados (apelidos de ev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ços de reali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ribuições que contenham controle por evento ou controle por atr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o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k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cessos parale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ruçõ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ruções externas d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ços com controle de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ços que dependam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que contém controle de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DPs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ser Defined Primitiv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üen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20680" y="134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nstruções a serem evitadas para Síntese combinatór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7280" y="1628280"/>
            <a:ext cx="43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457200" indent="-4572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strução 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1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ux_4bits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3:0] a, b, c, 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1:0] s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3:0]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0099cc"/>
                </a:solidFill>
                <a:latin typeface="Lucida Console"/>
              </a:rPr>
              <a:t>always_c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case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0: y &lt;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1: y &lt;=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2: y &lt;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default: y &lt;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662080" y="2708280"/>
            <a:ext cx="3255120" cy="2693160"/>
            <a:chOff x="5662080" y="2708280"/>
            <a:chExt cx="3255120" cy="2693160"/>
          </a:xfrm>
        </p:grpSpPr>
        <p:sp>
          <p:nvSpPr>
            <p:cNvPr id="145" name=""/>
            <p:cNvSpPr/>
            <p:nvPr/>
          </p:nvSpPr>
          <p:spPr>
            <a:xfrm>
              <a:off x="6959880" y="2708280"/>
              <a:ext cx="617400" cy="1773360"/>
            </a:xfrm>
            <a:custGeom>
              <a:avLst/>
              <a:gdLst/>
              <a:ahLst/>
              <a:rect l="l" t="t" r="r" b="b"/>
              <a:pathLst>
                <a:path w="434" h="1246">
                  <a:moveTo>
                    <a:pt x="0" y="0"/>
                  </a:moveTo>
                  <a:lnTo>
                    <a:pt x="434" y="310"/>
                  </a:lnTo>
                  <a:lnTo>
                    <a:pt x="434" y="886"/>
                  </a:lnTo>
                  <a:lnTo>
                    <a:pt x="0" y="124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01160" y="4201920"/>
              <a:ext cx="1440" cy="83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80680" y="5030640"/>
              <a:ext cx="951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el[1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13760" y="304956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13760" y="341316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13760" y="377820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13760" y="414180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4040" y="3544920"/>
              <a:ext cx="546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69640" y="2887560"/>
              <a:ext cx="78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6800" y="3390840"/>
              <a:ext cx="770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y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62080" y="3241800"/>
              <a:ext cx="793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3680" y="3612960"/>
              <a:ext cx="76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62080" y="3975120"/>
              <a:ext cx="793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Multiplex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545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457200" indent="-4572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strução 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if .. e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ux_4bits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3:0] a, b, c, 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1:0] s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[3:0]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0099cc"/>
                </a:solidFill>
                <a:latin typeface="Lucida Console"/>
              </a:rPr>
              <a:t>always_c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 == 0) y &lt;= a;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 == 1) y &lt;= b;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 == 2) y &lt;= c;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sel == 3) y &lt;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0">
              <a:lnSpc>
                <a:spcPct val="83000"/>
              </a:lnSpc>
              <a:buNone/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806080" y="2133720"/>
            <a:ext cx="3142440" cy="2693520"/>
            <a:chOff x="5806080" y="2133720"/>
            <a:chExt cx="3142440" cy="2693520"/>
          </a:xfrm>
        </p:grpSpPr>
        <p:sp>
          <p:nvSpPr>
            <p:cNvPr id="161" name=""/>
            <p:cNvSpPr/>
            <p:nvPr/>
          </p:nvSpPr>
          <p:spPr>
            <a:xfrm>
              <a:off x="7044480" y="2133720"/>
              <a:ext cx="589320" cy="1773360"/>
            </a:xfrm>
            <a:custGeom>
              <a:avLst/>
              <a:gdLst/>
              <a:ahLst/>
              <a:rect l="l" t="t" r="r" b="b"/>
              <a:pathLst>
                <a:path w="434" h="1246">
                  <a:moveTo>
                    <a:pt x="0" y="0"/>
                  </a:moveTo>
                  <a:lnTo>
                    <a:pt x="434" y="310"/>
                  </a:lnTo>
                  <a:lnTo>
                    <a:pt x="434" y="886"/>
                  </a:lnTo>
                  <a:lnTo>
                    <a:pt x="0" y="124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370280" y="3627360"/>
              <a:ext cx="1440" cy="83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69240" y="4456440"/>
              <a:ext cx="951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el[1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3200" y="2475360"/>
              <a:ext cx="52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23200" y="2838600"/>
              <a:ext cx="52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23200" y="3204000"/>
              <a:ext cx="52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3567240"/>
              <a:ext cx="52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30920" y="2970360"/>
              <a:ext cx="52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13280" y="2313360"/>
              <a:ext cx="78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8120" y="2816640"/>
              <a:ext cx="770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y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06080" y="2667240"/>
              <a:ext cx="793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5880" y="3038760"/>
              <a:ext cx="76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06080" y="3400560"/>
              <a:ext cx="793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[3: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03280" y="5734080"/>
            <a:ext cx="71643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Obs.: instruções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 e 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if/else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ão estilos mais recomendados para multiplexadores “grand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Síntese de Multiplexad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16000" y="1482480"/>
            <a:ext cx="8028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do os casos de uma seqüência de condições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de um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ão são mutualmente exclusivos, a ferramenta de síntese cria uma estrutura de prior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mux_4pri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a, b, c, d, sel_a, sel_b, sel_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logic 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99cc"/>
                </a:solidFill>
                <a:latin typeface="Lucida Console"/>
              </a:rPr>
              <a:t>always_co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600" spc="-1" strike="noStrike">
                <a:solidFill>
                  <a:srgbClr val="009900"/>
                </a:solidFill>
                <a:latin typeface="Lucida Console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sel_a == 1) y &lt;= a;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sel_b == 0) y &lt;= b;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(sel_c == 1) y &lt;= c; </a:t>
            </a:r>
            <a:r>
              <a:rPr b="1" lang="en-GB" sz="16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Lucida Console"/>
              </a:rPr>
              <a:t>y &lt;=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GB" sz="1600" spc="-1" strike="noStrike">
                <a:solidFill>
                  <a:srgbClr val="009900"/>
                </a:solidFill>
                <a:latin typeface="Lucida Console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3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724360" y="3865680"/>
            <a:ext cx="3368880" cy="2184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oridade Lógic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692000" y="2781360"/>
            <a:ext cx="5833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 fontScale="64000"/>
          </a:bodyPr>
          <a:p>
            <a:pPr marL="214200" indent="-2142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óximos pass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ógica Seqü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ardware Description Langua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H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s Básicos – continu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58452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Lógica Combin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B551-1A76-4488-A688-5EBE28BE582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802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ção lógica combinatória pode ser representa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logic_output(t) = f(logic_inputs(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3914640"/>
            <a:ext cx="795672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bab600"/>
              </a:buClr>
              <a:buFont typeface="Wingdings" charset="2"/>
              <a:buChar char="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ite modelagem dependente de tecnologia, ou seja, implemente a função, não o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timing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ógica combinatória não pode ter realimenta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101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specifique a saída de uma função combinatória para todas as possíveis combinações de entr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2852640"/>
            <a:ext cx="6599520" cy="1368000"/>
            <a:chOff x="1835280" y="2852640"/>
            <a:chExt cx="6599520" cy="1368000"/>
          </a:xfrm>
        </p:grpSpPr>
        <p:sp>
          <p:nvSpPr>
            <p:cNvPr id="111" name=""/>
            <p:cNvSpPr/>
            <p:nvPr/>
          </p:nvSpPr>
          <p:spPr>
            <a:xfrm>
              <a:off x="4140720" y="2852640"/>
              <a:ext cx="1966320" cy="1368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Tahoma"/>
                </a:rPr>
                <a:t>Combination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Tahoma"/>
                </a:rPr>
                <a:t>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20720" y="3365280"/>
              <a:ext cx="531720" cy="342000"/>
            </a:xfrm>
            <a:prstGeom prst="rightArrow">
              <a:avLst>
                <a:gd name="adj1" fmla="val 50000"/>
                <a:gd name="adj2" fmla="val 38868"/>
              </a:avLst>
            </a:prstGeom>
            <a:solidFill>
              <a:srgbClr val="33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15840" y="3365280"/>
              <a:ext cx="531720" cy="342000"/>
            </a:xfrm>
            <a:prstGeom prst="rightArrow">
              <a:avLst>
                <a:gd name="adj1" fmla="val 50000"/>
                <a:gd name="adj2" fmla="val 38868"/>
              </a:avLst>
            </a:prstGeom>
            <a:solidFill>
              <a:srgbClr val="00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5280" y="3308040"/>
              <a:ext cx="15980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logic_inputs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6560" y="3308040"/>
              <a:ext cx="15782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logic_outputs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ystemVerilog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956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seguintes estilos são possí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etli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instâncias de portas e de primitivas Verilog (completamente estrutur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DP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r Defined Primi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ombinatória (somente algumas ferramen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ribuições perma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ruções comportam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sem controle de atraso ou de ev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onexões dos elementos a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Estilos para Lógica Combinatória Sintetizá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5732640" y="2637000"/>
            <a:ext cx="3411360" cy="2144520"/>
            <a:chOff x="5732640" y="2637000"/>
            <a:chExt cx="3411360" cy="21445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732640" y="2637000"/>
              <a:ext cx="3411360" cy="21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408720" y="4365720"/>
              <a:ext cx="1589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pré-sínt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16000" y="1491840"/>
            <a:ext cx="802800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ramentas de síntese otimizam um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tl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eita a partir de primitivas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357720"/>
            <a:ext cx="5486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or_nand_1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enable, x1, x2, x3, x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logic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009900"/>
                </a:solidFill>
                <a:latin typeface="Lucida Console"/>
              </a:rPr>
              <a:t>logic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w1, w2, w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(w1, x1, x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(w2, x3, x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(w3, x3, x4); </a:t>
            </a:r>
            <a:r>
              <a:rPr b="0" lang="en-GB" sz="2000" spc="-1" strike="noStrike">
                <a:solidFill>
                  <a:srgbClr val="cc9900"/>
                </a:solidFill>
                <a:latin typeface="Lucida Console"/>
              </a:rPr>
              <a:t>// redu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2000" spc="-1" strike="noStrike">
                <a:solidFill>
                  <a:srgbClr val="ff3300"/>
                </a:solidFill>
                <a:latin typeface="Lucida Console"/>
              </a:rPr>
              <a:t>nand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(y, w1, w2, w3, enab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12000" y="4944960"/>
            <a:ext cx="2874960" cy="1695600"/>
            <a:chOff x="6012000" y="4944960"/>
            <a:chExt cx="2874960" cy="169560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6012000" y="4944960"/>
              <a:ext cx="287496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516720" y="6237360"/>
              <a:ext cx="1727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pós-sínt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</a:t>
            </a: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Netlist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de Port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7280" y="1483920"/>
            <a:ext cx="7777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-3348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sos gerais da sínt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3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rtas lógicas são traduzidas em equações boole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equações booleanas são otim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2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ções booleanas são mapeadas para células de bibliote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ções complexas, que são modeladas por portas primitivas, não podem ser mapeadas para células de biblioteca mais complexas (p.ex. somador, multiplicad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tivas de síntese permitem preservar a estrutura, caso células equivalentes existam na bibliote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</a:t>
            </a: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Netlist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de Port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802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or_nand_2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able, x1, x2, x3, x4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y &lt;= !(enable &amp; (x1 | x2) &amp; (x3 | x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11360" y="4162320"/>
            <a:ext cx="7281720" cy="2102040"/>
            <a:chOff x="1611360" y="4162320"/>
            <a:chExt cx="7281720" cy="21020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611360" y="4222800"/>
              <a:ext cx="360828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5435640" y="4162320"/>
              <a:ext cx="3457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268360" y="5734080"/>
              <a:ext cx="1727280" cy="40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pré-sínt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72360" y="5373720"/>
              <a:ext cx="176832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pós-sínt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Atribuição permane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802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or_nand_3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able, x1, x2, x3, x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800" spc="-1" strike="noStrike">
                <a:solidFill>
                  <a:srgbClr val="0099cc"/>
                </a:solidFill>
                <a:latin typeface="Lucida Console"/>
              </a:rPr>
              <a:t>always_c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if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(e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y &lt;= !((x1 | x2) &amp; (x3 | x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y &lt;= 1; // operand is a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Obs</a:t>
            </a:r>
            <a:r>
              <a:rPr b="0" i="1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oda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as entradas para o comportamento precisam ser incluídas na lista de eventos, se não um 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latch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será inferido</a:t>
            </a:r>
            <a:r>
              <a:rPr b="0" i="1" lang="en-GB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Estilo comportament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23640" y="1699920"/>
            <a:ext cx="7885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48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or_nand_4 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enable, x1, x2, x3, x4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logic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y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y &lt;= </a:t>
            </a:r>
            <a:r>
              <a:rPr b="0" lang="en-GB" sz="1700" spc="-1" strike="noStrike">
                <a:solidFill>
                  <a:srgbClr val="0099cc"/>
                </a:solidFill>
                <a:latin typeface="Lucida Console"/>
              </a:rPr>
              <a:t>or_nand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(enable, x1, x2, x3, x4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009900"/>
                </a:solidFill>
                <a:latin typeface="Lucida Console"/>
              </a:rPr>
              <a:t>function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or_n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7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enable, x1, x2, x3, x4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700" spc="-1" strike="noStrike">
                <a:solidFill>
                  <a:srgbClr val="cc9900"/>
                </a:solidFill>
                <a:latin typeface="Lucida Console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GB" sz="1700" spc="-1" strike="noStrike">
                <a:solidFill>
                  <a:srgbClr val="000000"/>
                </a:solidFill>
                <a:latin typeface="Lucida Console"/>
              </a:rPr>
              <a:t>or_nand &lt;= ~(enable &amp; (x1 | x2) &amp; (x3 | x4)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GB" sz="1700" spc="-1" strike="noStrike">
                <a:solidFill>
                  <a:srgbClr val="cc9900"/>
                </a:solidFill>
                <a:latin typeface="Lucida Console"/>
              </a:rPr>
              <a:t>e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GB" sz="1700" spc="-1" strike="noStrike">
                <a:solidFill>
                  <a:srgbClr val="009900"/>
                </a:solidFill>
                <a:latin typeface="Lucida Console"/>
              </a:rPr>
              <a:t>endfun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íntese de Lógica Combinatória – Fun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10-08T01:45:25Z</dcterms:modified>
  <cp:revision>208</cp:revision>
  <dc:subject/>
  <dc:title>Organização e Arquitetura de Computadores I</dc:title>
</cp:coreProperties>
</file>