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470B-17D8-4FF2-82A4-BE826F61E9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54160" y="685800"/>
            <a:ext cx="4549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1E94-8CCD-4E1E-BC3A-2DE86BB64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1464-D571-4454-BD2A-2CDCA8E1C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4460-8639-4F2A-8790-D595A3210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8209-8C94-4E38-A31B-C3532A953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B4177-00A0-48B1-A6D9-3E2A9F84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8DE59-9461-4BB1-A20C-B75E5883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87202-AD07-4A85-9F85-E2C8B1E1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A8C6F-3117-4290-A24D-206A6AA2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80A4F-4E29-4BF9-AFC5-5F78AB89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B9C00-A003-4781-9C4D-0BC1883E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EE1E1-AF07-49EF-8B79-939A278D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D78B-387E-4D74-AB5C-5A144616A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3A7EA-18D8-4B1F-B408-DD54AF6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E9DC1-47CF-4E57-93C2-FBC81450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3639E-8890-4C8D-9628-83D9D28E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8A606-F208-4420-AC9B-659B2809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0EC5C-3555-44A4-B48B-89604450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67BB-EAEF-451F-A6AB-ED7BF17FC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0F19-898A-4D36-BCA6-3A3ADC4FE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9E41-C0D6-4839-A906-5EF6CFCE4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8F51-8F33-4BF2-82CF-A3D7721A8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7F1B-916A-4058-BF70-BE380760B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3DE7-FB7B-40C7-A291-65EFCA31C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ED3B-AF71-4ACB-979E-DE7E9ED8C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0BF8-F4CE-4E2D-AC93-8200CCA1C3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C4E5-04CD-4E2E-B158-7389697AEB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0560" y="3357720"/>
            <a:ext cx="669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Linguagem 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escrição de Hardw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(Parte 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ção: 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o (portas lógicas primitiva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and</a:t>
            </a:r>
            <a:r>
              <a:rPr b="0" i="1" lang="en-GB" sz="2000" spc="-1" strike="noStrike">
                <a:solidFill>
                  <a:srgbClr val="ff33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G2(Carry, 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3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meiro parâmetro (Carry) –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3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ros parâmetros (A, B) -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Modelo estrutur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B8B8-A197-4B5C-B493-D7684D03FF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luxo de dad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Representa sinais de saída em função de sinai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lang="en-GB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out &lt;= (sel &amp; a) | (~sel &amp; b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324520" y="3716280"/>
            <a:ext cx="5151960" cy="3054240"/>
            <a:chOff x="2324520" y="3716280"/>
            <a:chExt cx="5151960" cy="305424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3247920" y="4611600"/>
              <a:ext cx="8762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4467240" y="4516560"/>
              <a:ext cx="86364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467240" y="5583240"/>
              <a:ext cx="8636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5981760" y="5050080"/>
              <a:ext cx="8632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095720" y="4840200"/>
              <a:ext cx="38088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7920" y="4853160"/>
              <a:ext cx="1227240" cy="88884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0"/>
                  </a:moveTo>
                  <a:lnTo>
                    <a:pt x="0" y="672"/>
                  </a:lnTo>
                  <a:lnTo>
                    <a:pt x="768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76400" y="4840200"/>
              <a:ext cx="38088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5320" y="4754520"/>
              <a:ext cx="685800" cy="4572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0"/>
                  </a:moveTo>
                  <a:lnTo>
                    <a:pt x="240" y="0"/>
                  </a:lnTo>
                  <a:lnTo>
                    <a:pt x="240" y="288"/>
                  </a:lnTo>
                  <a:lnTo>
                    <a:pt x="432" y="28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305320" y="5375160"/>
              <a:ext cx="685800" cy="4464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0"/>
                  </a:moveTo>
                  <a:lnTo>
                    <a:pt x="240" y="0"/>
                  </a:lnTo>
                  <a:lnTo>
                    <a:pt x="240" y="288"/>
                  </a:lnTo>
                  <a:lnTo>
                    <a:pt x="432" y="28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6800" y="4002120"/>
              <a:ext cx="199800" cy="677880"/>
            </a:xfrm>
            <a:custGeom>
              <a:avLst/>
              <a:gdLst/>
              <a:ahLst/>
              <a:rect l="l" t="t" r="r" b="b"/>
              <a:pathLst>
                <a:path w="126" h="427">
                  <a:moveTo>
                    <a:pt x="0" y="0"/>
                  </a:moveTo>
                  <a:lnTo>
                    <a:pt x="0" y="426"/>
                  </a:lnTo>
                  <a:lnTo>
                    <a:pt x="126" y="427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4520" y="4592880"/>
              <a:ext cx="578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08480" y="3716280"/>
              <a:ext cx="368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12800" y="6307200"/>
              <a:ext cx="3513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12640" y="5059440"/>
              <a:ext cx="6638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56040" y="4859280"/>
              <a:ext cx="55728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32920" y="4478400"/>
              <a:ext cx="5526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09960" y="5773680"/>
              <a:ext cx="5479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19320" y="4249800"/>
              <a:ext cx="3733920" cy="20574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276800" y="5902560"/>
              <a:ext cx="199800" cy="677520"/>
            </a:xfrm>
            <a:custGeom>
              <a:avLst/>
              <a:gdLst/>
              <a:ahLst/>
              <a:rect l="l" t="t" r="r" b="b"/>
              <a:pathLst>
                <a:path w="126" h="427">
                  <a:moveTo>
                    <a:pt x="0" y="0"/>
                  </a:moveTo>
                  <a:lnTo>
                    <a:pt x="0" y="426"/>
                  </a:lnTo>
                  <a:lnTo>
                    <a:pt x="126" y="427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Estilos de Descri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5FF6-BA3C-4EB1-BF65-0C5CBB7A9BC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 atribuição permanente para s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mat:  </a:t>
            </a: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i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Lucida Console"/>
              </a:rPr>
              <a:t>[ delay ]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net &lt;= express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emplo:  </a:t>
            </a: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i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sum &lt;= a ^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7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Lucida Console"/>
              </a:rPr>
              <a:t>del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traso de propagação da expressão para o s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7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s as atribuições permanentes executam simultane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7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ordem das atribuições dentro do arquivo SystemVerilog não tem efeito sobre a exec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Modelo de Fluxo de D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BA0A-D800-4014-99BE-CBF95A5A18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r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i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#2 sum &lt;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#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” indica 2 unidades de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 especificação de atraso: 0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ção entre unidade de tempo e tempo simu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990099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`timescale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dade/re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en-GB" sz="2000" spc="-1" strike="noStrike">
                <a:solidFill>
                  <a:srgbClr val="990099"/>
                </a:solidFill>
                <a:latin typeface="Arial"/>
              </a:rPr>
              <a:t>`timesca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 ns / 10 p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unidade de tempo  = 1 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3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lução é 10 ps (0.01 ns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Modelo de Fluxo de D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41E9-54A3-4C0E-A1FC-01D44A3F9A6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99"/>
                </a:solidFill>
                <a:latin typeface="Lucida Console"/>
              </a:rPr>
              <a:t>`timescale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1ns/10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module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HalfAdder (</a:t>
            </a: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A, 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               </a:t>
            </a: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logic Sum, Car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#3 Sum &lt;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#6 Carry &lt;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Modelo de Fluxo de D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6BCD-89F5-4630-935C-AF15636B016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rtament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representa o comportamento na forma de um algorit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   </a:t>
            </a: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(sel == 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out &lt;= b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else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out &lt;= 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639320" y="4438800"/>
            <a:ext cx="3952440" cy="1879200"/>
            <a:chOff x="4639320" y="4438800"/>
            <a:chExt cx="3952440" cy="1879200"/>
          </a:xfrm>
        </p:grpSpPr>
        <p:sp>
          <p:nvSpPr>
            <p:cNvPr id="182" name=""/>
            <p:cNvSpPr/>
            <p:nvPr/>
          </p:nvSpPr>
          <p:spPr>
            <a:xfrm>
              <a:off x="5641920" y="4491000"/>
              <a:ext cx="1636920" cy="969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6640" y="4673520"/>
              <a:ext cx="669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76640" y="5157720"/>
              <a:ext cx="669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431040" y="5448240"/>
              <a:ext cx="1440" cy="4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78840" y="4915080"/>
              <a:ext cx="66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54440" y="4438800"/>
              <a:ext cx="3513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39320" y="4921200"/>
              <a:ext cx="368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35480" y="5854680"/>
              <a:ext cx="578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7920" y="4672080"/>
              <a:ext cx="6638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55680" y="4667400"/>
              <a:ext cx="144576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Tahoma"/>
                </a:rPr>
                <a:t>Black 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Tahoma"/>
                </a:rPr>
                <a:t>2x1 M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Estilos de Descri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1EB5-E867-41FE-91BB-BBDD007EB44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332000" y="1700280"/>
            <a:ext cx="6175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mux_2x1(</a:t>
            </a: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a, b, s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output</a:t>
            </a: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logic 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Lucida Console"/>
              </a:rPr>
              <a:t>always_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(sel == 1) out &lt;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else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out &lt;=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Modelo comportament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813D-6144-4DCA-8726-103ED44904B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87280" y="1773000"/>
            <a:ext cx="777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T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gister Transfer Lev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: descreve o que acontece a cada transição ativa do sinal de reló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Lucida Console"/>
              </a:rPr>
              <a:t>always_ff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@(posedge clock) </a:t>
            </a:r>
            <a:r>
              <a:rPr b="0" lang="en-GB" sz="2200" spc="-1" strike="noStrike">
                <a:solidFill>
                  <a:srgbClr val="0099cc"/>
                </a:solidFill>
                <a:latin typeface="Lucida Console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pisca &lt;= ~pis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99cc"/>
                </a:solidFill>
                <a:latin typeface="Lucida Console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Estilos de Descri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0BC6-7230-4211-8EBB-4D2C0F9A05A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402920" y="1844280"/>
            <a:ext cx="5635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al_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else if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al_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Lucida Console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al_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(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Q &l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Q &lt;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Instruções Condi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7DA0-F9C1-41FB-A57B-9E496111311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87280" y="1557000"/>
            <a:ext cx="79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ruçã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case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2’b00: Y &lt;= A +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2’b01: Y &lt;= A –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2’b10: Y &lt;= A /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Instruções Condi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8A3A-04F0-472E-96AA-18DF97A237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ardware Description Langua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H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03C7-0A94-45DD-ABCE-B8D7E984BB5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77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 vetor de regist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logic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990099"/>
                </a:solidFill>
                <a:latin typeface="Lucida Console"/>
              </a:rPr>
              <a:t>[ msb : lsb ]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memory1 </a:t>
            </a:r>
            <a:r>
              <a:rPr b="0" lang="en-GB" sz="2000" spc="-1" strike="noStrike">
                <a:solidFill>
                  <a:srgbClr val="990099"/>
                </a:solidFill>
                <a:latin typeface="Lucida Console"/>
              </a:rPr>
              <a:t>[ upper : lower ]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logic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[ 3 : 0 ] mem [ 63 : 0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// Um array de 64 registradores de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logic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mem [ 4 : 0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// Um array de 5 registradores de 1 b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DL - Memór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00FD-48A2-4209-8DB7-B29B951DE61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258560" y="1915920"/>
            <a:ext cx="7705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Lucida Console"/>
              </a:rPr>
              <a:t>`def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(similar ao #define em C) usado para definir parâmet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24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`define BUS_WIDTH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logic [ `BUS_WIDTH - 1 : 0 ] System_B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Lucida Console"/>
              </a:rPr>
              <a:t>`include 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– usado para incluir outro arqu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`include “./fulladder.sv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DL - Diretivas de Compila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7546-B255-4A85-9F09-6C9E7CC8E2E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16000" y="1483920"/>
            <a:ext cx="80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exão por posição</a:t>
            </a:r>
            <a:br>
              <a:rPr sz="24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child_mod(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input sig_a, sig_b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output logic sig_c,sig_d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// descrição do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parent_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 [3:0] g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child_mod U1(g[3],g[1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g[0],g[2]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// ordem é significati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53920" y="1819440"/>
            <a:ext cx="1928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inotype"/>
              </a:rPr>
              <a:t>parent_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96880" y="4037040"/>
            <a:ext cx="4114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53000" y="3191040"/>
            <a:ext cx="3591000" cy="2133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05640" y="2276640"/>
            <a:ext cx="3352680" cy="327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DL - Tipos de Porta de Conex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3BB6-C3A9-4294-B22C-72DD79137BC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exão explícita</a:t>
            </a:r>
            <a:br>
              <a:rPr sz="24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child_mod(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input sig_a, sig_b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output logic sig_c,sig_d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// descrição do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parent_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 [3:0] g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child_mod U1(.sig_c(g[0]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.sig_b(g[1]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.sib_d(g[2]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.sig_a(g[3])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// ordem arbitr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09640" y="1711440"/>
            <a:ext cx="1928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utiger Linotype"/>
              </a:rPr>
              <a:t>parent_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4221000"/>
            <a:ext cx="4114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508720" y="3083040"/>
            <a:ext cx="3591000" cy="2133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661000" y="2168640"/>
            <a:ext cx="3352680" cy="327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DL - Tipos de Porta de Conex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0F04-25B6-42A4-8CE7-284DFAB1904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exão por casamento</a:t>
            </a:r>
            <a:br>
              <a:rPr sz="24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child_mod(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input a, b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output logic c,d)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// descrição do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 parent_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logic a,b,c,d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child_mod U1( .* 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4292640"/>
            <a:ext cx="4114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580000" y="2637000"/>
            <a:ext cx="3200400" cy="2514600"/>
            <a:chOff x="5580000" y="2637000"/>
            <a:chExt cx="3200400" cy="2514600"/>
          </a:xfrm>
        </p:grpSpPr>
        <p:sp>
          <p:nvSpPr>
            <p:cNvPr id="220" name=""/>
            <p:cNvSpPr/>
            <p:nvPr/>
          </p:nvSpPr>
          <p:spPr>
            <a:xfrm>
              <a:off x="5796000" y="4005360"/>
              <a:ext cx="2743200" cy="914400"/>
            </a:xfrm>
            <a:prstGeom prst="roundRect">
              <a:avLst>
                <a:gd name="adj" fmla="val 171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pPr algn="ctr">
                <a:lnSpc>
                  <a:spcPct val="5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     b      c     d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ild_m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265800" y="3547800"/>
              <a:ext cx="180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78520" y="3547800"/>
              <a:ext cx="180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453440" y="3547800"/>
              <a:ext cx="14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029440" y="3547800"/>
              <a:ext cx="180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8840" y="3251160"/>
              <a:ext cx="2387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5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      b      c    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0000" y="2637000"/>
              <a:ext cx="3200400" cy="2514600"/>
            </a:xfrm>
            <a:prstGeom prst="roundRect">
              <a:avLst>
                <a:gd name="adj" fmla="val 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pPr algn="ctr">
                <a:lnSpc>
                  <a:spcPct val="5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arent_m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HDL - Tipos de Porta de Conex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5950080"/>
            <a:ext cx="2881440" cy="707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uidado!!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funciona no Quar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211280" y="5445000"/>
            <a:ext cx="647640" cy="432000"/>
          </a:xfrm>
          <a:prstGeom prst="line">
            <a:avLst/>
          </a:prstGeom>
          <a:ln cap="sq" w="38160">
            <a:solidFill>
              <a:srgbClr val="00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4705-696F-49D6-A9B5-BBD230B0AC63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634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 que precisamos de uma Linguagem de Descrição de Hardw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ar, Representar e simular hardware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or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le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mântica para valores de sinais no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uções e semântica espe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ções (bordas) de valores de si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rasos de propagação de si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ificação de condições tempo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0324-1C6F-47D9-8552-781775020E90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70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unidade básica – o mód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ódulo (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modu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eve a funcionalidade do circu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terminais (pinos, portas) de entrada e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 Um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ionalidade: Realizar operações progra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rtas de entrada/saída: conector para teclado, mouse, conector VGA, conector U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947A-39E7-4020-8D4E-BD0945694E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/ comentário de uma linha 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* outra forma de comentário de uma linha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* inicio de comentário com múltiplas lin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o text é ign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ina com a linha abai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mal, hexadecimal, b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'd33, 8'hA6, 4'b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sized decim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ze bas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de underlines, +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9648-1749-44A0-9C54-C86413A869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6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 fontScale="91000"/>
          </a:bodyPr>
          <a:p>
            <a:pPr marL="300240" indent="-30024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deias de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"Delimite usando aspas numa mesma linh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 limitados a 1024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...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...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 ...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er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eiro caractere de um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ão pode ser um díg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0">
              <a:lnSpc>
                <a:spcPct val="101000"/>
              </a:lnSpc>
              <a:spcBef>
                <a:spcPts val="24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1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300" spc="-1" strike="noStrike">
                <a:solidFill>
                  <a:srgbClr val="003399"/>
                </a:solidFill>
                <a:latin typeface="Arial"/>
              </a:rPr>
              <a:t>Verilog diferencia letras maiúsculas de minúscul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F0C4-DA21-4EF6-A6EB-6E2006E4AD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381816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ição g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module_name ( port_lis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variable declar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description of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700280"/>
            <a:ext cx="43434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bab600"/>
              </a:buClr>
              <a:buFont typeface="Wingdings" charset="2"/>
              <a:buChar char="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module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HalfAdder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3333cc"/>
                </a:solidFill>
                <a:latin typeface="Lucida Console"/>
              </a:rPr>
              <a:t>input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A, 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3333cc"/>
                </a:solidFill>
                <a:latin typeface="Lucida Console"/>
              </a:rPr>
              <a:t>output logic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Sum, Car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always_comb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Sum &lt;= A ^ 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//^ denotes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Carry &lt;= A &amp; 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Lucida Console"/>
              </a:rPr>
              <a:t>// &amp; denote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930920" y="1918800"/>
            <a:ext cx="1440" cy="3886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</a:rPr>
              <a:t>Hardware Description Language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(HDL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7ED8-7EBB-4F1C-94A6-8DB06929D9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58560" y="1600200"/>
            <a:ext cx="7885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m du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550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initi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Executa uma única vez no início da simulação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ÃO sintetiz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1000"/>
              </a:lnSpc>
              <a:spcBef>
                <a:spcPts val="550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always_comb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Executa repetidamente, sintetiz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63240" y="4094280"/>
            <a:ext cx="2817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83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initial 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Sum &lt;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Carry &lt;=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15760" y="4094280"/>
            <a:ext cx="34876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83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Lucida Console"/>
              </a:rPr>
              <a:t>always_comb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Sum &lt;= A ^ 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Carry &lt;= A &amp; 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9160" y="4086360"/>
            <a:ext cx="1440" cy="24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Construções Procedur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1301-3ED2-4BFE-8519-59EB2EC73A1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28600" bIns="46800" anchor="t">
            <a:normAutofit/>
          </a:bodyPr>
          <a:p>
            <a:pPr marL="330120" indent="-330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rutu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representa circuitos lógicos usando primitivas da linguagem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1000"/>
              </a:lnSpc>
              <a:spcBef>
                <a:spcPts val="2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1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not</a:t>
            </a:r>
            <a:r>
              <a:rPr b="1" lang="en-GB" sz="2200" spc="-1" strike="noStrike">
                <a:solidFill>
                  <a:srgbClr val="008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n1(sel_n, se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and</a:t>
            </a:r>
            <a:r>
              <a:rPr b="1" lang="en-GB" sz="2200" spc="-1" strike="noStrike">
                <a:solidFill>
                  <a:srgbClr val="008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a1(sel_b, b, sel_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and</a:t>
            </a:r>
            <a:r>
              <a:rPr b="1" lang="en-GB" sz="2200" spc="-1" strike="noStrike">
                <a:solidFill>
                  <a:srgbClr val="008000"/>
                </a:solidFill>
                <a:latin typeface="Lucida Consol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a2(sel_a, a, sel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200" spc="-1" strike="noStrike">
                <a:solidFill>
                  <a:srgbClr val="008000"/>
                </a:solidFill>
                <a:latin typeface="Lucida Console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Lucida Console"/>
              </a:rPr>
              <a:t>o1(out, sel_b, sel_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540520" y="4653000"/>
            <a:ext cx="5151600" cy="1882800"/>
            <a:chOff x="2540520" y="4653000"/>
            <a:chExt cx="5151600" cy="18828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3463560" y="5091120"/>
              <a:ext cx="8762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682880" y="4986360"/>
              <a:ext cx="8632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4682880" y="6053400"/>
              <a:ext cx="86328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6197400" y="5529600"/>
              <a:ext cx="8632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311360" y="5319720"/>
              <a:ext cx="38052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63560" y="5332680"/>
              <a:ext cx="1226880" cy="105084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0"/>
                  </a:moveTo>
                  <a:lnTo>
                    <a:pt x="0" y="672"/>
                  </a:lnTo>
                  <a:lnTo>
                    <a:pt x="768" y="67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92040" y="5319720"/>
              <a:ext cx="380880" cy="1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20960" y="5234040"/>
              <a:ext cx="685440" cy="4572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0"/>
                  </a:moveTo>
                  <a:lnTo>
                    <a:pt x="240" y="0"/>
                  </a:lnTo>
                  <a:lnTo>
                    <a:pt x="240" y="288"/>
                  </a:lnTo>
                  <a:lnTo>
                    <a:pt x="432" y="28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520960" y="5854680"/>
              <a:ext cx="685440" cy="4464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0"/>
                  </a:moveTo>
                  <a:lnTo>
                    <a:pt x="240" y="0"/>
                  </a:lnTo>
                  <a:lnTo>
                    <a:pt x="240" y="288"/>
                  </a:lnTo>
                  <a:lnTo>
                    <a:pt x="432" y="28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11360" y="6224760"/>
              <a:ext cx="380520" cy="1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11360" y="5158080"/>
              <a:ext cx="380520" cy="1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0520" y="5072400"/>
              <a:ext cx="5785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09560" y="4653000"/>
              <a:ext cx="368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4240" y="5758200"/>
              <a:ext cx="3513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28280" y="5538960"/>
              <a:ext cx="6638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1320" y="5338800"/>
              <a:ext cx="55728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50360" y="4957920"/>
              <a:ext cx="5526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25600" y="6253200"/>
              <a:ext cx="5479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sel_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61920" y="5177160"/>
              <a:ext cx="36828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9999"/>
                  </a:solidFill>
                  <a:latin typeface="Tahoma"/>
                </a:rPr>
                <a:t>n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2320" y="5081760"/>
              <a:ext cx="3589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9999"/>
                  </a:solidFill>
                  <a:latin typeface="Tahoma"/>
                </a:rPr>
                <a:t>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80880" y="6177240"/>
              <a:ext cx="3589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9999"/>
                  </a:solidFill>
                  <a:latin typeface="Tahoma"/>
                </a:rPr>
                <a:t>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44720" y="5643720"/>
              <a:ext cx="36216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9999"/>
                  </a:solidFill>
                  <a:latin typeface="Tahoma"/>
                </a:rPr>
                <a:t>o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DL - Estilos de Descri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F647-401D-4CAE-AB37-9794AC2CA81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10-06T00:30:14Z</dcterms:modified>
  <cp:revision>201</cp:revision>
  <dc:subject/>
  <dc:title>Organização e Arquitetura de Computadores I</dc:title>
</cp:coreProperties>
</file>