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36E5-572E-4002-96B4-9D41ED039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4BA0-979B-43D5-80D7-EA76262A8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5AAB-0622-4BCB-BA20-1AC7A3EE0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AAB-8943-421D-B99B-CA0B6B873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5D4D-0FC6-4623-B2B8-FEFB8FB96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3439-C9B3-4837-AB6C-B6A20E7AC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2943-9538-43D5-A841-C845F4CC8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2E60-526D-49D1-9A3B-61D10A53F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21CD-AB0C-48A2-BD7C-E5AC8BC12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555D-11E6-4599-B7EA-9F5835051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B4A5-5D90-4BE3-A70B-E2179965C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DA96-451C-48ED-9B45-E6CB3A7ED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826E-FF4E-4B13-97EB-D63D60F4264D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Básica de Computador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045040"/>
            <a:ext cx="650736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6360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Penguin"/>
              </a:rPr>
              <a:t> </a:t>
            </a:r>
            <a:r>
              <a:rPr b="1" lang="pt-BR" sz="4000" spc="-1" strike="noStrike">
                <a:solidFill>
                  <a:srgbClr val="eaeaea"/>
                </a:solidFill>
                <a:latin typeface="Penguin"/>
              </a:rPr>
              <a:t>Organização básica de computadores (Parte II, Adicional)</a:t>
            </a:r>
            <a:r>
              <a:rPr b="1" lang="pt-BR" sz="4800" spc="-1" strike="noStrike">
                <a:solidFill>
                  <a:srgbClr val="ffff99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104840" y="399960"/>
            <a:ext cx="718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/>
          </p:nvPr>
        </p:nvSpPr>
        <p:spPr>
          <a:xfrm>
            <a:off x="142920" y="1352520"/>
            <a:ext cx="8810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Arial"/>
              </a:rPr>
              <a:t>Memória R/W - </a:t>
            </a:r>
            <a:r>
              <a:rPr b="1" i="1" lang="pt-BR" sz="2600" spc="-1" strike="noStrike">
                <a:solidFill>
                  <a:srgbClr val="ffcc00"/>
                </a:solidFill>
                <a:latin typeface="Arial"/>
              </a:rPr>
              <a:t>Read and Write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emória de leitura e escrita, de acesso aleatório e volátil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ode ser 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estátic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RAM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inâmic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RAM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745200" indent="-2595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uso de circuitos transistorizados (flip-flops) mantém a informação enquanto estiver energizada,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muito rápida (~ns), usada tipicamente como memória cach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5200" indent="-2595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uso de capacitores (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1 transistor e 1 capacitor por bit, não usa flip-flops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necessita de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efresh,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alta capacidade de armazenamento (&gt; densidade), mais lentas, usadas tipicamente como memória principal.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volução: FPM 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Fast Page Mode) assíncrona e mais antig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EDO 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Extended Data Output), também assíncron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SDR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(memórias Síncronas), etc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D53D-26BA-40E7-B08C-88B548C294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/>
          </p:nvPr>
        </p:nvSpPr>
        <p:spPr>
          <a:xfrm>
            <a:off x="166680" y="1162080"/>
            <a:ext cx="8810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Arial"/>
              </a:rPr>
              <a:t>Memória R/W - </a:t>
            </a:r>
            <a:r>
              <a:rPr b="1" i="1" lang="pt-BR" sz="2600" spc="-1" strike="noStrike">
                <a:solidFill>
                  <a:srgbClr val="ffcc00"/>
                </a:solidFill>
                <a:latin typeface="Arial"/>
              </a:rPr>
              <a:t>Read and Write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DDR ou SDRAM-II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ouble Data Rate S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É uma memória SDRAM muito mais avançada e que consegue trabalhar com o dobro do desempenho. Pode-se encontrá-la, por exemplo, em placas-mãe equipadas com o processador AMD K7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RDRAM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ambus DRA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Baseada em protocolo, isto é, usa padrão de barramento proprietário. A arquitetura interna dos circuitos, é muito diferente das demais pois, permite a leitura e escrita de até 16 dados simultaneamente por circuito. Utilizadas, principalmente, em algumas máquinas de jogos e em aplicações gráficas muito intensivas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4158-CA1E-4DA2-995F-59F480D78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/>
          </p:nvPr>
        </p:nvSpPr>
        <p:spPr>
          <a:xfrm>
            <a:off x="257040" y="1409760"/>
            <a:ext cx="862992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0" algn="just"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b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. Uma vez gravada não pode mais ser alterada.  De acesso aleatório, não é volátil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is lenta que a R/W e mais  barat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 ser programada por máscara ("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mask programme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“- MROM) em fábrica. Devido ao alto custo da máscara somente se torna econômica em grandes quantidad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66720" y="5543640"/>
            <a:ext cx="7810560" cy="1066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MROM- O </a:t>
            </a:r>
            <a:r>
              <a:rPr b="1" i="1" lang="pt-BR" sz="1800" spc="-1" strike="noStrike">
                <a:solidFill>
                  <a:srgbClr val="eaeaea"/>
                </a:solidFill>
                <a:latin typeface="Arial"/>
              </a:rPr>
              <a:t>firmware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era gravado durante a fabricação do circuito, com o auxílio de um filme fotográfico - máscara. As máscaras apresentam o inconveniente de serem caras e não permitem regravaçã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CCB3-36B2-4291-AF2E-884195E33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/>
          </p:nvPr>
        </p:nvSpPr>
        <p:spPr>
          <a:xfrm>
            <a:off x="457200" y="1619280"/>
            <a:ext cx="82296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da geralmente para gravar programas que não se deseja permitir que o usuário possa alterar ou apagar (Ex.: 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asic Input Output Syste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icroprogramas de Memórias de Control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utros tip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PROM, EPROM,  EEPROM e Flash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C563-EDA2-44CB-BA30-8C72E57B8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/>
          </p:nvPr>
        </p:nvSpPr>
        <p:spPr>
          <a:xfrm>
            <a:off x="409680" y="152352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Programmable Read Only Memory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, programável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OM programável com máquinas adequadas (chamadas queimadores de PROM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Geralmente é comprada "virgem" (sem nada gravado), sendo muito utilizada no processo de testar programas no lugar da ROM, ou sempre que se queira produzir ROM em quantidades pequen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vez programada (em fábrica ou não), não pode mais ser alterad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67CF-E207-4D81-8BFE-DBC02B01FA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/>
          </p:nvPr>
        </p:nvSpPr>
        <p:spPr>
          <a:xfrm>
            <a:off x="409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PROM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rasable Programmable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emória apenas de leitura, programável (com queimadores de PROM) e apagável (com máquinas adequadas, à base de raios ultra-violeta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 utilização semelhante à da PROM, para testar programas no lugar da ROM, ou sempre que se queira produzir ROM em quantidades pequenas, com a vantagem de poder ser apagada e reutilizad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36" name="" descr=""/>
          <p:cNvPicPr/>
          <p:nvPr/>
        </p:nvPicPr>
        <p:blipFill>
          <a:blip r:embed="rId2"/>
          <a:stretch/>
        </p:blipFill>
        <p:spPr>
          <a:xfrm>
            <a:off x="6362640" y="1523880"/>
            <a:ext cx="1828800" cy="16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D3F1-F975-408A-A0B5-EE616F64C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/>
          </p:nvPr>
        </p:nvSpPr>
        <p:spPr>
          <a:xfrm>
            <a:off x="361440" y="1371600"/>
            <a:ext cx="84963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EPROM (ou E2PROM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lectrically Erasable Programmable Read Only Memo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emória apenas de leitura, programável e eletronicamente alterável.  Também chamada EAROM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lectrically Alterabl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ROM)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PROM apagável - processo eletrônico, sob controle da UCP (equipamento e programas adequados), menor e mais rápida que a EPROM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is cara, geralmente utilizada em dispositivos aos quais se deseja permitir a alteração, via modem (carga de novas versões de programas à distância ou possibilitar a reprogramação dinâmica de funções específicas de um programa, geralmente relativas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.ex., reconfiguração de teclado, programação de terminal, etc)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9564-4A40-42A9-8BB2-9A95884A0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/>
          </p:nvPr>
        </p:nvSpPr>
        <p:spPr>
          <a:xfrm>
            <a:off x="314280" y="1333080"/>
            <a:ext cx="85154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OM Flash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uncionamento similar ao da EEPROM – conteúdo total ou parcial da memória pode ser apagado normalmente por um processo de escrit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pagadas e regravadas por blocos (o apagamento não pode ser efetuado ao nível de byte como na EEPROM), alta capacidade de armazenamento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termo flash foi imaginado devido à elevada velocidade de apagamento dessas memórias em comparação com as antigas EPROM e EEPROM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al para várias aplicações portátei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câmeras digitais, palmtop, assistentes digitais portáteis, aparelhos de música digital ou telefones celulares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93E6-CCD6-4262-87BD-6C2B764795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/>
          </p:nvPr>
        </p:nvSpPr>
        <p:spPr>
          <a:xfrm>
            <a:off x="361800" y="1771200"/>
            <a:ext cx="842040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móri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CMOS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- (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Complementary Metal Oxide Semiconduct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ipo especial de memória para armazenamento das opções essenciais de configuração de in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cializa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quantidade de memória instalada, data, hor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imentação via bateri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áquinas Macintosh </a:t>
            </a:r>
            <a:r>
              <a:rPr b="1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RAM de parâmetr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04AD-AA75-435C-85E9-CD5CD0AFF1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"/>
          <p:cNvSpPr/>
          <p:nvPr/>
        </p:nvSpPr>
        <p:spPr>
          <a:xfrm>
            <a:off x="419040" y="1257480"/>
            <a:ext cx="847728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mórias de mei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abricadas de modo a armazenar informações sob a forma de campos magné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vido à natureza eletromecânica de seus componentes e à tecnologia de construção em comparação com memórias de semicondutores, esse tipo é mais barato, permitindo armazenamento de grande quantidade de infor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todo de acesso às informações 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qüenci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disquetes, discos rígidos e fitas magnéticas (de carretel ou de cartuch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6AB4-1840-4F60-87B5-631B01EB70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324000" y="1294920"/>
            <a:ext cx="849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mória de um computad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ubsistema - construída de vários componentes (vários tipos diferentes de memória) interligados e integrados, com o objetivo de armazenar e recuperar informaçõ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nceitos Importan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paci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olatili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cnologia de fabricaçã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rariedad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ust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936-FBFB-4F8A-AB9E-AF420EC3FC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"/>
          <p:cNvSpPr/>
          <p:nvPr/>
        </p:nvSpPr>
        <p:spPr>
          <a:xfrm>
            <a:off x="380880" y="1658880"/>
            <a:ext cx="861084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mórias de meio óp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que utilizam um feixe de luz para “marcar” o valor (0 ou 1) de cada dado em sua superfíci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D-ROM (leitur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D-RW (leitura e escri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508C-E066-4538-A734-E8C74577EE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"/>
          <p:cNvSpPr/>
          <p:nvPr/>
        </p:nvSpPr>
        <p:spPr>
          <a:xfrm>
            <a:off x="495360" y="1428840"/>
            <a:ext cx="832464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dica o conceito de tempo de permanência da informação em um dado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lassificaçã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mazenamento “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erman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.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: Discos, disque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mazenamento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ransitór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temporário).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: registradores, memória cache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815D-749A-43BC-9FE9-B3711EF185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"/>
          <p:cNvSpPr/>
          <p:nvPr/>
        </p:nvSpPr>
        <p:spPr>
          <a:xfrm>
            <a:off x="390600" y="1390680"/>
            <a:ext cx="83628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astante variado em função de diversos fato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ia de fabr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clo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antidade de bits em um certo espaço físico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ma boa unidade de medida de custo é o preço por byte armazenado, em vez do custo total da memória em si.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BEBD-72CD-4BD1-A513-4E79C5D8B0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/>
          </p:nvPr>
        </p:nvSpPr>
        <p:spPr>
          <a:xfrm>
            <a:off x="361440" y="1600200"/>
            <a:ext cx="83631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dica quanto tempo a memória gasta para colocar uma informação no barramento de dados após uma determinada posição ter sido endereçad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É um dos parâmetros que pode medir o desempenho da memória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Denominação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: tempo de acesso para leitura (ou tempo de leitura)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94D7-6A56-4FE7-95FC-A49B08A6C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/>
          </p:nvPr>
        </p:nvSpPr>
        <p:spPr>
          <a:xfrm>
            <a:off x="409680" y="1504440"/>
            <a:ext cx="8324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o de acess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pendente do modo como o sistema de memória é construído e da velocidade dos seus circuit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mórias eletrônica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-  igual, independentemente da distância física entre o local de um acesso e o local do próximo acesso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esso aleatório (direto)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eletromecânic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discos, fitas, ..) - tempo de acesso varia conforme a distância física entre dois acessos consecutivos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esso seqüenci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510C-02B1-4E0F-BB8C-D709194C2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/>
          </p:nvPr>
        </p:nvSpPr>
        <p:spPr>
          <a:xfrm>
            <a:off x="285480" y="1447920"/>
            <a:ext cx="8591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apacidad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Quantidade de informação que pode ser armazenada em uma memória;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nidade de medida mais comu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y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podem ser usadas outras unidades como células (no caso de memória principal ou cache),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tores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no caso de discos) 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t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no caso de registradores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pendendo do tamanho da memória, isto é, de sua capacidade, indica-se o valor numérico total de elementos de forma simplificada, através da inclusão de K (kilo), M (mega), G (giga) ou T (tera).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EABE-61F3-43BB-80AD-49067FCC12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/>
          </p:nvPr>
        </p:nvSpPr>
        <p:spPr>
          <a:xfrm>
            <a:off x="514440" y="1523520"/>
            <a:ext cx="81914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atilidad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mórias podem ser do tip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mória não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retém a informação armazenada quando a energia elétrica é desligada.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Discos, Fit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mória voláti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perde a informação armazenada na ausência de energia elétrica.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Registradores, Memória Principal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possível manter a energia em  uma memória originalmente não volátil - uso de baterias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D215-1859-460C-9D88-E84D32380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"/>
          <p:cNvSpPr/>
          <p:nvPr/>
        </p:nvSpPr>
        <p:spPr>
          <a:xfrm>
            <a:off x="399960" y="1714680"/>
            <a:ext cx="73152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ecnologias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meio magné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emórias de meio óp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0ABA-95C6-48C6-A9B9-8BF0B5451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"/>
          <p:cNvSpPr/>
          <p:nvPr/>
        </p:nvSpPr>
        <p:spPr>
          <a:xfrm>
            <a:off x="399960" y="1417680"/>
            <a:ext cx="834408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positivos fabricados com circuitos eletrônicos e baseados em semicondut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ápidas e relativamente caras, se comparadas com outros tip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á várias tecnologias específicas, cada uma com suas vantagens, desvantagens, velocidade, custo, etc.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628F-0D23-4E3C-9A1C-D3B1AB0B3A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assificação de Memórias Semicondutora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953640" y="1790640"/>
            <a:ext cx="7292520" cy="4591800"/>
            <a:chOff x="953640" y="1790640"/>
            <a:chExt cx="7292520" cy="4591800"/>
          </a:xfrm>
        </p:grpSpPr>
        <p:sp>
          <p:nvSpPr>
            <p:cNvPr id="3820" name=""/>
            <p:cNvSpPr/>
            <p:nvPr/>
          </p:nvSpPr>
          <p:spPr>
            <a:xfrm>
              <a:off x="953640" y="4076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RA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097000" y="2552400"/>
              <a:ext cx="27212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L/E - Leitura/Escr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(R/W - Read/Write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ROM (Somente Leitura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(Read Only Memory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298480" y="2095200"/>
              <a:ext cx="865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822000" y="2552400"/>
              <a:ext cx="1424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FPM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DO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EDO 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S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373720" y="4762440"/>
              <a:ext cx="117144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714680" y="2171520"/>
              <a:ext cx="228600" cy="4114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915080" y="1790640"/>
              <a:ext cx="228600" cy="2286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438960" y="247644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067360" y="4609800"/>
              <a:ext cx="228600" cy="1752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A7F9-49F6-4379-9EA2-9FB87A27F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 Macedo Fechine</cp:lastModifiedBy>
  <dcterms:modified xsi:type="dcterms:W3CDTF">2005-03-08T21:33:11Z</dcterms:modified>
  <cp:revision>1023</cp:revision>
  <dc:subject/>
  <dc:title>Org. e Arq. de Computadores</dc:title>
</cp:coreProperties>
</file>