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99E8-5A02-433F-A313-F76E3BDF1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45EF-CB59-4CBA-B57C-AC2EA3D82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C86C-2D46-4959-8AF6-7B17718BC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A6ED-F7B3-4CA0-B530-1F8A66C77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1F765-F8C9-4E8A-A460-20ACE2F5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23554-51C4-4E49-9284-29DF2A0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41439-13D7-4A47-AC5C-D2D5FCB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6FC39-F927-4487-80BE-9C9583D8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607EB-E4B1-4A78-BA00-A61829A3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2B5A0-7A8C-4281-9BDF-DEA06E8C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F4EC5-4841-46A4-B6FE-9203A5C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AC484-6A2B-4B4E-A460-0D2DCAFE8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B6F66-17CE-4F42-B80D-08EDFFB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FD8EA-6E60-4A8C-A586-8ED0B5D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AA8C7-A877-4685-9975-E9999C13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15A1-823F-4ABB-A1B4-CB1ACCC2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5B2CB-9D4A-4519-96AC-6D184844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19F9-E17A-4E30-A8D2-E5819C579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EB5E-8382-4A4E-8C6E-DB42DD682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ACE9-071A-4DBB-8E25-CF368D403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6277-8264-4A83-8379-C01EBBC65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7301-A50F-441D-AEA6-502A5C30E3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0DCB-D844-4134-BE89-F2633A2EE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9353-07E9-4E4E-BEF8-2872278B3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B67-0AE0-41F2-BB3D-0A4E51CD27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165360"/>
            <a:ext cx="647640" cy="576360"/>
            <a:chOff x="250920" y="616536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58C9-F4EC-44E0-BF44-17F9964988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34920" y="3499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Circuitos Lógicos Combinaciona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(Parte III)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1484280" y="239868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 Lógico do Somador Comple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5446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 de Bloco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79760" y="5218200"/>
            <a:ext cx="2743200" cy="1569960"/>
            <a:chOff x="4379760" y="5218200"/>
            <a:chExt cx="2743200" cy="1569960"/>
          </a:xfrm>
        </p:grpSpPr>
        <p:pic>
          <p:nvPicPr>
            <p:cNvPr id="217" name="somadorcompletobloco" descr=""/>
            <p:cNvPicPr/>
            <p:nvPr/>
          </p:nvPicPr>
          <p:blipFill>
            <a:blip r:embed="rId1"/>
            <a:stretch/>
          </p:blipFill>
          <p:spPr>
            <a:xfrm>
              <a:off x="4379760" y="5218200"/>
              <a:ext cx="2743200" cy="15699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5979960" y="6284880"/>
                  <a:ext cx="304560" cy="2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5217840" y="6361200"/>
                  <a:ext cx="27000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227480" y="1700280"/>
            <a:ext cx="3733920" cy="339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B1E4-FDA3-4B26-8B15-B4325B9766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ndo-se os blocos do meio somador e do somador completo em série, pode-se obter somadores de vários bit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omador de 2 números de m bits (m=n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03280" y="6021360"/>
            <a:ext cx="712944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circuito também pode ser implementado apenas com somadores comple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835280" y="3068640"/>
            <a:ext cx="6705360" cy="2693880"/>
            <a:chOff x="1835280" y="3068640"/>
            <a:chExt cx="6705360" cy="2693880"/>
          </a:xfrm>
        </p:grpSpPr>
        <p:pic>
          <p:nvPicPr>
            <p:cNvPr id="224" name="somadorcompleobn+1" descr=""/>
            <p:cNvPicPr/>
            <p:nvPr/>
          </p:nvPicPr>
          <p:blipFill>
            <a:blip r:embed="rId1"/>
            <a:stretch/>
          </p:blipFill>
          <p:spPr>
            <a:xfrm>
              <a:off x="1835280" y="3068640"/>
              <a:ext cx="6705360" cy="2693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783760" y="4657320"/>
                  <a:ext cx="29808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846600" y="4657320"/>
                  <a:ext cx="29772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83960" y="4657320"/>
                  <a:ext cx="29808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571880" y="4657320"/>
                  <a:ext cx="298080" cy="22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2579760" y="3900600"/>
                  <a:ext cx="263880" cy="23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4402080" y="3900600"/>
                  <a:ext cx="263880" cy="23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6379560" y="3900600"/>
                  <a:ext cx="263880" cy="23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3CF3-B34F-44C6-8512-D114091B9C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6564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os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ara somar dois números, soma-se os algarismos dos números, coluna a coluna, transportando o "vai um" para a próxima coluna, quando for o ca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traçã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oma em complemento  (A - B = A + ( - B)) - No computador, a subtração é feita através de uma soma em comp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icaçã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pode ser obtida de duas formas: por somas sucessivas (por exemplo, A + A = 2A) e pela movimentação de bits (para a esquerd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mesmas propriedades da multiplicação, aplicadas no sentido contr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5954760"/>
            <a:ext cx="7543800" cy="7038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computador pode realizar todas as operações aritméticas usando apenas soma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A25A-9791-4CEB-9974-9DD7FF825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600" spc="-1" strike="noStrike">
                <a:solidFill>
                  <a:srgbClr val="000000"/>
                </a:solidFill>
                <a:latin typeface="Penguin"/>
              </a:rPr>
              <a:t>Unidade Lógica e Aritmé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ia dos computadores tem um único circuito para realizar as operações AND, OR e soma, operações essas que são realizadas sobre duas palavras d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geral, esse circuito que trabalha com palavr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bits é construído a parti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ircuitos idênticos, cada um responsável por uma posição individual de bits – Unidade Lógica e Aritmética ou Unidade Aritmética Lógica (ULA ou U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82DF-5A3C-4FD5-9081-30A4A67920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3344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ULA" descr=""/>
          <p:cNvPicPr/>
          <p:nvPr/>
        </p:nvPicPr>
        <p:blipFill>
          <a:blip r:embed="rId1"/>
          <a:stretch/>
        </p:blipFill>
        <p:spPr>
          <a:xfrm>
            <a:off x="1351080" y="285840"/>
            <a:ext cx="6873840" cy="6019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059280" y="634536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AL de 1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FC8C9-0315-411E-8628-F6D2DB17F2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58920" y="1916280"/>
            <a:ext cx="7812000" cy="1871640"/>
            <a:chOff x="1258920" y="1916280"/>
            <a:chExt cx="7812000" cy="187164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258920" y="1916280"/>
              <a:ext cx="7812000" cy="18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43" name=""/>
            <p:cNvSpPr/>
            <p:nvPr/>
          </p:nvSpPr>
          <p:spPr>
            <a:xfrm>
              <a:off x="1977840" y="2853000"/>
              <a:ext cx="50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09800" y="2853000"/>
              <a:ext cx="50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41760" y="2853000"/>
              <a:ext cx="5079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PlaceHolder 1"/>
            <p:cNvSpPr>
              <a:spLocks noGrp="1"/>
            </p:cNvSpPr>
            <p:nvPr>
              <p:ph/>
            </p:nvPr>
          </p:nvSpPr>
          <p:spPr>
            <a:xfrm>
              <a:off x="1977840" y="2924280"/>
              <a:ext cx="433440" cy="3603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txBody>
            <a:bodyPr anchor="t">
              <a:normAutofit fontScale="96000"/>
            </a:bodyPr>
            <a:p>
              <a:pPr marL="329040" indent="0">
                <a:lnSpc>
                  <a:spcPct val="9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11320" y="2943360"/>
              <a:ext cx="408240" cy="36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43280" y="2943360"/>
              <a:ext cx="406440" cy="36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2962440"/>
              <a:ext cx="407880" cy="363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22680" y="2980080"/>
              <a:ext cx="408240" cy="365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37360" y="2999160"/>
              <a:ext cx="407880" cy="363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68960" y="2980080"/>
              <a:ext cx="406440" cy="365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34400" y="3016440"/>
              <a:ext cx="406440" cy="365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74560" y="2061000"/>
              <a:ext cx="406440" cy="36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03280" y="2348280"/>
              <a:ext cx="44136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47840" indent="-447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5560" y="2433960"/>
              <a:ext cx="13644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022480" y="106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58920" y="4149720"/>
            <a:ext cx="762948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ito UALs de 1 bit, conectadas para formar uma UAL de 8 bits. Não estão apresentados os sinais de inversão e de habil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5516640"/>
            <a:ext cx="7450200" cy="916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sinal INC tem utilidade nas operações de soma. Quando presente incrementa o resultado de 1 unidade, tornando possível o cálculo de somas como A+1 e A+B+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9630-6059-45F4-B5A5-4428141E79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Funçõ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remento e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plicação e Divisão p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plicação por um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enchimento com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ten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46A90-C48C-4DD7-8216-3D05168EE9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84464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s de Circuitos Lógicos Combinacionais (Circuitos Aritmét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lo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dade Lógica e Aritm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7D50-2369-43EC-87C9-82FCB34758B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58920" y="1700280"/>
            <a:ext cx="76341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nguin"/>
              </a:rPr>
              <a:t>Deslo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ssibilitam deslocamentos, para a esquerda ou para a direita, de um número binári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85" r="0" b="0"/>
          <a:stretch/>
        </p:blipFill>
        <p:spPr>
          <a:xfrm>
            <a:off x="1252440" y="2997360"/>
            <a:ext cx="778356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108B-72F7-4AEA-992D-06867FDA4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31640" y="1988640"/>
            <a:ext cx="7435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locador de 1 bit para a esquerda/dir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adas: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ída (entrada deslocada de um bit): 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ha de controle: C – determina a direção do deslocamento (0 – para a esquerda, 1 – para a dire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4152-EE3A-434F-9FF3-5FD14B714D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292720" y="4005360"/>
            <a:ext cx="3124080" cy="1981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32000" y="1988640"/>
            <a:ext cx="7619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Penguin"/>
                <a:ea typeface="Arial"/>
              </a:rPr>
              <a:t>Somadores Binários</a:t>
            </a:r>
            <a:r>
              <a:rPr b="0" lang="en-US" sz="1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35640" y="4365720"/>
                <a:ext cx="27446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-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51640" y="5229360"/>
            <a:ext cx="24382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4221000"/>
            <a:ext cx="457200" cy="167652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0" y="3068640"/>
            <a:ext cx="42670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madores  genér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eio somador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half ad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somador comple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ull add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4221000"/>
            <a:ext cx="533160" cy="1676520"/>
          </a:xfrm>
          <a:prstGeom prst="ellipse">
            <a:avLst/>
          </a:prstGeom>
          <a:noFill/>
          <a:ln cap="sq"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2130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 de dois números (A e B) de n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B7B7-1CB7-48DD-B8FD-140FBC53B4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31640" y="198864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io So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86440" y="328464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  e 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218200" y="4199040"/>
                <a:ext cx="294012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 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36560" y="4122720"/>
            <a:ext cx="3429000" cy="17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862A-8AC4-4F09-BFC1-15E38C3F5E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25509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rcuito Lógico do Meio Somado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31880" y="5446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agrama de Bloco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88000" y="5222880"/>
            <a:ext cx="2666880" cy="1519200"/>
            <a:chOff x="4788000" y="5222880"/>
            <a:chExt cx="2666880" cy="1519200"/>
          </a:xfrm>
        </p:grpSpPr>
        <p:pic>
          <p:nvPicPr>
            <p:cNvPr id="124" name="meiosomadorbloco" descr=""/>
            <p:cNvPicPr/>
            <p:nvPr/>
          </p:nvPicPr>
          <p:blipFill>
            <a:blip r:embed="rId1"/>
            <a:stretch/>
          </p:blipFill>
          <p:spPr>
            <a:xfrm>
              <a:off x="4788000" y="5222880"/>
              <a:ext cx="2666880" cy="1519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6388200" y="6213600"/>
                  <a:ext cx="30456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146480" y="1712880"/>
            <a:ext cx="4168800" cy="33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D6E5-4074-4EFB-BDAB-65CB60E02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io So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2708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implementação (portas NAN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835280" y="4005360"/>
            <a:ext cx="2134800" cy="849240"/>
            <a:chOff x="1835280" y="4005360"/>
            <a:chExt cx="2134800" cy="849240"/>
          </a:xfrm>
        </p:grpSpPr>
        <p:sp>
          <p:nvSpPr>
            <p:cNvPr id="131" name=""/>
            <p:cNvSpPr/>
            <p:nvPr/>
          </p:nvSpPr>
          <p:spPr>
            <a:xfrm>
              <a:off x="2603880" y="4502160"/>
              <a:ext cx="6904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72120" y="4442040"/>
              <a:ext cx="9525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8120" y="4427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59160" y="442764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0320" y="442764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13400" y="40449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6400" y="40449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520" y="40449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1960" y="4044960"/>
              <a:ext cx="256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01920" y="4044960"/>
              <a:ext cx="119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35280" y="4044960"/>
              <a:ext cx="198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10120" y="449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89440" y="44960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8640" y="44960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2720" y="449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0280" y="4464360"/>
              <a:ext cx="16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4800" y="438804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21520" y="4005360"/>
              <a:ext cx="206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67400" y="4005360"/>
              <a:ext cx="208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77560" y="4005360"/>
              <a:ext cx="282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502520" y="3573360"/>
            <a:ext cx="4116960" cy="1983600"/>
            <a:chOff x="4502520" y="3573360"/>
            <a:chExt cx="4116960" cy="1983600"/>
          </a:xfrm>
        </p:grpSpPr>
        <p:grpSp>
          <p:nvGrpSpPr>
            <p:cNvPr id="152" name=""/>
            <p:cNvGrpSpPr/>
            <p:nvPr/>
          </p:nvGrpSpPr>
          <p:grpSpPr>
            <a:xfrm>
              <a:off x="7572240" y="3605040"/>
              <a:ext cx="396000" cy="384120"/>
              <a:chOff x="7572240" y="3605040"/>
              <a:chExt cx="396000" cy="384120"/>
            </a:xfrm>
          </p:grpSpPr>
          <p:sp>
            <p:nvSpPr>
              <p:cNvPr id="153" name=""/>
              <p:cNvSpPr/>
              <p:nvPr/>
            </p:nvSpPr>
            <p:spPr>
              <a:xfrm rot="5400000">
                <a:off x="7533720" y="3643200"/>
                <a:ext cx="384120" cy="307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92280" y="3759120"/>
                <a:ext cx="7596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310000" y="4495680"/>
              <a:ext cx="650160" cy="460440"/>
              <a:chOff x="5310000" y="4495680"/>
              <a:chExt cx="650160" cy="460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310000" y="4495680"/>
                <a:ext cx="566280" cy="460440"/>
              </a:xfrm>
              <a:prstGeom prst="flowChartDelay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78080" y="4686120"/>
                <a:ext cx="82080" cy="82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414840" y="4025880"/>
              <a:ext cx="650160" cy="1400040"/>
              <a:chOff x="6414840" y="4025880"/>
              <a:chExt cx="650160" cy="14000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414840" y="4025880"/>
                <a:ext cx="650160" cy="460080"/>
                <a:chOff x="6414840" y="4025880"/>
                <a:chExt cx="650160" cy="460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414840" y="4025880"/>
                  <a:ext cx="566280" cy="460080"/>
                </a:xfrm>
                <a:prstGeom prst="flowChartDelay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82920" y="4215960"/>
                  <a:ext cx="82080" cy="8244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414840" y="4965480"/>
                <a:ext cx="650160" cy="460440"/>
                <a:chOff x="6414840" y="4965480"/>
                <a:chExt cx="650160" cy="4604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414840" y="4965480"/>
                  <a:ext cx="566280" cy="460440"/>
                </a:xfrm>
                <a:prstGeom prst="flowChartDelay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982920" y="5155920"/>
                  <a:ext cx="82080" cy="82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313400" y="4495680"/>
              <a:ext cx="650160" cy="460440"/>
              <a:chOff x="7313400" y="4495680"/>
              <a:chExt cx="650160" cy="460440"/>
            </a:xfrm>
          </p:grpSpPr>
          <p:sp>
            <p:nvSpPr>
              <p:cNvPr id="166" name=""/>
              <p:cNvSpPr/>
              <p:nvPr/>
            </p:nvSpPr>
            <p:spPr>
              <a:xfrm>
                <a:off x="7313400" y="4495680"/>
                <a:ext cx="566280" cy="460440"/>
              </a:xfrm>
              <a:prstGeom prst="flowChartDelay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881480" y="4686120"/>
                <a:ext cx="82080" cy="82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068960" y="4244760"/>
              <a:ext cx="232560" cy="347760"/>
              <a:chOff x="7068960" y="4244760"/>
              <a:chExt cx="232560" cy="3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7068960" y="424476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82720" y="459252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187760" y="424476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083360" y="4849560"/>
              <a:ext cx="232560" cy="347760"/>
              <a:chOff x="7083360" y="4849560"/>
              <a:chExt cx="232560" cy="347760"/>
            </a:xfrm>
          </p:grpSpPr>
          <p:sp>
            <p:nvSpPr>
              <p:cNvPr id="173" name=""/>
              <p:cNvSpPr/>
              <p:nvPr/>
            </p:nvSpPr>
            <p:spPr>
              <a:xfrm>
                <a:off x="7083360" y="519732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97120" y="484956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202160" y="484956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173640" y="4735440"/>
              <a:ext cx="232560" cy="347760"/>
              <a:chOff x="6173640" y="4735440"/>
              <a:chExt cx="232560" cy="347760"/>
            </a:xfrm>
          </p:grpSpPr>
          <p:sp>
            <p:nvSpPr>
              <p:cNvPr id="177" name=""/>
              <p:cNvSpPr/>
              <p:nvPr/>
            </p:nvSpPr>
            <p:spPr>
              <a:xfrm>
                <a:off x="6173640" y="473544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87400" y="508320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292440" y="473544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173640" y="4387680"/>
              <a:ext cx="232560" cy="347760"/>
              <a:chOff x="6173640" y="4387680"/>
              <a:chExt cx="232560" cy="347760"/>
            </a:xfrm>
          </p:grpSpPr>
          <p:sp>
            <p:nvSpPr>
              <p:cNvPr id="181" name=""/>
              <p:cNvSpPr/>
              <p:nvPr/>
            </p:nvSpPr>
            <p:spPr>
              <a:xfrm>
                <a:off x="6173640" y="473544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287400" y="4387680"/>
                <a:ext cx="11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292440" y="4387680"/>
                <a:ext cx="0" cy="3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 flipH="1">
              <a:off x="5958720" y="4735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292440" y="378756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287760" y="37875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78680" y="3797280"/>
              <a:ext cx="29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3640" y="4725720"/>
              <a:ext cx="29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844880" y="4116240"/>
              <a:ext cx="15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859280" y="5306760"/>
              <a:ext cx="154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025960" y="4116240"/>
              <a:ext cx="284760" cy="475920"/>
              <a:chOff x="5025960" y="4116240"/>
              <a:chExt cx="284760" cy="475920"/>
            </a:xfrm>
          </p:grpSpPr>
          <p:sp>
            <p:nvSpPr>
              <p:cNvPr id="192" name=""/>
              <p:cNvSpPr/>
              <p:nvPr/>
            </p:nvSpPr>
            <p:spPr>
              <a:xfrm>
                <a:off x="5025960" y="4116240"/>
                <a:ext cx="14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65280" y="4592160"/>
                <a:ext cx="14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71400" y="411624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020920" y="4854960"/>
              <a:ext cx="280440" cy="451800"/>
              <a:chOff x="5020920" y="4854960"/>
              <a:chExt cx="280440" cy="451800"/>
            </a:xfrm>
          </p:grpSpPr>
          <p:sp>
            <p:nvSpPr>
              <p:cNvPr id="196" name=""/>
              <p:cNvSpPr/>
              <p:nvPr/>
            </p:nvSpPr>
            <p:spPr>
              <a:xfrm>
                <a:off x="5020920" y="5306760"/>
                <a:ext cx="1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58080" y="4854960"/>
                <a:ext cx="1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5164200" y="4854960"/>
                <a:ext cx="0" cy="45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141520" y="4087800"/>
              <a:ext cx="55440" cy="568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60760" y="4354200"/>
              <a:ext cx="55440" cy="57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0760" y="4706640"/>
              <a:ext cx="55440" cy="5724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32160" y="5273640"/>
              <a:ext cx="55080" cy="5688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62" y="32"/>
                  </a:moveTo>
                  <a:lnTo>
                    <a:pt x="61" y="41"/>
                  </a:lnTo>
                  <a:lnTo>
                    <a:pt x="57" y="49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5" y="64"/>
                  </a:lnTo>
                  <a:lnTo>
                    <a:pt x="27" y="64"/>
                  </a:lnTo>
                  <a:lnTo>
                    <a:pt x="18" y="62"/>
                  </a:lnTo>
                  <a:lnTo>
                    <a:pt x="10" y="56"/>
                  </a:lnTo>
                  <a:lnTo>
                    <a:pt x="5" y="49"/>
                  </a:lnTo>
                  <a:lnTo>
                    <a:pt x="1" y="41"/>
                  </a:lnTo>
                  <a:lnTo>
                    <a:pt x="0" y="32"/>
                  </a:lnTo>
                  <a:lnTo>
                    <a:pt x="1" y="22"/>
                  </a:lnTo>
                  <a:lnTo>
                    <a:pt x="5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44" y="2"/>
                  </a:lnTo>
                  <a:lnTo>
                    <a:pt x="52" y="8"/>
                  </a:lnTo>
                  <a:lnTo>
                    <a:pt x="57" y="14"/>
                  </a:lnTo>
                  <a:lnTo>
                    <a:pt x="61" y="22"/>
                  </a:lnTo>
                  <a:lnTo>
                    <a:pt x="62" y="32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000000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02520" y="3890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02520" y="5097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36080" y="357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36080" y="450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E2D3-6B45-4EC7-ADB1-59B1B1119E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rojeto de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ircuitos Combinacion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dor Compl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00480" y="278136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abela-Verdade       e        Expressões Lógica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829480" y="3695760"/>
                <a:ext cx="28908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⊕</m:t>
                        </m:r>
                        <m:r>
                          <m:rPr>
                            <m:lit/>
                            <m:nor/>
                          </m:rPr>
                          <m:t xml:space="preserve">Ci                           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 C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 Ci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⊕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3657600" cy="2532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753160" y="4229280"/>
            <a:ext cx="30668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4852-A99D-42EF-AF6A-124298532E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9-04-29T01:05:40Z</dcterms:modified>
  <cp:revision>190</cp:revision>
  <dc:subject/>
  <dc:title>Organização e Arquitetura de Computadores I</dc:title>
</cp:coreProperties>
</file>