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1.png" ContentType="image/png"/>
  <Override PartName="/ppt/media/image10.wmf" ContentType="image/x-wmf"/>
  <Override PartName="/ppt/media/image18.wmf" ContentType="image/x-wmf"/>
  <Override PartName="/ppt/media/image17.png" ContentType="image/png"/>
  <Override PartName="/ppt/media/image4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E7C6-C699-4534-99DD-E649C7A41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1D84-879E-45EA-8579-532D2AECE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C913-B638-4164-8464-8DEDF08CE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0090-AFF1-4C20-834B-2099A6CA1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CB092-A614-41C0-8760-AC18F3B5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5F35A-56FC-4EC6-8191-FB4AB408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6DD6B-4078-485C-9084-4B08E133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9544-D4A4-42D0-B74C-5327D3F9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4CE5F-1037-4BDE-AFCA-8B9E64B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A5813-ACCC-4336-8C22-ED54A1B9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D4696-B8D2-4651-A60C-49260E0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BE0E-3D72-4CA1-9357-8BC441A17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785C6-2B09-4305-B9A3-205ABDA5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4993E-5279-4088-BD92-EEA20D7D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BF79D-6E47-4714-A34E-78A8218D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73C91-4872-479A-B0E2-6631437A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BE1E5-A262-4823-8F6F-B617F6AA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E214-4005-4B18-9C76-3C4228B7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4027-135A-4D6A-B759-72CD7DF2D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9349-9086-405C-BF02-4BFF8557A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FD89-53D0-4766-B5CB-41C504737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FB27-786A-42FD-B530-2D97D3017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4D63-11FE-4629-9BDB-C04243BA5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9F4A-59EF-42BC-97B0-2F6226780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608A-390E-49BE-8BF2-0F631B6D321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7003-A216-4ADC-9A43-51B8D97315C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407960" y="18601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es e Codificadores – outr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Uma grande parte dos sistemas digitais trabalha com níveis lógicos representando informações que, portanto, devem se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dific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vido à grande diversidade de informações e ao desenvolvimento da eletrônica digital, vários códigos foram criados (Código Gray, Código 2 em 5, Código em Anel, Código para acionament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ispla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, etc.) e, conseqüentemente, vários circuitos se fizeram necessários para a codificação e decodificação destas informa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40796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34D3-991B-405D-8721-1C586C0CFF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58920" y="163656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emplo: Decodificador BCD - Display de 7 seg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35240" y="2322360"/>
            <a:ext cx="7315200" cy="4419360"/>
            <a:chOff x="1335240" y="2322360"/>
            <a:chExt cx="7315200" cy="4419360"/>
          </a:xfrm>
        </p:grpSpPr>
        <p:sp>
          <p:nvSpPr>
            <p:cNvPr id="236" name=""/>
            <p:cNvSpPr/>
            <p:nvPr/>
          </p:nvSpPr>
          <p:spPr>
            <a:xfrm>
              <a:off x="1335240" y="2322360"/>
              <a:ext cx="7315200" cy="4419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2783160" y="2550960"/>
            <a:ext cx="4267080" cy="6858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83160" y="2550960"/>
                      <a:ext cx="42670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9" name="tab2" descr=""/>
            <p:cNvPicPr/>
            <p:nvPr/>
          </p:nvPicPr>
          <p:blipFill>
            <a:blip r:embed="rId3">
              <a:lum contrast="18000"/>
            </a:blip>
            <a:srcRect l="0" t="0" r="0" b="84502"/>
            <a:stretch/>
          </p:blipFill>
          <p:spPr>
            <a:xfrm>
              <a:off x="1945080" y="5675040"/>
              <a:ext cx="539100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4"/>
            <a:stretch/>
          </p:blipFill>
          <p:spPr>
            <a:xfrm>
              <a:off x="7050240" y="3693960"/>
              <a:ext cx="1257480" cy="15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1716480" y="3389040"/>
              <a:ext cx="5398920" cy="22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12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9199-E634-4FFA-B4A9-28AD3E44A4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4925880" y="266760"/>
            <a:ext cx="4038480" cy="6347880"/>
            <a:chOff x="4925880" y="266760"/>
            <a:chExt cx="4038480" cy="6347880"/>
          </a:xfrm>
        </p:grpSpPr>
        <p:sp>
          <p:nvSpPr>
            <p:cNvPr id="244" name=""/>
            <p:cNvSpPr/>
            <p:nvPr/>
          </p:nvSpPr>
          <p:spPr>
            <a:xfrm>
              <a:off x="4925880" y="266760"/>
              <a:ext cx="4038480" cy="6324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1"/>
            <a:srcRect l="0" t="0" r="23188" b="0"/>
            <a:stretch/>
          </p:blipFill>
          <p:spPr>
            <a:xfrm>
              <a:off x="4925880" y="317160"/>
              <a:ext cx="4038480" cy="6297480"/>
            </a:xfrm>
            <a:prstGeom prst="rect">
              <a:avLst/>
            </a:prstGeom>
            <a:ln cap="sq" w="12600">
              <a:solidFill>
                <a:srgbClr val="000000"/>
              </a:solidFill>
              <a:miter/>
            </a:ln>
          </p:spPr>
        </p:pic>
      </p:grpSp>
      <p:sp>
        <p:nvSpPr>
          <p:cNvPr id="246" name=""/>
          <p:cNvSpPr/>
          <p:nvPr/>
        </p:nvSpPr>
        <p:spPr>
          <a:xfrm>
            <a:off x="925560" y="1371600"/>
            <a:ext cx="3924360" cy="459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23680" t="0" r="22670" b="0"/>
          <a:stretch/>
        </p:blipFill>
        <p:spPr>
          <a:xfrm>
            <a:off x="1001880" y="1523880"/>
            <a:ext cx="3951000" cy="45910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547640" y="33336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ela-verdade e circuito 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44600" y="6172200"/>
            <a:ext cx="337176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.: A=w, B=x, C=y, D=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49440" y="1523520"/>
            <a:ext cx="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5D6F-D984-46F7-80E0-393CED2AFB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 Código Gray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ódigo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68360" y="2492280"/>
            <a:ext cx="3168360" cy="3746160"/>
            <a:chOff x="2268360" y="2492280"/>
            <a:chExt cx="3168360" cy="3746160"/>
          </a:xfrm>
        </p:grpSpPr>
        <p:sp>
          <p:nvSpPr>
            <p:cNvPr id="254" name=""/>
            <p:cNvSpPr/>
            <p:nvPr/>
          </p:nvSpPr>
          <p:spPr>
            <a:xfrm>
              <a:off x="2649240" y="2526840"/>
              <a:ext cx="67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88040" y="2888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04720" y="2526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n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72120" y="2888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X Y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836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6836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68360" y="2492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6836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6836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8360" y="2492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7440" y="249228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7440" y="24922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86120" y="249228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86120" y="249228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1764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764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17640" y="2492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7640" y="2492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17640" y="2492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17640" y="2492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68360" y="2512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68360" y="2512080"/>
              <a:ext cx="144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17640" y="2512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7640" y="251208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064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94156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92120" y="3261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780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18720" y="3261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68200" y="3261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68360" y="3236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68360" y="3236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7440" y="32367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7440" y="32367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76040" y="32367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6040" y="32367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17640" y="3236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7640" y="3236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68360" y="3246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68360" y="324648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7640" y="3246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17640" y="324648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0280" y="36349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2120" y="3634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67800" y="3634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19440" y="363492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68360" y="3609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7440" y="360972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6040" y="360972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7640" y="3609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68360" y="3619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68360" y="36198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17640" y="3619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17640" y="36198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0640" y="40078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41200" y="400788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68160" y="40078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8360" y="3983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68360" y="3983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7440" y="398304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7440" y="39830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76040" y="398304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76040" y="398304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7640" y="3983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7640" y="3983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68360" y="3992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68360" y="399276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7640" y="3992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17640" y="399276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91000" y="43790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68520" y="437904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68200" y="4379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68360" y="4356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68360" y="4356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7440" y="43563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7440" y="43563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76040" y="43563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76040" y="43563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17640" y="4356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7640" y="4356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68360" y="4366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8360" y="436608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7640" y="4366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17640" y="436608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90280" y="4752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92120" y="4752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68520" y="4752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68200" y="4752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68360" y="4727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68360" y="4727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7440" y="47278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7440" y="47278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76040" y="47278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76040" y="47278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17640" y="4727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7640" y="4727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68360" y="4737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360" y="47376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7640" y="4737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17640" y="47376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90640" y="5125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41560" y="5125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2120" y="5125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8160" y="51256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8360" y="5100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68360" y="5100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7440" y="5100840"/>
              <a:ext cx="14796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7440" y="510084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76040" y="5100840"/>
              <a:ext cx="164124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76040" y="510084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7640" y="5100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7640" y="5100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8360" y="5110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68360" y="511092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7640" y="5110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17640" y="511092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1000" y="54986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800" y="549864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19440" y="549864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68360" y="5474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68360" y="5474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7440" y="54741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7440" y="54741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76040" y="54741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76040" y="54741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7640" y="5474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17640" y="5474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68360" y="5483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68360" y="548388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17640" y="5483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17640" y="548388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9064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41200" y="587016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780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18720" y="5870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68200" y="5870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68360" y="5847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68360" y="5847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7440" y="58474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7440" y="58474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76040" y="58474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76040" y="58474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17640" y="5847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7640" y="5847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68360" y="5857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8360" y="585720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836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68360" y="6218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836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6836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68360" y="6218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7440" y="621864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7440" y="62186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86120" y="621864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86120" y="621864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17640" y="5857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17640" y="585720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764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1764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7640" y="6218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17640" y="6218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7640" y="6218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17640" y="6218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15640" y="2518560"/>
              <a:ext cx="0" cy="36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588000" y="2922480"/>
            <a:ext cx="1003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=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Z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96000" y="4869000"/>
            <a:ext cx="29527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gestão de pas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6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initer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if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pressão 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0A6C-4BC6-4E66-9F3E-401B35224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leção de dados ou informação é uma opéração crítica em sistemas digitais e comput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racterísticas de um circuito selet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informações de entrada para as quais será feita a sele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aí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sinais de controle responsáveis por selecionar a informação de saí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ultiplexador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ircuitos lógicos que realizam sele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84004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1339920" y="288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A06B-542A-4621-B5E0-2C30CFAB9E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plexadores (MUX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ircuitos combinacionais que têm a final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 partir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su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onectando-a eletronicamente a su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nica saí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rcuito co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adas de dados, uma saída de dados 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s de controle para efetuar a seleção de uma das entradas d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4004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339920" y="288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210C-9276-46E7-B40A-5757DED593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835280" y="249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X 2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mux2-1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81024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1835280" y="3068640"/>
          <a:ext cx="2666880" cy="1514520"/>
        </p:xfrm>
        <a:graphic>
          <a:graphicData uri="http://schemas.openxmlformats.org/drawingml/2006/table">
            <a:tbl>
              <a:tblPr/>
              <a:tblGrid>
                <a:gridCol w="1371240"/>
                <a:gridCol w="129564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í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92200" y="218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11280" y="4797360"/>
            <a:ext cx="522144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93F2-CE13-4B1D-B068-976BBF4B0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35280" y="2492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UX 4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498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92200" y="2188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268360" y="2997360"/>
            <a:ext cx="5981760" cy="34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C836-7CA0-457B-B790-F678A57A2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695600" y="2279520"/>
            <a:ext cx="2762280" cy="1847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625760" y="2076480"/>
          <a:ext cx="3306600" cy="228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076480"/>
                    <a:ext cx="33066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1657440" y="4965840"/>
            <a:ext cx="3143160" cy="1695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plicação de MUX na Construção de Circuitos Combinacionai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1576440" y="4276800"/>
          <a:ext cx="8388360" cy="26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276800"/>
                    <a:ext cx="83883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5435640" y="1844640"/>
          <a:ext cx="3398760" cy="4719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1844640"/>
                    <a:ext cx="33987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1886040" y="1631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bela-ver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219480" y="4260960"/>
            <a:ext cx="0" cy="2400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2050920"/>
            <a:ext cx="0" cy="2095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CBFA-B25D-4E92-90A1-0258FC1FE64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ódigo Gray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ódigo Binário usando multiplex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124000" y="2708280"/>
            <a:ext cx="3168360" cy="3746160"/>
            <a:chOff x="2124000" y="2708280"/>
            <a:chExt cx="3168360" cy="3746160"/>
          </a:xfrm>
        </p:grpSpPr>
        <p:sp>
          <p:nvSpPr>
            <p:cNvPr id="454" name=""/>
            <p:cNvSpPr/>
            <p:nvPr/>
          </p:nvSpPr>
          <p:spPr>
            <a:xfrm>
              <a:off x="2504880" y="2742840"/>
              <a:ext cx="67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43680" y="3104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B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60360" y="274284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in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7760" y="3104280"/>
              <a:ext cx="794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X Y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400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2400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24000" y="2708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2400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2400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24000" y="270828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143080" y="270828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43080" y="27082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41760" y="270828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41760" y="270828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7328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7328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73280" y="2708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3280" y="270828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73280" y="27082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73280" y="270828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24000" y="2728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24000" y="2728080"/>
              <a:ext cx="144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73280" y="2728080"/>
              <a:ext cx="19080" cy="72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3280" y="2728080"/>
              <a:ext cx="1800" cy="72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4628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9720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47760" y="3477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2344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74360" y="347760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23840" y="34776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24000" y="3452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24000" y="3452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43080" y="34527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43080" y="34527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31680" y="34527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31680" y="34527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73280" y="34527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3280" y="34527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4000" y="3462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24000" y="346248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280" y="346248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73280" y="346248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45920" y="385092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47760" y="38509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23440" y="38509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75080" y="385092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24000" y="3825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43080" y="382572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31680" y="382572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73280" y="382572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4000" y="3835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24000" y="38358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73280" y="38358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273280" y="38358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46280" y="42238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96840" y="422388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3800" y="42238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24000" y="4199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24000" y="4199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43080" y="419904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43080" y="41990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31680" y="419904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31680" y="419904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73280" y="419904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73280" y="41990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24000" y="4208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24000" y="420876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73280" y="420876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73280" y="420876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46640" y="45950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24160" y="459504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23840" y="4595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24000" y="4572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24000" y="4572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3080" y="45723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43080" y="45723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1680" y="45723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31680" y="45723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73280" y="45723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3280" y="45723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24000" y="4582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124000" y="458208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273280" y="458208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73280" y="458208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45920" y="4968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47760" y="4968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24160" y="4968360"/>
              <a:ext cx="45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23840" y="49683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4000" y="4943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24000" y="4943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43080" y="49438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43080" y="49438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31680" y="49438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31680" y="49438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73280" y="49438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73280" y="49438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124000" y="4953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24000" y="495360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73280" y="495360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73280" y="495360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46280" y="5341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97200" y="5341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7760" y="53416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23800" y="53416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24000" y="5316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124000" y="5316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43080" y="5316840"/>
              <a:ext cx="147960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43080" y="5316840"/>
              <a:ext cx="147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31680" y="5316840"/>
              <a:ext cx="164124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31680" y="5316840"/>
              <a:ext cx="164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73280" y="5316840"/>
              <a:ext cx="19080" cy="1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73280" y="5316840"/>
              <a:ext cx="19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24000" y="5326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4000" y="5326920"/>
              <a:ext cx="144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3280" y="5326920"/>
              <a:ext cx="19080" cy="36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73280" y="5326920"/>
              <a:ext cx="1800" cy="36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546640" y="571464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23440" y="571464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75080" y="571464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24000" y="5690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24000" y="5690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43080" y="569016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43080" y="569016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631680" y="569016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31680" y="569016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73280" y="569016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73280" y="5690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24000" y="5699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24000" y="5699880"/>
              <a:ext cx="144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73280" y="5699880"/>
              <a:ext cx="19080" cy="36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73280" y="5699880"/>
              <a:ext cx="1800" cy="36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4628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96840" y="6086160"/>
              <a:ext cx="381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2344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74360" y="608616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23840" y="60861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24000" y="6063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4000" y="6063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43080" y="6063480"/>
              <a:ext cx="14796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43080" y="606348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31680" y="6063480"/>
              <a:ext cx="1641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31680" y="6063480"/>
              <a:ext cx="164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73280" y="6063480"/>
              <a:ext cx="1908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73280" y="60634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4000" y="6073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24000" y="6073200"/>
              <a:ext cx="144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2400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2400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4000" y="6434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2400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2400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24000" y="6434640"/>
              <a:ext cx="144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43080" y="6434640"/>
              <a:ext cx="147960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43080" y="6434640"/>
              <a:ext cx="147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1760" y="6434640"/>
              <a:ext cx="163116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41760" y="6434640"/>
              <a:ext cx="163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273280" y="6073200"/>
              <a:ext cx="19080" cy="36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73280" y="6073200"/>
              <a:ext cx="1800" cy="36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7328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7328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73280" y="6434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73280" y="6434640"/>
              <a:ext cx="19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73280" y="6434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73280" y="6434640"/>
              <a:ext cx="1800" cy="1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71280" y="2734560"/>
              <a:ext cx="0" cy="369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57B5-EB16-4B1F-A3FA-041B39F35E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Circuitos Lógicos Combi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cod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d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ultiplex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multiplex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E2FD-F5CF-4C01-ADB5-9E7C242067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403280" y="-175572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C, Y = ?, Z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272320" y="2349360"/>
            <a:ext cx="5352840" cy="3210840"/>
            <a:chOff x="2272320" y="2349360"/>
            <a:chExt cx="5352840" cy="3210840"/>
          </a:xfrm>
        </p:grpSpPr>
        <p:sp>
          <p:nvSpPr>
            <p:cNvPr id="622" name=""/>
            <p:cNvSpPr/>
            <p:nvPr/>
          </p:nvSpPr>
          <p:spPr>
            <a:xfrm>
              <a:off x="2935080" y="2372400"/>
              <a:ext cx="1226880" cy="3111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40160" y="514368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0160" y="5344200"/>
              <a:ext cx="40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95920" y="36658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95920" y="39657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95920" y="42166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995920" y="44661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12840" y="501552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12840" y="521316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72320" y="4757760"/>
              <a:ext cx="166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74480" y="502632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52760" y="4917240"/>
              <a:ext cx="4053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6360" y="477180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89440" y="33746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89440" y="30744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89440" y="277452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89440" y="24746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0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88200" y="382140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Ou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82400" y="5270400"/>
              <a:ext cx="15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805000" y="2349360"/>
              <a:ext cx="1224360" cy="3111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93520" y="511920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394960" y="531792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51440" y="36417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4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51440" y="39412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5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51440" y="41922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6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1440" y="444024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7640" y="499104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67640" y="519012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86440" y="4743000"/>
              <a:ext cx="166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11280" y="4991040"/>
              <a:ext cx="16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B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5407560" y="489240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63680" y="4748400"/>
              <a:ext cx="270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S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846760" y="33498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3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846760" y="305136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2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846760" y="275148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46760" y="2451600"/>
              <a:ext cx="45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D1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544440" y="3799440"/>
              <a:ext cx="4564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Ou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0120" y="5247000"/>
              <a:ext cx="154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84280" y="3921120"/>
              <a:ext cx="408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40160" y="3921120"/>
              <a:ext cx="408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2552760" y="4569480"/>
              <a:ext cx="394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2552760" y="4320000"/>
              <a:ext cx="397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52760" y="4068000"/>
              <a:ext cx="40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56720" y="3817440"/>
              <a:ext cx="382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552760" y="3518640"/>
              <a:ext cx="407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52760" y="3220200"/>
              <a:ext cx="39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43040" y="2576880"/>
              <a:ext cx="404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07560" y="4515120"/>
              <a:ext cx="3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05760" y="4268520"/>
              <a:ext cx="40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5407560" y="4017600"/>
              <a:ext cx="3974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07560" y="3771000"/>
              <a:ext cx="409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07560" y="3471120"/>
              <a:ext cx="409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01800" y="3171240"/>
              <a:ext cx="40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07560" y="2871360"/>
              <a:ext cx="40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1000" y="2522160"/>
              <a:ext cx="407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35040" y="3078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35040" y="27759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55640" y="44049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55640" y="3645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441880" y="41637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41880" y="39128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51680" y="30211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1680" y="27230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55640" y="39060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67160" y="41623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5040" y="2448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35040" y="338364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51680" y="237240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1680" y="33213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1880" y="366336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441880" y="4464720"/>
              <a:ext cx="13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0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50960" y="2910960"/>
              <a:ext cx="39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52280" y="3812040"/>
              <a:ext cx="15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85840" y="3805200"/>
              <a:ext cx="139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95960" y="4885920"/>
              <a:ext cx="68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8-to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12160" y="513972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MU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345720" y="4847760"/>
              <a:ext cx="68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8-to-1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63720" y="5101560"/>
              <a:ext cx="569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SWISS"/>
                </a:rPr>
                <a:t>MU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1476360" y="5661000"/>
            <a:ext cx="7272360" cy="100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: O multiplexador com um número de entradas fixo é idêntico a um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ória RO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 3 bits de endereço e 2 bits de 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57200" y="1700280"/>
            <a:ext cx="66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Gray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ódigo Binário com MUX 3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C217E-BFF7-4E9E-9582-23FA5454CC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03280" y="-175572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X = C, Y = ?, Z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19280" y="2637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ia possível obter o circui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ódigo Gray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ódigo Biná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tilizando MUX 2: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BF2A-8664-4724-B93E-D118395CAE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multiplexadores (DEMUX)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têm a finalidad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lecio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através d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áveis de sele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al de su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ve receber a informação presente em su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única 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eia o sinal presente em sua única linha de entrada para uma de su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aídas, dependendo dos valores em sua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linhas de cont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1332000" y="234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F301-193F-40E0-89A9-CF64E3CC49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1331640" y="1915920"/>
            <a:ext cx="75438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Demultiplex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436840" y="549108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MUX 1: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979640" y="3357720"/>
          <a:ext cx="3429000" cy="1569960"/>
        </p:xfrm>
        <a:graphic>
          <a:graphicData uri="http://schemas.openxmlformats.org/drawingml/2006/table">
            <a:tbl>
              <a:tblPr/>
              <a:tblGrid>
                <a:gridCol w="1371600"/>
                <a:gridCol w="914400"/>
                <a:gridCol w="114300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ável de sel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is de Saí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0" name=""/>
          <p:cNvSpPr/>
          <p:nvPr/>
        </p:nvSpPr>
        <p:spPr>
          <a:xfrm>
            <a:off x="3465360" y="28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demux1-2" descr=""/>
          <p:cNvPicPr/>
          <p:nvPr/>
        </p:nvPicPr>
        <p:blipFill>
          <a:blip r:embed="rId1"/>
          <a:srcRect l="0" t="0" r="13222" b="0"/>
          <a:stretch/>
        </p:blipFill>
        <p:spPr>
          <a:xfrm>
            <a:off x="5796000" y="2997360"/>
            <a:ext cx="2819520" cy="23922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1403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907E-7C67-4860-A48E-2E7D7E3F46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1476360" y="1916280"/>
            <a:ext cx="722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ador/Verificador de P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ste n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créscimo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 um bit à informação (de tamanho pré-definido) chamado </a:t>
            </a:r>
            <a:r>
              <a:rPr b="1" i="1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bit de paridade (Bp)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eu valor depen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 número de bits em “1”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a informação original e d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ipo de par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m u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ecanismo de segurança de dados binários de simples  implementação, muito utilizado no armazenamento de informação e na comunicação entre siste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5574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145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7CC9-AC74-476A-813A-7EA38CFD3B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5574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5728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"/>
          <p:cNvSpPr/>
          <p:nvPr/>
        </p:nvSpPr>
        <p:spPr>
          <a:xfrm>
            <a:off x="1535040" y="2916360"/>
            <a:ext cx="7010640" cy="137160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6553440" cy="108432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1476000" y="191628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ircuito Gerador/Verificador de Par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18200" y="5013360"/>
            <a:ext cx="28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jete o circuito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9D9A-9165-4243-AF67-7BE63D800E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773000"/>
            <a:ext cx="7561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versão de um código de entra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bits em um código de saída de m bits c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 que cada palavra-código válida produz um único código de saí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que implementa a decod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171-DF0B-4EE6-8130-742B77710E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 de 1-2 l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5040360" cy="16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2BE3-3DDE-4A18-AF30-F301FA598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codificador de 2-4 lin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32000" y="2708280"/>
            <a:ext cx="7417800" cy="3789000"/>
            <a:chOff x="1332000" y="2708280"/>
            <a:chExt cx="7417800" cy="3789000"/>
          </a:xfrm>
        </p:grpSpPr>
        <p:grpSp>
          <p:nvGrpSpPr>
            <p:cNvPr id="109" name=""/>
            <p:cNvGrpSpPr/>
            <p:nvPr/>
          </p:nvGrpSpPr>
          <p:grpSpPr>
            <a:xfrm>
              <a:off x="1332000" y="2708280"/>
              <a:ext cx="6061680" cy="3590640"/>
              <a:chOff x="1332000" y="2708280"/>
              <a:chExt cx="6061680" cy="3590640"/>
            </a:xfrm>
          </p:grpSpPr>
          <p:sp>
            <p:nvSpPr>
              <p:cNvPr id="110" name=""/>
              <p:cNvSpPr/>
              <p:nvPr/>
            </p:nvSpPr>
            <p:spPr>
              <a:xfrm>
                <a:off x="1332000" y="5280480"/>
                <a:ext cx="394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34960" y="3562560"/>
                <a:ext cx="558720" cy="273636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31920" y="3274560"/>
                <a:ext cx="1697400" cy="50040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9040" y="2708280"/>
                <a:ext cx="1702440" cy="46800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1607400" y="3529080"/>
              <a:ext cx="2418120" cy="144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62120" y="314748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115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1576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576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576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1576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14560" y="3147480"/>
              <a:ext cx="13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643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6820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6820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6820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820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1460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760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400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400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7400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7400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6704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2292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2644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2644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2644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2644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71680" y="3194280"/>
              <a:ext cx="1080" cy="162036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3136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8616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9148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9148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9148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9148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5240" y="31474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8600" y="32518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3560" y="36352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3560" y="391716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3560" y="42019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3560" y="44834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40960" y="493128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(a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8120" y="2920680"/>
              <a:ext cx="2330280" cy="2256480"/>
            </a:xfrm>
            <a:custGeom>
              <a:avLst/>
              <a:gdLst/>
              <a:ahLst/>
              <a:rect l="l" t="t" r="r" b="b"/>
              <a:pathLst>
                <a:path w="1488" h="1402">
                  <a:moveTo>
                    <a:pt x="0" y="0"/>
                  </a:moveTo>
                  <a:lnTo>
                    <a:pt x="1401" y="0"/>
                  </a:lnTo>
                  <a:lnTo>
                    <a:pt x="1399" y="1402"/>
                  </a:lnTo>
                  <a:lnTo>
                    <a:pt x="1488" y="14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78320" y="2920680"/>
              <a:ext cx="1630080" cy="2959920"/>
            </a:xfrm>
            <a:custGeom>
              <a:avLst/>
              <a:gdLst/>
              <a:ahLst/>
              <a:rect l="l" t="t" r="r" b="b"/>
              <a:pathLst>
                <a:path w="1041" h="1839">
                  <a:moveTo>
                    <a:pt x="0" y="0"/>
                  </a:moveTo>
                  <a:lnTo>
                    <a:pt x="0" y="1839"/>
                  </a:lnTo>
                  <a:lnTo>
                    <a:pt x="1041" y="183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4440" y="3498480"/>
              <a:ext cx="1983960" cy="2576880"/>
            </a:xfrm>
            <a:custGeom>
              <a:avLst/>
              <a:gdLst/>
              <a:ahLst/>
              <a:rect l="l" t="t" r="r" b="b"/>
              <a:pathLst>
                <a:path w="1267" h="1601">
                  <a:moveTo>
                    <a:pt x="0" y="0"/>
                  </a:moveTo>
                  <a:lnTo>
                    <a:pt x="0" y="1601"/>
                  </a:lnTo>
                  <a:lnTo>
                    <a:pt x="1267" y="160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924080" y="5370480"/>
              <a:ext cx="19839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278320" y="4472280"/>
              <a:ext cx="1630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432480" y="3961800"/>
              <a:ext cx="475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772320" y="3768840"/>
              <a:ext cx="13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5480" y="2738880"/>
              <a:ext cx="286560" cy="37332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0" y="232"/>
                  </a:lnTo>
                  <a:lnTo>
                    <a:pt x="183" y="1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72040" y="2860920"/>
              <a:ext cx="118800" cy="12060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08400" y="3694680"/>
              <a:ext cx="396000" cy="3412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9" y="0"/>
                    <a:pt x="134" y="25"/>
                    <a:pt x="134" y="55"/>
                  </a:cubicBezTo>
                  <a:cubicBezTo>
                    <a:pt x="134" y="86"/>
                    <a:pt x="110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08400" y="5103360"/>
              <a:ext cx="396000" cy="34092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08400" y="5808240"/>
              <a:ext cx="396000" cy="33912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04760" y="386244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8920" y="3961800"/>
              <a:ext cx="159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04760" y="456732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04760" y="5270760"/>
              <a:ext cx="427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4760" y="5975640"/>
              <a:ext cx="427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75280" y="373032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900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44920" y="37576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10160" y="37303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0636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81960" y="37303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77440" y="3826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9560" y="3731760"/>
              <a:ext cx="118800" cy="1800"/>
            </a:xfrm>
            <a:custGeom>
              <a:avLst/>
              <a:gdLst/>
              <a:ahLst/>
              <a:rect l="l" t="t" r="r" b="b"/>
              <a:pathLst>
                <a:path w="76" h="0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69560" y="3731760"/>
              <a:ext cx="118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41720" y="3731760"/>
              <a:ext cx="117360" cy="180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1720" y="3731760"/>
              <a:ext cx="117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75280" y="443196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2900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44920" y="445932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10160" y="443196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0636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1960" y="443196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77440" y="45302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69560" y="4438440"/>
              <a:ext cx="118800" cy="1800"/>
            </a:xfrm>
            <a:custGeom>
              <a:avLst/>
              <a:gdLst/>
              <a:ahLst/>
              <a:rect l="l" t="t" r="r" b="b"/>
              <a:pathLst>
                <a:path w="76" h="0">
                  <a:moveTo>
                    <a:pt x="0" y="0"/>
                  </a:move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269560" y="4438440"/>
              <a:ext cx="118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75280" y="513864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900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44920" y="516600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10160" y="513864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0636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81960" y="513864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77440" y="52369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41720" y="5143680"/>
              <a:ext cx="117360" cy="144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41720" y="5143680"/>
              <a:ext cx="117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75280" y="5843520"/>
              <a:ext cx="13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900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44920" y="587088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MathematicalPi 1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10160" y="58435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0636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81960" y="5843520"/>
              <a:ext cx="17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77440" y="594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01440" y="626868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4600" y="33634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61480" y="34614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14600" y="278712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Te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61480" y="2881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Te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42320" y="2885040"/>
              <a:ext cx="7200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080" y="346140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42320" y="4437000"/>
              <a:ext cx="7200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88080" y="533520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7760" y="3731760"/>
              <a:ext cx="70560" cy="72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01160" y="3929760"/>
              <a:ext cx="70560" cy="72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8120" y="3498480"/>
              <a:ext cx="2330280" cy="1168200"/>
            </a:xfrm>
            <a:custGeom>
              <a:avLst/>
              <a:gdLst/>
              <a:ahLst/>
              <a:rect l="l" t="t" r="r" b="b"/>
              <a:pathLst>
                <a:path w="1488" h="726">
                  <a:moveTo>
                    <a:pt x="0" y="0"/>
                  </a:moveTo>
                  <a:lnTo>
                    <a:pt x="1184" y="0"/>
                  </a:lnTo>
                  <a:lnTo>
                    <a:pt x="1184" y="726"/>
                  </a:lnTo>
                  <a:lnTo>
                    <a:pt x="1488" y="72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08400" y="4399560"/>
              <a:ext cx="396000" cy="339480"/>
            </a:xfrm>
            <a:custGeom>
              <a:avLst/>
              <a:gdLst/>
              <a:ahLst/>
              <a:rect l="l" t="t" r="r" b="b"/>
              <a:pathLst>
                <a:path w="134" h="112">
                  <a:moveTo>
                    <a:pt x="0" y="11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108" y="0"/>
                    <a:pt x="134" y="25"/>
                    <a:pt x="134" y="55"/>
                  </a:cubicBezTo>
                  <a:cubicBezTo>
                    <a:pt x="134" y="86"/>
                    <a:pt x="109" y="111"/>
                    <a:pt x="79" y="112"/>
                  </a:cubicBezTo>
                  <a:cubicBezTo>
                    <a:pt x="0" y="112"/>
                    <a:pt x="0" y="112"/>
                    <a:pt x="0" y="112"/>
                  </a:cubicBez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85480" y="3313440"/>
              <a:ext cx="286560" cy="376560"/>
            </a:xfrm>
            <a:custGeom>
              <a:avLst/>
              <a:gdLst/>
              <a:ahLst/>
              <a:rect l="l" t="t" r="r" b="b"/>
              <a:pathLst>
                <a:path w="183" h="234">
                  <a:moveTo>
                    <a:pt x="0" y="0"/>
                  </a:moveTo>
                  <a:lnTo>
                    <a:pt x="0" y="234"/>
                  </a:lnTo>
                  <a:lnTo>
                    <a:pt x="183" y="1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72040" y="3436920"/>
              <a:ext cx="118800" cy="120600"/>
            </a:xfrm>
            <a:prstGeom prst="ellipse">
              <a:avLst/>
            </a:prstGeom>
            <a:solidFill>
              <a:srgbClr val="ffffff"/>
            </a:solidFill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7400" y="4815000"/>
              <a:ext cx="2418120" cy="1800"/>
            </a:xfrm>
            <a:prstGeom prst="line">
              <a:avLst/>
            </a:prstGeom>
            <a:ln w="111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2EC8A-F76D-4FCE-9C9E-D538F3F047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216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lvl="1" marL="71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Decodificador de 3-8 lin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são utilizados decodificadores de 1-2 linhas e de 2-4 linh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1700280"/>
            <a:ext cx="5473440" cy="49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0D93-53B4-46B0-9095-87D49F15A6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odificador co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985080" cy="36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D687-309D-4FAA-BFA7-A4374A945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oposto da decodificação - conversão de um código de entra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bits em um código de saída de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its c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al que cada palavra-código válida produz um único código de saí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o que implementa a codific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8C5F-81FA-4C8E-98FE-9D77163410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2920" y="1773000"/>
            <a:ext cx="7272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Codificador decimal para 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s: 10 bits correspondente aos dígitos decimais de 0 a 9, (D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D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62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ída: 4 bits com o código 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2EEA-39E7-4DDA-9A6B-6C3EA556D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5-09T11:32:54Z</dcterms:modified>
  <cp:revision>185</cp:revision>
  <dc:subject/>
  <dc:title>Organização e Arquitetura de Computadores I</dc:title>
</cp:coreProperties>
</file>