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2D57-8178-4322-8E54-885EF9943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E96C-894A-4F51-8AD8-18D986746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CBE1-DA8C-483B-9676-9CBE833B0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6132-8374-4827-B779-FE8706153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045D6-F1B7-4D9E-BBF3-631E0B5E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30D65-59F2-4A58-A3E7-9CCB974B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448A-463E-4E2E-B1BD-EA7E3F3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9E523-DDCC-4227-8173-52A83DF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A050B-88A5-4348-8785-4098AB67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1BD3A-6B84-4C36-BC81-B28CF01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8A8D-B7BF-436C-8FD7-8099F8F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7AB9-C439-4DC0-9351-99B7B72A4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6B272-EA24-4DF7-B086-F26133B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91ED-BC42-4A30-BACA-26DEC49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C266-1F01-4709-AE03-28B3BBB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E737D-C920-4CAB-8F39-E8B8585B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3D7CC-3163-47E6-B8BF-CC6349AE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92DD-724D-4CDF-8562-31AD7EA74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5501-9880-46B0-A567-0A7A9C023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765E-E2EF-4221-8894-3B23C7337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3F31-1AB5-49CD-8BE6-9EB7754AD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17F1-9901-450D-856F-A9FA4648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1872-C619-4B97-B1B8-DD60E0CB5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286E-E975-443B-A988-308F2A412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EF8A-1339-42AD-8FCE-BD0862E2AF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4DD-88D0-4EC8-9BD1-D34FF61B81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sc.ufcg.edu.br/~joseana/kmap12.exe" TargetMode="External"/><Relationship Id="rId2" Type="http://schemas.openxmlformats.org/officeDocument/2006/relationships/hyperlink" Target="http://maui.theoinf.tu-ilmenau.de/~sane/projekte/karnaugh/embed_karnaugh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tenção da expressão lógica a partir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bela-ver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Fun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MA DE PRODU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 DE SOM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ma de produ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OR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initerm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levam a saída para “1” (método mais utiliz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duto de som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ND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xiterm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levam a saída para “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3567240"/>
            <a:ext cx="3097440" cy="8697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64000" y="3573360"/>
                <a:ext cx="2452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64000" y="3954600"/>
                <a:ext cx="2872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97080" y="6093000"/>
            <a:ext cx="590400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de Produto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Sum-of-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to de Soma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Product-of-S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C1E6-D299-4490-9BCC-8D5461875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ção de Circuit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a Álgebra de Boole (forma dir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Mapas de Karn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BAD7-B267-4715-B758-DD355FF36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05424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51280" y="1731960"/>
          <a:ext cx="4240080" cy="49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31960"/>
                    <a:ext cx="42400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69000" y="631512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58000" y="633096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EC30-496F-4517-8F1F-3B59DA8B4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05424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52720" y="593640"/>
          <a:ext cx="4680000" cy="33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593640"/>
                    <a:ext cx="468000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852720" y="3718080"/>
          <a:ext cx="4680000" cy="2663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2720" y="3718080"/>
                    <a:ext cx="46800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C9D8-B182-40BB-B526-D3688F0E4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eoremas, propriedade e identidades da álgebra boleana podem ser aplicados para simplificar funções lógicas e, com isso, reduzir o número necessário de oper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.y + y.x.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xy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 ( x + y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 (x + y) + z + z.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y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4292640"/>
            <a:ext cx="37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25960" y="472428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3960" y="515772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3280" y="515772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5157720"/>
            <a:ext cx="12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B51C-EE27-451F-B89F-41C5EE91A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 1: Simplifique a expressã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(W + Y + X)(W + Y + X)(Y + Z)(W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V + VX +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3E3A-B7E7-459F-84B7-00D814B497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 2: Um aluno de mestrado geralmente pode realizar a defesa de sua dissertação q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á cursou todos os créditos requer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já convalidou todos os créditos requer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os créditos cursados ou convalidados totalizam os requ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já foi aprovado no exame de proficiência de idiom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já foi aprovado no exame de qualificação do projeto de disser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e a função lógica equivalente, simplificando-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A7D1-0F5C-4EB1-816D-6664FD8C50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200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Duas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-1768" t="0" r="76372" b="4614"/>
          <a:stretch/>
        </p:blipFill>
        <p:spPr>
          <a:xfrm>
            <a:off x="1476360" y="2708280"/>
            <a:ext cx="3743280" cy="2852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1800360" cy="1778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46801" t="41148" r="36720" b="40149"/>
          <a:stretch/>
        </p:blipFill>
        <p:spPr>
          <a:xfrm>
            <a:off x="6300720" y="2708280"/>
            <a:ext cx="1943280" cy="16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C15E-F994-49CA-8636-BB453214D5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200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Três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4265" t="0" r="34560" b="5163"/>
          <a:stretch/>
        </p:blipFill>
        <p:spPr>
          <a:xfrm>
            <a:off x="1403280" y="2349360"/>
            <a:ext cx="3913200" cy="4392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rcRect l="31005" t="35246" r="33024" b="18492"/>
          <a:stretch/>
        </p:blipFill>
        <p:spPr>
          <a:xfrm>
            <a:off x="5292720" y="2708280"/>
            <a:ext cx="350856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6CED-3C85-445C-96F9-4C10C246B9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295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Quatro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28045" t="25393" r="29868" b="50977"/>
          <a:stretch/>
        </p:blipFill>
        <p:spPr>
          <a:xfrm>
            <a:off x="1332000" y="2852640"/>
            <a:ext cx="3600360" cy="1516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251928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932360" y="333360"/>
            <a:ext cx="4119480" cy="6310440"/>
            <a:chOff x="4932360" y="333360"/>
            <a:chExt cx="4119480" cy="631044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rcRect l="28268" t="0" r="30013" b="3255"/>
            <a:stretch/>
          </p:blipFill>
          <p:spPr>
            <a:xfrm>
              <a:off x="4932360" y="333360"/>
              <a:ext cx="4119480" cy="63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9036000" y="333360"/>
              <a:ext cx="0" cy="626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9FF6-2BE7-49F6-8AFE-695614E7B7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699920"/>
            <a:ext cx="7448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s Lógicos Combi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apas do Projeto de um Circuito Lógico Comb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240D-DF5E-4110-95FC-B09CF8A35E9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struídos Mapas de Karnaugh para 5 ou mais variáveis –&gt; maior nível de complexidade na constr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9EA6-1FD3-4732-929D-E104A21E0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03280" y="1812600"/>
            <a:ext cx="7561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58240" y="2903400"/>
            <a:ext cx="2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WISS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702960" y="3068640"/>
            <a:ext cx="2215080" cy="2444760"/>
            <a:chOff x="3702960" y="3068640"/>
            <a:chExt cx="2215080" cy="2444760"/>
          </a:xfrm>
        </p:grpSpPr>
        <p:sp>
          <p:nvSpPr>
            <p:cNvPr id="244" name=""/>
            <p:cNvSpPr/>
            <p:nvPr/>
          </p:nvSpPr>
          <p:spPr>
            <a:xfrm>
              <a:off x="4006800" y="3409920"/>
              <a:ext cx="191124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2240" y="3068640"/>
              <a:ext cx="1800" cy="178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84520" y="3409920"/>
              <a:ext cx="180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40320" y="3409920"/>
              <a:ext cx="144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5552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7780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702960" y="4091040"/>
              <a:ext cx="2215080" cy="1422360"/>
              <a:chOff x="3702960" y="4091040"/>
              <a:chExt cx="2215080" cy="142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3827160" y="4091040"/>
                <a:ext cx="2090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02960" y="4289400"/>
                <a:ext cx="221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WISS"/>
                  </a:rPr>
                  <a:t>x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45240" y="5056200"/>
                <a:ext cx="186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WISS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00080" y="4289400"/>
                <a:ext cx="21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SWISS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77800" y="4289400"/>
                <a:ext cx="21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SWISS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60008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18000" y="3559320"/>
            <a:ext cx="835200" cy="2490120"/>
            <a:chOff x="4518000" y="3559320"/>
            <a:chExt cx="835200" cy="2490120"/>
          </a:xfrm>
        </p:grpSpPr>
        <p:sp>
          <p:nvSpPr>
            <p:cNvPr id="258" name=""/>
            <p:cNvSpPr/>
            <p:nvPr/>
          </p:nvSpPr>
          <p:spPr>
            <a:xfrm>
              <a:off x="5276880" y="5562360"/>
              <a:ext cx="1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18000" y="3559320"/>
              <a:ext cx="835200" cy="1191960"/>
            </a:xfrm>
            <a:custGeom>
              <a:avLst/>
              <a:gdLst>
                <a:gd name="textAreaLeft" fmla="*/ 34920 w 835200"/>
                <a:gd name="textAreaRight" fmla="*/ 800280 w 835200"/>
                <a:gd name="textAreaTop" fmla="*/ 34920 h 1191960"/>
                <a:gd name="textAreaBottom" fmla="*/ 1157040 h 1191960"/>
              </a:gdLst>
              <a:ahLst/>
              <a:rect l="textAreaLeft" t="textAreaTop" r="textAreaRight" b="textAreaBottom"/>
              <a:pathLst>
                <a:path w="21600" h="30823">
                  <a:moveTo>
                    <a:pt x="3086" y="0"/>
                  </a:moveTo>
                  <a:arcTo wR="3086" hR="3086" stAng="16200000" swAng="-5400000"/>
                  <a:lnTo>
                    <a:pt x="0" y="27737"/>
                  </a:lnTo>
                  <a:arcTo wR="3086" hR="3086" stAng="10800000" swAng="-5400000"/>
                  <a:lnTo>
                    <a:pt x="18514" y="30823"/>
                  </a:lnTo>
                  <a:arcTo wR="3086" hR="3086" stAng="5400000" swAng="-5400000"/>
                  <a:lnTo>
                    <a:pt x="21600" y="3086"/>
                  </a:lnTo>
                  <a:arcTo wR="3086" hR="3086" stAng="0" swAng="-5400000"/>
                  <a:close/>
                </a:path>
              </a:pathLst>
            </a:custGeom>
            <a:noFill/>
            <a:ln w="39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40360" y="3522600"/>
            <a:ext cx="961920" cy="2533680"/>
            <a:chOff x="5040360" y="3522600"/>
            <a:chExt cx="961920" cy="2533680"/>
          </a:xfrm>
        </p:grpSpPr>
        <p:grpSp>
          <p:nvGrpSpPr>
            <p:cNvPr id="261" name=""/>
            <p:cNvGrpSpPr/>
            <p:nvPr/>
          </p:nvGrpSpPr>
          <p:grpSpPr>
            <a:xfrm>
              <a:off x="5527800" y="5558040"/>
              <a:ext cx="474480" cy="498240"/>
              <a:chOff x="5527800" y="5558040"/>
              <a:chExt cx="474480" cy="498240"/>
            </a:xfrm>
          </p:grpSpPr>
          <p:sp>
            <p:nvSpPr>
              <p:cNvPr id="262" name=""/>
              <p:cNvSpPr/>
              <p:nvPr/>
            </p:nvSpPr>
            <p:spPr>
              <a:xfrm>
                <a:off x="5894280" y="5568840"/>
                <a:ext cx="89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5827680" y="5568840"/>
                <a:ext cx="174600" cy="487440"/>
                <a:chOff x="5827680" y="5568840"/>
                <a:chExt cx="174600" cy="4874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35600" y="5626080"/>
                  <a:ext cx="1652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00840" y="5568840"/>
                  <a:ext cx="14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27680" y="5568840"/>
                  <a:ext cx="18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527800" y="5558040"/>
                <a:ext cx="14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040360" y="3522600"/>
              <a:ext cx="716040" cy="511200"/>
            </a:xfrm>
            <a:prstGeom prst="roundRect">
              <a:avLst>
                <a:gd name="adj" fmla="val 33333"/>
              </a:avLst>
            </a:prstGeom>
            <a:noFill/>
            <a:ln w="39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632560" y="54864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C44D-3E94-44DF-AE7A-011476F46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35160" y="3179880"/>
            <a:ext cx="1841760" cy="69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4615560" y="3689640"/>
            <a:ext cx="1841400" cy="69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63280" y="2840040"/>
            <a:ext cx="6428160" cy="1428840"/>
            <a:chOff x="1763280" y="2840040"/>
            <a:chExt cx="6428160" cy="1428840"/>
          </a:xfrm>
        </p:grpSpPr>
        <p:sp>
          <p:nvSpPr>
            <p:cNvPr id="275" name=""/>
            <p:cNvSpPr/>
            <p:nvPr/>
          </p:nvSpPr>
          <p:spPr>
            <a:xfrm>
              <a:off x="6210360" y="3202200"/>
              <a:ext cx="1841400" cy="696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4200" y="2860920"/>
              <a:ext cx="95724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902600" y="3181320"/>
              <a:ext cx="1841400" cy="696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762920" y="2840040"/>
              <a:ext cx="957240" cy="140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69440" y="2781360"/>
            <a:ext cx="4735800" cy="3156840"/>
            <a:chOff x="2269440" y="2781360"/>
            <a:chExt cx="4735800" cy="3156840"/>
          </a:xfrm>
        </p:grpSpPr>
        <p:sp>
          <p:nvSpPr>
            <p:cNvPr id="280" name=""/>
            <p:cNvSpPr/>
            <p:nvPr/>
          </p:nvSpPr>
          <p:spPr>
            <a:xfrm>
              <a:off x="3557160" y="31813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46080" y="315900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16280" y="31734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8960" y="31622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66960" y="42289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60640" y="42577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2000" y="426060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4440" y="42354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6840" y="3214440"/>
              <a:ext cx="41878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38480" y="2781360"/>
              <a:ext cx="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9880" y="4227480"/>
              <a:ext cx="46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22200" y="3217680"/>
              <a:ext cx="0" cy="255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84640" y="3203640"/>
              <a:ext cx="0" cy="259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9440" y="4351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93680" y="517392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4297-834E-46B7-80B7-632D9ED6F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194920" y="2556000"/>
            <a:ext cx="4735800" cy="3155760"/>
            <a:chOff x="2194920" y="2556000"/>
            <a:chExt cx="4735800" cy="3155760"/>
          </a:xfrm>
        </p:grpSpPr>
        <p:sp>
          <p:nvSpPr>
            <p:cNvPr id="298" name=""/>
            <p:cNvSpPr/>
            <p:nvPr/>
          </p:nvSpPr>
          <p:spPr>
            <a:xfrm>
              <a:off x="3482640" y="295596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71560" y="293364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1760" y="2948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4440" y="2936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2440" y="40035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86120" y="403236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7480" y="403524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9920" y="4010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2320" y="2989080"/>
              <a:ext cx="41878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3960" y="2556000"/>
              <a:ext cx="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5360" y="4002120"/>
              <a:ext cx="46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7680" y="2992320"/>
              <a:ext cx="0" cy="255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0120" y="2978280"/>
              <a:ext cx="0" cy="259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4920" y="4126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1560" y="494964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57680" y="3130560"/>
            <a:ext cx="1841400" cy="180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96600" y="2343240"/>
            <a:ext cx="6428160" cy="3461400"/>
            <a:chOff x="1596600" y="2343240"/>
            <a:chExt cx="6428160" cy="3461400"/>
          </a:xfrm>
        </p:grpSpPr>
        <p:sp>
          <p:nvSpPr>
            <p:cNvPr id="315" name=""/>
            <p:cNvSpPr/>
            <p:nvPr/>
          </p:nvSpPr>
          <p:spPr>
            <a:xfrm>
              <a:off x="6043680" y="3220560"/>
              <a:ext cx="1841400" cy="1688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7520" y="2393640"/>
              <a:ext cx="957240" cy="34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735920" y="3169800"/>
              <a:ext cx="1841400" cy="1688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96240" y="2343240"/>
              <a:ext cx="957240" cy="341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24360" y="3068640"/>
            <a:ext cx="1841400" cy="180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95F0-A60B-448D-BE6F-B9AEED9604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19560" y="2035080"/>
            <a:ext cx="0" cy="378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03640" y="2697120"/>
            <a:ext cx="0" cy="38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65720" y="2674800"/>
            <a:ext cx="0" cy="393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40000" y="2060640"/>
            <a:ext cx="5481720" cy="4476240"/>
            <a:chOff x="2340000" y="2060640"/>
            <a:chExt cx="5481720" cy="4476240"/>
          </a:xfrm>
        </p:grpSpPr>
        <p:sp>
          <p:nvSpPr>
            <p:cNvPr id="326" name=""/>
            <p:cNvSpPr/>
            <p:nvPr/>
          </p:nvSpPr>
          <p:spPr>
            <a:xfrm>
              <a:off x="3726000" y="4964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560" y="49482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4840" y="4967280"/>
              <a:ext cx="6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19960" y="49672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540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02240" y="41716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288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996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95760" y="26082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84680" y="2585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15000" y="26002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7920" y="25732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1160" y="33987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13640" y="33843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87840" y="3416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35520" y="34048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78280" y="2692080"/>
              <a:ext cx="4187880" cy="311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436840" y="4228560"/>
              <a:ext cx="4749840" cy="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86840" y="40417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51520" y="20606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88080" y="60163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957400" y="3470040"/>
              <a:ext cx="4840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1520" y="502416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0000" y="4682880"/>
              <a:ext cx="53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178600" y="2808360"/>
            <a:ext cx="1854000" cy="1359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0480" y="3570120"/>
            <a:ext cx="1854360" cy="1359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22800" y="2363760"/>
            <a:ext cx="5308200" cy="3796920"/>
            <a:chOff x="2422800" y="2363760"/>
            <a:chExt cx="5308200" cy="3796920"/>
          </a:xfrm>
        </p:grpSpPr>
        <p:grpSp>
          <p:nvGrpSpPr>
            <p:cNvPr id="353" name=""/>
            <p:cNvGrpSpPr/>
            <p:nvPr/>
          </p:nvGrpSpPr>
          <p:grpSpPr>
            <a:xfrm>
              <a:off x="6207120" y="2363760"/>
              <a:ext cx="1523880" cy="1067040"/>
              <a:chOff x="6207120" y="2363760"/>
              <a:chExt cx="1523880" cy="1067040"/>
            </a:xfrm>
          </p:grpSpPr>
          <p:sp>
            <p:nvSpPr>
              <p:cNvPr id="354" name=""/>
              <p:cNvSpPr/>
              <p:nvPr/>
            </p:nvSpPr>
            <p:spPr>
              <a:xfrm>
                <a:off x="6257880" y="2440080"/>
                <a:ext cx="1257480" cy="952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07120" y="2363760"/>
                <a:ext cx="15238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299360" y="2554560"/>
                <a:ext cx="330120" cy="87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435400" y="2363760"/>
              <a:ext cx="1625040" cy="1067040"/>
              <a:chOff x="2435400" y="2363760"/>
              <a:chExt cx="1625040" cy="106704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2665080" y="2440080"/>
                <a:ext cx="1341000" cy="952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435400" y="2363760"/>
                <a:ext cx="1625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543400" y="2554560"/>
                <a:ext cx="352080" cy="87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422800" y="5094360"/>
              <a:ext cx="1625400" cy="1066320"/>
              <a:chOff x="2422800" y="5094360"/>
              <a:chExt cx="1625400" cy="10663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2652840" y="5132160"/>
                <a:ext cx="1341360" cy="952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2422440" y="5932440"/>
                <a:ext cx="162540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2531160" y="5094000"/>
                <a:ext cx="352080" cy="87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207120" y="5081760"/>
              <a:ext cx="1523880" cy="1066320"/>
              <a:chOff x="6207120" y="5081760"/>
              <a:chExt cx="1523880" cy="1066320"/>
            </a:xfrm>
          </p:grpSpPr>
          <p:sp>
            <p:nvSpPr>
              <p:cNvPr id="366" name=""/>
              <p:cNvSpPr/>
              <p:nvPr/>
            </p:nvSpPr>
            <p:spPr>
              <a:xfrm flipV="1">
                <a:off x="6257880" y="5119560"/>
                <a:ext cx="1257480" cy="952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207120" y="5919840"/>
                <a:ext cx="152388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7299360" y="5081400"/>
                <a:ext cx="330120" cy="87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CA21-41FE-4112-8E81-99B0044A6B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11720" y="1957320"/>
            <a:ext cx="0" cy="378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5800" y="2619360"/>
            <a:ext cx="0" cy="38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57880" y="2597040"/>
            <a:ext cx="0" cy="393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80160" y="392580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56280" y="18432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92840" y="61167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41600" y="2508120"/>
            <a:ext cx="5361120" cy="3238560"/>
            <a:chOff x="2541600" y="2508120"/>
            <a:chExt cx="5361120" cy="3238560"/>
          </a:xfrm>
        </p:grpSpPr>
        <p:sp>
          <p:nvSpPr>
            <p:cNvPr id="378" name=""/>
            <p:cNvSpPr/>
            <p:nvPr/>
          </p:nvSpPr>
          <p:spPr>
            <a:xfrm>
              <a:off x="3830760" y="4898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0320" y="4883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89960" y="49021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24720" y="49021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1016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07000" y="41068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6764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2472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0520" y="254304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9440" y="25207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19760" y="25351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63040" y="25081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95920" y="33336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18400" y="33192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92600" y="33512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40640" y="33400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83040" y="2627280"/>
              <a:ext cx="4187880" cy="311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541600" y="4163760"/>
              <a:ext cx="4749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62520" y="3405240"/>
              <a:ext cx="484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86280" y="495936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432160" y="46688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3752640" y="3256920"/>
            <a:ext cx="2933640" cy="186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44720" y="4191120"/>
            <a:ext cx="12708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997360" y="2755800"/>
            <a:ext cx="4431960" cy="2882880"/>
            <a:chOff x="2997360" y="2755800"/>
            <a:chExt cx="4431960" cy="2882880"/>
          </a:xfrm>
        </p:grpSpPr>
        <p:grpSp>
          <p:nvGrpSpPr>
            <p:cNvPr id="402" name=""/>
            <p:cNvGrpSpPr/>
            <p:nvPr/>
          </p:nvGrpSpPr>
          <p:grpSpPr>
            <a:xfrm>
              <a:off x="2997360" y="2755800"/>
              <a:ext cx="1104840" cy="2882880"/>
              <a:chOff x="2997360" y="2755800"/>
              <a:chExt cx="1104840" cy="288288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3657960" y="5205960"/>
                <a:ext cx="4312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102200" y="2971440"/>
                <a:ext cx="0" cy="24638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71280" y="2755800"/>
                <a:ext cx="43056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009600" y="2755800"/>
                <a:ext cx="8766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2997360" y="5638680"/>
                <a:ext cx="8762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324480" y="2755800"/>
              <a:ext cx="1104840" cy="2882880"/>
              <a:chOff x="6324480" y="2755800"/>
              <a:chExt cx="1104840" cy="2882880"/>
            </a:xfrm>
          </p:grpSpPr>
          <p:sp>
            <p:nvSpPr>
              <p:cNvPr id="409" name=""/>
              <p:cNvSpPr/>
              <p:nvPr/>
            </p:nvSpPr>
            <p:spPr>
              <a:xfrm flipH="1" flipV="1">
                <a:off x="6337440" y="5205960"/>
                <a:ext cx="4312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324480" y="2971440"/>
                <a:ext cx="0" cy="24638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324840" y="2755800"/>
                <a:ext cx="43056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40480" y="2755800"/>
                <a:ext cx="8766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53080" y="5638680"/>
                <a:ext cx="8762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3187800" y="2463480"/>
            <a:ext cx="3987000" cy="3569040"/>
            <a:chOff x="3187800" y="2463480"/>
            <a:chExt cx="3987000" cy="3569040"/>
          </a:xfrm>
        </p:grpSpPr>
        <p:grpSp>
          <p:nvGrpSpPr>
            <p:cNvPr id="415" name=""/>
            <p:cNvGrpSpPr/>
            <p:nvPr/>
          </p:nvGrpSpPr>
          <p:grpSpPr>
            <a:xfrm>
              <a:off x="3187800" y="5142600"/>
              <a:ext cx="3987000" cy="889920"/>
              <a:chOff x="3187800" y="5142600"/>
              <a:chExt cx="3987000" cy="889920"/>
            </a:xfrm>
          </p:grpSpPr>
          <p:sp>
            <p:nvSpPr>
              <p:cNvPr id="416" name=""/>
              <p:cNvSpPr/>
              <p:nvPr/>
            </p:nvSpPr>
            <p:spPr>
              <a:xfrm flipV="1" rot="16200000">
                <a:off x="6701760" y="5028480"/>
                <a:ext cx="3470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485520" y="5142600"/>
                <a:ext cx="34074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00000">
                <a:off x="3312360" y="5018760"/>
                <a:ext cx="3463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87800" y="5316480"/>
                <a:ext cx="0" cy="7056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74800" y="5327280"/>
                <a:ext cx="0" cy="7052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187800" y="2463480"/>
              <a:ext cx="3987000" cy="889920"/>
              <a:chOff x="3187800" y="2463480"/>
              <a:chExt cx="3987000" cy="889920"/>
            </a:xfrm>
          </p:grpSpPr>
          <p:sp>
            <p:nvSpPr>
              <p:cNvPr id="422" name=""/>
              <p:cNvSpPr/>
              <p:nvPr/>
            </p:nvSpPr>
            <p:spPr>
              <a:xfrm flipH="1" flipV="1" rot="16200000">
                <a:off x="6701400" y="2870640"/>
                <a:ext cx="3470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485520" y="3353400"/>
                <a:ext cx="34074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rot="16200000">
                <a:off x="3312360" y="2881800"/>
                <a:ext cx="3463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187800" y="2473920"/>
                <a:ext cx="0" cy="7056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174800" y="2463480"/>
                <a:ext cx="0" cy="7052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 rot="16200000">
            <a:off x="2685960" y="3206160"/>
            <a:ext cx="2933640" cy="194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3517920"/>
            <a:ext cx="3873600" cy="1308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781360"/>
            <a:ext cx="3873240" cy="13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C36A-6176-4A2A-A8BA-EBB1756840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4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89520" y="2138400"/>
            <a:ext cx="2993760" cy="250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98200" y="4840200"/>
            <a:ext cx="13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10720" y="3895560"/>
            <a:ext cx="23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21160" y="3397320"/>
            <a:ext cx="3462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1824120"/>
            <a:ext cx="1440" cy="283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37240" y="2138400"/>
            <a:ext cx="2880" cy="29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35560" y="2138400"/>
            <a:ext cx="1800" cy="29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89520" y="4027320"/>
            <a:ext cx="3462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89520" y="2768760"/>
            <a:ext cx="3462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4860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9884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4656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9644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4860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884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4656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644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5788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0524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5476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0248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48600" y="4408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8840" y="4408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4760" y="44085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02480" y="44085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184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18400" y="4078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142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672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69960" y="4078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9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2588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675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67560" y="40784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23120" y="40784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145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996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184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672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142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996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97160" y="3429000"/>
            <a:ext cx="2806920" cy="1103400"/>
          </a:xfrm>
          <a:prstGeom prst="roundRect">
            <a:avLst>
              <a:gd name="adj" fmla="val 1428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35520" y="2846520"/>
            <a:ext cx="1306440" cy="107136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83240" y="2925720"/>
            <a:ext cx="1308240" cy="88128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84880" y="3129120"/>
            <a:ext cx="15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45560" y="1557360"/>
            <a:ext cx="15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5445000"/>
            <a:ext cx="763272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s formas de obten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Ferramenta para manipulação de Mapas de Karnaugh (4 variáve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Ferramenta para manipulação de Mapas de Karnaugh (applet Java)      (6 variáve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1844-0679-4CDC-984E-F9D4FFF5C8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a tabela-verdade a seguir, obtenha a expressão simplificada utilizando o Mapa de Karna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rcRect l="0" t="0" r="76642" b="7702"/>
          <a:stretch/>
        </p:blipFill>
        <p:spPr>
          <a:xfrm>
            <a:off x="1835280" y="342900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7552-FF05-4E03-8CBA-E001E70F0D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02920" y="1812960"/>
            <a:ext cx="280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a tabela-verdade a seguir, obtenha a expressão simplificada utilizando o Mapa de Karna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rcRect l="0" t="0" r="70522" b="0"/>
          <a:stretch/>
        </p:blipFill>
        <p:spPr>
          <a:xfrm>
            <a:off x="4427640" y="1700280"/>
            <a:ext cx="3593880" cy="544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2AF6-DEA0-48F8-8B49-AF25B6F2DC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s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em função de variáveis de entradas e sa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o problema utilizando, por exemplo, uma tabela-ver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plificação utilizando Álbebra de Boole (e/ou Mapas de Karna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r o esquemático lógico ou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a técnica de implementação selecio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r a corretude do projeto final manualmente ou utilizando simulaçã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AAA0-3857-4B2A-ACA3-CE7FE139BF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jeto de elementos digitais está relacionado com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ão de idéias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re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os elementos encontrados n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m que uma idéia, uma afirmação, possa ser expressa matema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 também que a expressão resultante da formulação matemática da idéia possa ser simplificada e, finalmente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tida no mundo real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portas lógicas e outros elementos digi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48B6-8F29-4101-949E-F8179AFA4B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76520" y="2077920"/>
            <a:ext cx="6904080" cy="4664160"/>
            <a:chOff x="1676520" y="2077920"/>
            <a:chExt cx="6904080" cy="46641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676520" y="2077920"/>
              <a:ext cx="6904080" cy="46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200400" y="4584600"/>
              <a:ext cx="1066680" cy="73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396B-FE5C-427D-B2B5-8CC391038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76360" y="2349360"/>
            <a:ext cx="6904080" cy="3714480"/>
            <a:chOff x="1476360" y="2349360"/>
            <a:chExt cx="6904080" cy="3714480"/>
          </a:xfrm>
        </p:grpSpPr>
        <p:sp>
          <p:nvSpPr>
            <p:cNvPr id="111" name=""/>
            <p:cNvSpPr/>
            <p:nvPr/>
          </p:nvSpPr>
          <p:spPr>
            <a:xfrm>
              <a:off x="2695680" y="4939920"/>
              <a:ext cx="1371600" cy="685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476360" y="2349360"/>
              <a:ext cx="690408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695680" y="4939920"/>
              <a:ext cx="129528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90960" y="5092560"/>
              <a:ext cx="76320" cy="457200"/>
            </a:xfrm>
            <a:prstGeom prst="rect">
              <a:avLst/>
            </a:prstGeom>
            <a:noFill/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A18D-27F9-4E95-A6FB-58C9DCDD5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60213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as lógic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OR e XN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ão na verdade circuitos obtidos de portas lógicas bás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3280" y="2060640"/>
            <a:ext cx="7097760" cy="3921120"/>
            <a:chOff x="1403280" y="2060640"/>
            <a:chExt cx="7097760" cy="3921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03280" y="2060640"/>
              <a:ext cx="7097760" cy="39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079440" y="3203640"/>
              <a:ext cx="9907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927160" y="3127320"/>
              <a:ext cx="152280" cy="838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70160" y="3203640"/>
              <a:ext cx="1522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0160" y="4803840"/>
              <a:ext cx="22860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27160" y="4803840"/>
              <a:ext cx="1522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079440" y="4880160"/>
              <a:ext cx="990720" cy="69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3841920" y="629136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95640" y="6308640"/>
            <a:ext cx="6095880" cy="312840"/>
            <a:chOff x="2195640" y="6308640"/>
            <a:chExt cx="6095880" cy="312840"/>
          </a:xfrm>
        </p:grpSpPr>
        <p:sp>
          <p:nvSpPr>
            <p:cNvPr id="128" name=""/>
            <p:cNvSpPr/>
            <p:nvPr/>
          </p:nvSpPr>
          <p:spPr>
            <a:xfrm>
              <a:off x="2195640" y="6308640"/>
              <a:ext cx="609588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271600" y="6308640"/>
                  <a:ext cx="24256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⊕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853240" y="6308640"/>
                  <a:ext cx="24066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⊗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E9D1-16D3-45F8-98B8-9E39015B5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so de portas 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86360" y="2790720"/>
            <a:ext cx="7578360" cy="2369160"/>
            <a:chOff x="1386360" y="2790720"/>
            <a:chExt cx="7578360" cy="2369160"/>
          </a:xfrm>
        </p:grpSpPr>
        <p:sp>
          <p:nvSpPr>
            <p:cNvPr id="134" name=""/>
            <p:cNvSpPr/>
            <p:nvPr/>
          </p:nvSpPr>
          <p:spPr>
            <a:xfrm flipH="1">
              <a:off x="2679480" y="3425760"/>
              <a:ext cx="392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59280" y="2955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60720" y="29574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76920" y="2982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8080" y="3429000"/>
              <a:ext cx="182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668320" y="4350960"/>
              <a:ext cx="10904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746520" y="3884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47960" y="38862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564160" y="3911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5320" y="43578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9280" y="35528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6520" y="35542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8360" y="354348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53000" y="35323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32200" y="3375000"/>
              <a:ext cx="965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4280" y="3392640"/>
              <a:ext cx="965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360" y="30430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63120" y="39085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2720" y="4713120"/>
              <a:ext cx="476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6520" y="476100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mpo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03360" y="323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4800" y="41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04800" y="2790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6600" y="3719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3680" y="4710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4480" y="4724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8880" y="47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04840" y="47131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21360" y="3338640"/>
              <a:ext cx="204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0.3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702080" y="5661000"/>
            <a:ext cx="193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t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4FAF-125F-460B-AF4C-F871EF8D7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02920" y="181296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aída é função dos valores de entrada corr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s circuitos não têm capacidade de armazena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60199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6597-8E3F-4C8E-820F-D8B444EA8D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5614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qüência de oper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todas as variáveis de ent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todas as variáveis de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artir da combinação das variáveis de entrada, montar a tabela-verdade para cad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, a partir da tabela-verdade,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ressão boolea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cad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r, a partir da expressão booleana, o circuito combinacional correspond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0520" y="2349360"/>
            <a:ext cx="7575480" cy="822600"/>
            <a:chOff x="1460520" y="2349360"/>
            <a:chExt cx="7575480" cy="822600"/>
          </a:xfrm>
        </p:grpSpPr>
        <p:sp>
          <p:nvSpPr>
            <p:cNvPr id="170" name=""/>
            <p:cNvSpPr/>
            <p:nvPr/>
          </p:nvSpPr>
          <p:spPr>
            <a:xfrm>
              <a:off x="1460520" y="2349360"/>
              <a:ext cx="151776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9040" y="2484720"/>
              <a:ext cx="126072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89120" y="26355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TU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8320" y="2349360"/>
              <a:ext cx="151920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99000" y="2349360"/>
              <a:ext cx="151776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16800" y="2349360"/>
              <a:ext cx="151920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6840" y="2484720"/>
              <a:ext cx="126216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6760" y="2553480"/>
              <a:ext cx="87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BELA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080" y="277524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27880" y="2484720"/>
              <a:ext cx="138420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49840" y="263556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45320" y="2484720"/>
              <a:ext cx="126216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4760" y="264420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975040" y="2683080"/>
              <a:ext cx="502920" cy="148680"/>
              <a:chOff x="2975040" y="2683080"/>
              <a:chExt cx="502920" cy="148680"/>
            </a:xfrm>
          </p:grpSpPr>
          <p:sp>
            <p:nvSpPr>
              <p:cNvPr id="184" name=""/>
              <p:cNvSpPr/>
              <p:nvPr/>
            </p:nvSpPr>
            <p:spPr>
              <a:xfrm>
                <a:off x="2975040" y="2755440"/>
                <a:ext cx="37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40440" y="2683080"/>
                <a:ext cx="13752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994280" y="2683080"/>
              <a:ext cx="504360" cy="148680"/>
              <a:chOff x="4994280" y="2683080"/>
              <a:chExt cx="504360" cy="14868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4280" y="275544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60400" y="2683080"/>
                <a:ext cx="13824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012080" y="2683080"/>
              <a:ext cx="504360" cy="148680"/>
              <a:chOff x="7012080" y="2683080"/>
              <a:chExt cx="504360" cy="148680"/>
            </a:xfrm>
          </p:grpSpPr>
          <p:sp>
            <p:nvSpPr>
              <p:cNvPr id="190" name=""/>
              <p:cNvSpPr/>
              <p:nvPr/>
            </p:nvSpPr>
            <p:spPr>
              <a:xfrm>
                <a:off x="7012080" y="275544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78200" y="2683080"/>
                <a:ext cx="13824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027B-5557-4680-B5FD-14A03205F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9-17T09:17:18Z</dcterms:modified>
  <cp:revision>183</cp:revision>
  <dc:subject/>
  <dc:title>Organização e Arquitetura de Computadores I</dc:title>
</cp:coreProperties>
</file>