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502A0-61DA-40B9-8F1B-896D268389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D9834-CD04-41A4-83F5-689CB41EEA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100D4-B045-4C54-A763-8F22C7966A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96000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51672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40328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96000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51672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10B21-FF71-4EB5-83FE-BE6D930481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407FD2-68A0-4485-A09B-545516B4C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05E5F8-DEA8-4EC3-9BC9-1442480B2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F571DC-D09C-49FD-822B-AE7766A62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C21085-0843-4009-AC46-1A76DDF00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818964-CB12-49FE-85F3-284C68D84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219320" y="18864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51E11B-F2F5-4E8E-A99D-5AF054C6B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11D338-02DA-430B-B859-8EC5B8391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37334-B652-425C-A5FD-865942D705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A2A297-2075-4E19-8D87-4E8930056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6BE540-DD81-467B-9369-B1069A0F6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89CE6F-CB9A-4191-9F77-7C841441E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136AA9-4CEA-4278-8952-8F8D692D3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96000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51672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40328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96000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51672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16DE72-F59F-4516-B2D5-7384A4A8B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C651F-BFF4-4FA6-B3F3-DDD8D62735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1BF75-2721-465C-8596-501DE3F032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6DE02-EDB2-4668-8DC3-004312DEA8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219320" y="18864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DDD95-2797-4B5E-9F3D-578E0859C1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B15F3-498D-4DED-BC1B-825BAE4A3B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A2080-8390-494C-B3ED-0E576DFA80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9B1DB-D90C-4FDC-9631-2AF6B91467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143000" y="1557360"/>
            <a:ext cx="8001000" cy="0"/>
          </a:xfrm>
          <a:prstGeom prst="line">
            <a:avLst/>
          </a:prstGeom>
          <a:ln cap="sq"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872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EF73B-DD8A-462D-A3EE-4F6D5FB8AA1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324000" y="6165360"/>
            <a:ext cx="647640" cy="576360"/>
            <a:chOff x="324000" y="6165360"/>
            <a:chExt cx="647640" cy="576360"/>
          </a:xfrm>
        </p:grpSpPr>
        <p:sp>
          <p:nvSpPr>
            <p:cNvPr id="6" name=""/>
            <p:cNvSpPr/>
            <p:nvPr/>
          </p:nvSpPr>
          <p:spPr>
            <a:xfrm>
              <a:off x="324000" y="6627240"/>
              <a:ext cx="647640" cy="1144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000000"/>
                  </a:solidFill>
                  <a:latin typeface="Humanst521 BT"/>
                </a:rPr>
                <a:t>DSC/CEEI/UFC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86080" y="634788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flipV="1">
              <a:off x="354600" y="6165000"/>
              <a:ext cx="35172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88240" y="635652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flipV="1">
              <a:off x="355680" y="6173640"/>
              <a:ext cx="35388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92080" y="3141720"/>
            <a:ext cx="8001000" cy="0"/>
          </a:xfrm>
          <a:prstGeom prst="line">
            <a:avLst/>
          </a:prstGeom>
          <a:ln cap="sq"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9236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14400" y="141300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2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3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08CA2-AB5D-4B20-89FF-753D49192A2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39640" y="6165360"/>
            <a:ext cx="647640" cy="576360"/>
            <a:chOff x="539640" y="6165360"/>
            <a:chExt cx="647640" cy="576360"/>
          </a:xfrm>
        </p:grpSpPr>
        <p:sp>
          <p:nvSpPr>
            <p:cNvPr id="54" name=""/>
            <p:cNvSpPr/>
            <p:nvPr/>
          </p:nvSpPr>
          <p:spPr>
            <a:xfrm>
              <a:off x="539640" y="6627240"/>
              <a:ext cx="647640" cy="1144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000000"/>
                  </a:solidFill>
                  <a:latin typeface="Humanst521 BT"/>
                </a:rPr>
                <a:t>DSC/CEEI/UFC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01720" y="634788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 flipV="1">
              <a:off x="570240" y="6165000"/>
              <a:ext cx="35172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03880" y="635652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571320" y="6173640"/>
              <a:ext cx="35388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763640" y="115920"/>
            <a:ext cx="71294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partamento de Sistemas e Comput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834920" y="3499920"/>
            <a:ext cx="70866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Conceitos Básic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(Parte II)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Prof</a:t>
            </a:r>
            <a:r>
              <a:rPr b="1" lang="pt-BR" sz="1600" spc="-1" strike="noStrike" u="sng" baseline="30000">
                <a:solidFill>
                  <a:srgbClr val="000000"/>
                </a:solidFill>
                <a:uFillTx/>
                <a:latin typeface="Verdana"/>
              </a:rPr>
              <a:t>a</a:t>
            </a: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 Joseana Macêdo Fechin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joseana@dsc.ufcg.edu.b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Carga Horária: 60 hora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908000" y="141300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Organização e Arquitetura </a:t>
            </a:r>
            <a:br>
              <a:rPr sz="3200"/>
            </a:b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de Computadores 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332000" y="184464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lgumas definiçõ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 número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1,10101x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10)</a:t>
            </a:r>
            <a:r>
              <a:rPr b="1" lang="pt-BR" sz="2000" spc="-1" strike="noStrike" baseline="30000">
                <a:solidFill>
                  <a:srgbClr val="000000"/>
                </a:solidFill>
                <a:latin typeface="Arial"/>
              </a:rPr>
              <a:t>101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1,10101 = significan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101 = expo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OBS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base binária  não precisa ser explicitad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o computador usa sempre es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“1” antes da vírgula, na representação normalizad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ta for adotada, também pode ficar implícito,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conomizando um bit (“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bit escondid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presentação em </a:t>
            </a:r>
            <a:br>
              <a:rPr sz="3600"/>
            </a:b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onto Flutuant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E889C-A49A-4E60-BD76-5209CDC1032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371600" y="1844640"/>
            <a:ext cx="7593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rmazenamento de Flo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Na organização/arquitetura do computador, deve-se definir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úmero de bits do significando (precisão,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úmero de bits do expoente (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 bit (“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” para + e “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” para -) de sinal (tipicamente o primeiro, da esquer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presentação em </a:t>
            </a:r>
            <a:br>
              <a:rPr sz="3600"/>
            </a:b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onto Flutuant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3E3E7-AF68-4367-BB3A-596440B8F65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58920" y="260280"/>
            <a:ext cx="741672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O Padrão IEEE 754 para Números em Ponto Flutuant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31640" y="1844640"/>
            <a:ext cx="75927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padrão IEEE 754 para ponto (vírgula) flutuante é a representação mais comum para 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números reai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em computadores de hoje, incluindo PC's compatíveis com Intel, Macintosh, e a maioria das plataformas Unix/Linu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"/>
              </a:rPr>
              <a:t>O padrão IEEE 754 define três formatos</a:t>
            </a: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ecisão simple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(32 bi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ecisão dupl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(64 bi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ecisão estendida (80 bi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s formatos de precisão simples e precisão dupla usam a base 2 para o significando e a notação em excesso para o expo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39D53-7A66-4946-A28F-EBB188C0DA2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371600" y="3933720"/>
            <a:ext cx="759312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0 = + e 1 =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binaçõ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Sinal + Expoente + Significa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ação e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cesso de 127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it de polarização): precisão sim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ação e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cesso de 102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it de polarização): precisão dup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547640" y="2205000"/>
          <a:ext cx="6934320" cy="1523880"/>
        </p:xfrm>
        <a:graphic>
          <a:graphicData uri="http://schemas.openxmlformats.org/drawingml/2006/table">
            <a:tbl>
              <a:tblPr/>
              <a:tblGrid>
                <a:gridCol w="2133720"/>
                <a:gridCol w="1143000"/>
                <a:gridCol w="1828800"/>
                <a:gridCol w="182880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isã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oente(+/-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ifican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ples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2bit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bit31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bits30-23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bits22-00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pla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64 bit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bit63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bits62-52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bits51-00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 Padrão IEEE 754 para Números em Ponto Flutuant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B5DB0-7C12-4D2E-B78B-9B5BD138DDB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332000" y="1916280"/>
            <a:ext cx="7488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lustr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poentes na 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precisão simple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c/256 combinaç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4200" indent="-220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01111111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(127</a:t>
            </a:r>
            <a:r>
              <a:rPr b="0" lang="pt-BR" sz="2000" spc="-1" strike="noStrike" baseline="-30000">
                <a:solidFill>
                  <a:srgbClr val="000000"/>
                </a:solidFill>
                <a:latin typeface="Arial"/>
              </a:rPr>
              <a:t>10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 = expoente zero 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bia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= polarizaçã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4200" indent="-220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00000001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= menor expoente = –126 (abaixo de zer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4200" indent="-220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11111110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= maior expoente = +127 (acima de zer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4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 Padrão IEEE 754 para Números em Ponto Flutuant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22F45-F5F8-4A0E-8B7F-CF83961E7F8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371240" y="1988640"/>
            <a:ext cx="73040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xemplo: Realize as conversões abaix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10,875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(   ?   )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(IEEE 754, com 32 bi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11000001110100000000000000000000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IEEE 754, com 32 bits) =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(   ?   )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 Padrão IEEE 754 para Números em Ponto Flutuant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8757E-307B-48E1-A811-480D30A564B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258920" y="177336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uçã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,875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10,11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,010111 x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al: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oente: 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127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=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, x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3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001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ificando: 0101110000000000000000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úmer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IEEE 754, com 32 bits)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1000001001011100000000000000000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 Padrão IEEE 754 para Números em Ponto Flutuant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786E2-1C5D-4351-B974-3E39E4C1E58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332000" y="1812960"/>
            <a:ext cx="7416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oluçã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11000001110100000000000000000000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IEEE 754, com 32 bi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inal: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poente: 10000011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= 131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, x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+127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= 131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, x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= 4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ignificando: 10100000000000000000000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Númer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(negativo) 1,101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x 2</a:t>
            </a:r>
            <a:r>
              <a:rPr b="0" lang="pt-BR" sz="20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= 11010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=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-26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 Padrão IEEE 754 para Números em Ponto Flutuant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7F638-6115-4BCD-A398-BA68800D53D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332000" y="2571840"/>
            <a:ext cx="7543800" cy="3809880"/>
          </a:xfrm>
          <a:prstGeom prst="rect">
            <a:avLst/>
          </a:prstGeom>
          <a:solidFill>
            <a:srgbClr val="ffffcc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407960" y="188604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pos numéricos IEEE 7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332000" y="2800440"/>
            <a:ext cx="7390800" cy="2821680"/>
            <a:chOff x="1332000" y="2800440"/>
            <a:chExt cx="7390800" cy="2821680"/>
          </a:xfrm>
        </p:grpSpPr>
        <p:grpSp>
          <p:nvGrpSpPr>
            <p:cNvPr id="139" name=""/>
            <p:cNvGrpSpPr/>
            <p:nvPr/>
          </p:nvGrpSpPr>
          <p:grpSpPr>
            <a:xfrm>
              <a:off x="1712880" y="2800440"/>
              <a:ext cx="7009560" cy="383040"/>
              <a:chOff x="1712880" y="2800440"/>
              <a:chExt cx="7009560" cy="383040"/>
            </a:xfrm>
          </p:grpSpPr>
          <p:sp>
            <p:nvSpPr>
              <p:cNvPr id="140" name=""/>
              <p:cNvSpPr/>
              <p:nvPr/>
            </p:nvSpPr>
            <p:spPr>
              <a:xfrm>
                <a:off x="2931480" y="2800440"/>
                <a:ext cx="380880" cy="38088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007800" y="2876400"/>
                <a:ext cx="380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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312720" y="2800440"/>
                <a:ext cx="1599840" cy="38088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388680" y="2876400"/>
                <a:ext cx="1447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Arial"/>
                  </a:rPr>
                  <a:t>0 &lt; Exp &lt; Ma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912920" y="2800440"/>
                <a:ext cx="3809520" cy="38088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912920" y="2876400"/>
                <a:ext cx="3733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Qualquer configuração de bi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712880" y="2876400"/>
                <a:ext cx="1218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ormalizad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2931840" y="3409920"/>
              <a:ext cx="380880" cy="38088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008160" y="3486240"/>
              <a:ext cx="38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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313080" y="3409920"/>
              <a:ext cx="1599840" cy="38088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89040" y="3486240"/>
              <a:ext cx="144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00 ...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913280" y="3409920"/>
              <a:ext cx="3809520" cy="38088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913280" y="3486240"/>
              <a:ext cx="3733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ualquer configuração de bits diferente de zer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332000" y="3486240"/>
              <a:ext cx="159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ão-Normaliza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" name=""/>
            <p:cNvGrpSpPr/>
            <p:nvPr/>
          </p:nvGrpSpPr>
          <p:grpSpPr>
            <a:xfrm>
              <a:off x="1712880" y="4019400"/>
              <a:ext cx="7009560" cy="383040"/>
              <a:chOff x="1712880" y="4019400"/>
              <a:chExt cx="7009560" cy="383040"/>
            </a:xfrm>
          </p:grpSpPr>
          <p:sp>
            <p:nvSpPr>
              <p:cNvPr id="155" name=""/>
              <p:cNvSpPr/>
              <p:nvPr/>
            </p:nvSpPr>
            <p:spPr>
              <a:xfrm>
                <a:off x="2931480" y="4019400"/>
                <a:ext cx="380880" cy="38088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007800" y="4095360"/>
                <a:ext cx="380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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312720" y="4019400"/>
                <a:ext cx="1599840" cy="38088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388680" y="4095360"/>
                <a:ext cx="1447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00 ... 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912920" y="4019400"/>
                <a:ext cx="3809520" cy="38088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912920" y="4095360"/>
                <a:ext cx="3733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000 ...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712880" y="4095360"/>
                <a:ext cx="1218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Zer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1712880" y="4629240"/>
              <a:ext cx="7009560" cy="383040"/>
              <a:chOff x="1712880" y="4629240"/>
              <a:chExt cx="7009560" cy="383040"/>
            </a:xfrm>
          </p:grpSpPr>
          <p:sp>
            <p:nvSpPr>
              <p:cNvPr id="163" name=""/>
              <p:cNvSpPr/>
              <p:nvPr/>
            </p:nvSpPr>
            <p:spPr>
              <a:xfrm>
                <a:off x="2931480" y="4629240"/>
                <a:ext cx="380880" cy="38088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007800" y="4705200"/>
                <a:ext cx="380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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312720" y="4629240"/>
                <a:ext cx="1599840" cy="38088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388680" y="4705200"/>
                <a:ext cx="1447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11 ... 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912920" y="4629240"/>
                <a:ext cx="3809520" cy="38088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912920" y="4705200"/>
                <a:ext cx="3733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000 ..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712880" y="4705200"/>
                <a:ext cx="1218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nfinit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2931840" y="5238720"/>
              <a:ext cx="380880" cy="38088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008160" y="5315040"/>
              <a:ext cx="38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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313080" y="5238720"/>
              <a:ext cx="1599840" cy="38088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389040" y="5315040"/>
              <a:ext cx="144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11 ...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913280" y="5238720"/>
              <a:ext cx="3809520" cy="38088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913280" y="5315040"/>
              <a:ext cx="3733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ualquer configuração de bits diferente de zer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407960" y="5315040"/>
              <a:ext cx="152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Not a Numb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2703600" y="60008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it de s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3160800" y="5695560"/>
            <a:ext cx="0" cy="3049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 Padrão IEEE 754 para Números em Ponto Flutuant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72E1F-3CE3-465A-AB95-F1B0F06A2D5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1403280" y="1773360"/>
            <a:ext cx="7416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Ilustr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poentes na 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precisão simple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c/256 combinaç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"/>
              </a:rPr>
              <a:t>0000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inal=1 e significando = 0...0 : -z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inal=0 e significando = 0...0 : +z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"/>
              </a:rPr>
              <a:t>111111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inal=1 e significando = 0...0 : -infin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inal=0 e significando = 0...0 : +infin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inal=1 e significando =10...0:  indetermin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/outras combinações: N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 Padrão IEEE 754 para Números em Ponto Flutuant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5936D-F7F6-420A-81E6-D3FEDE6A366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óp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184464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ação da Inform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úmeros Inteiros (Complemento de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úmeros Reais (Ponto Flutuan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úmeros em BC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0B692-2384-440F-B201-143838D49DC7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332000" y="191628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ustr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nor número positiv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mbre do bit escondido e não normaliza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4200" indent="-220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 00000000 00….0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12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x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2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-1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or número positiv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mbre do bit escondid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4200" indent="-220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 11111110 11...1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12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x (2-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-2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4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 Padrão IEEE 754 para Números em Ponto Flutuant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F7520-981A-4687-AD80-4AFF62E0BB7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1258560" y="1700280"/>
            <a:ext cx="7745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Ilustr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poentes na 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precisão dup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01111111111</a:t>
            </a:r>
            <a:r>
              <a:rPr b="0" lang="pt-BR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1023</a:t>
            </a:r>
            <a:r>
              <a:rPr b="0" lang="pt-BR" sz="2000" spc="-1" strike="noStrike" baseline="-30000">
                <a:solidFill>
                  <a:srgbClr val="000000"/>
                </a:solidFill>
                <a:latin typeface="Arial"/>
              </a:rPr>
              <a:t>10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 = expoente zero 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bia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= polarizaçã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00000000001</a:t>
            </a:r>
            <a:r>
              <a:rPr b="0" lang="pt-BR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= menor expoente = –1022 (abaixo de zer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11111111110</a:t>
            </a:r>
            <a:r>
              <a:rPr b="0" lang="pt-BR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= maior expoente = +1023 (acima de zer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enor número positiv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(lembre do bit escondido e não normaliza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080" indent="-216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0 00000000000 00…01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0" lang="pt-BR" sz="2000" spc="-1" strike="noStrike" baseline="30000">
                <a:solidFill>
                  <a:srgbClr val="000000"/>
                </a:solidFill>
                <a:latin typeface="Arial"/>
              </a:rPr>
              <a:t>-1022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x 2</a:t>
            </a:r>
            <a:r>
              <a:rPr b="0" lang="pt-BR" sz="2000" spc="-1" strike="noStrike" baseline="30000">
                <a:solidFill>
                  <a:srgbClr val="000000"/>
                </a:solidFill>
                <a:latin typeface="Arial"/>
              </a:rPr>
              <a:t>-52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000" spc="-1" strike="noStrike" baseline="30000">
                <a:solidFill>
                  <a:srgbClr val="000000"/>
                </a:solidFill>
                <a:latin typeface="Arial"/>
              </a:rPr>
              <a:t>-10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aior número positiv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(lembre do bit escondid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080" indent="-216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0 11111111110 11...11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000" spc="-1" strike="noStrike" baseline="30000">
                <a:solidFill>
                  <a:srgbClr val="000000"/>
                </a:solidFill>
                <a:latin typeface="Arial"/>
              </a:rPr>
              <a:t>1023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x (2-2</a:t>
            </a:r>
            <a:r>
              <a:rPr b="1" lang="pt-BR" sz="2000" spc="-1" strike="noStrike" baseline="30000">
                <a:solidFill>
                  <a:srgbClr val="000000"/>
                </a:solidFill>
                <a:latin typeface="Arial"/>
              </a:rPr>
              <a:t>-52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 Padrão IEEE 754 para Números em Ponto Flutuant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886C5-C42D-4FF2-A231-A9905A61C4F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1371240" y="1989000"/>
            <a:ext cx="75214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dro Resumo - IEEE 7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1692360" y="2781360"/>
          <a:ext cx="6933960" cy="2303280"/>
        </p:xfrm>
        <a:graphic>
          <a:graphicData uri="http://schemas.openxmlformats.org/drawingml/2006/table">
            <a:tbl>
              <a:tblPr/>
              <a:tblGrid>
                <a:gridCol w="1371600"/>
                <a:gridCol w="2133360"/>
                <a:gridCol w="2057400"/>
                <a:gridCol w="1371600"/>
              </a:tblGrid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isã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aliz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aliz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im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p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± 2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(1-2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23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x 2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± 2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(2-2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23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x 2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± ~10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44.85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 ~10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8.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p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± 2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0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(1-2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5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x2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0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± 2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0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(2-2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5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x2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0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± ~10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323.3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 ~10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08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 Padrão IEEE 754 para Números em Ponto Flutuant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15578-F723-4D0E-922A-D1ACE52D315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1403280" y="2133720"/>
            <a:ext cx="733896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representação em ponto flutuante tem limites d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c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 d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cisã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c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é limitado pelo número de bits d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en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cisã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é determinada pelo número de bits d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gnificand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 Padrão IEEE 754 para Números em Ponto Flutuant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C2CCE-5219-43B3-A108-E8A1D583EF3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258560" y="2060640"/>
            <a:ext cx="7583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sse método consiste na determinação de uma posição fixa para a vírgul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(ou ponto)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odos os valores representados em ponto fixo para uma determinada operação possuem a mesma quantidade de algarismos inteiros, bem como a mesma quantidade de algarismos fracionár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xempl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1101,101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110,001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0011,1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12589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presentação em </a:t>
            </a:r>
            <a:br>
              <a:rPr sz="3600"/>
            </a:b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onto Fix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AE4EA-D9E0-45E6-AAE4-F7E810BBEB7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1332000" y="1916280"/>
            <a:ext cx="7627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s posições mais adotadas para a vírgula sã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a extremidade esquerda do número – nesse caso, o número é totalmente fracionári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a extremidade mais a direita do número – nesse caso, o número é intei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 qualquer desses casos, no entanto, a vírgula fracionária não estará fisicamente representada na memória; sua posição é determinada na definição da variável, realizada pelo programador (ou pelo compilador), e o sistema memoriza essa posição, mas não a representa fisica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presentação em </a:t>
            </a:r>
            <a:br>
              <a:rPr sz="3600"/>
            </a:b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onto Fix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26656-36D6-41AA-B601-6A47982AB29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1371600" y="1773360"/>
            <a:ext cx="7593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representação de números reais em ponto flutuante é perfeitamente adequada para fazer cálculos matemáticos, científicos, et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a representação em ponto flutuante pode-se ter perda de precisão do número representado ou mesmo haverá números que não podem ser representados por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overflow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ra  representação de números em que é necessário manter precisão até o último algarismo, não é admissível erro por aproximaçã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"/>
              </a:rPr>
              <a:t>Soluçã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usar a representaçã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BCD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Binary Coded Decimal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(Decimal Representado em Binário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presentação BCD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67C90-A5D8-4E14-891C-4F201F7CD7B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331640" y="1700280"/>
            <a:ext cx="7583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idéia do BCD é representar, em binário, cada algarismo de forma  que o número original seja integralmente preservad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dificação BCD não possui extensão fixa, possibilitando representar números com precisão variável - quanto maior o número de bits, maior será a precisã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presentação BCD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CF7FC-6E0B-4A2E-8EE0-BAC1DFD2825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1258560" y="1700280"/>
            <a:ext cx="7496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bela de Representação dos Números Decimais em BC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981080" y="2246400"/>
          <a:ext cx="6096240" cy="403056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im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C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201" name=""/>
          <p:cNvSpPr/>
          <p:nvPr/>
        </p:nvSpPr>
        <p:spPr>
          <a:xfrm>
            <a:off x="6553080" y="6477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a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presentação BCD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CA255-3964-40F8-A1E5-F17957F8361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1042920" y="1700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bela de Representação dos Números Decimais em BC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981080" y="2093760"/>
          <a:ext cx="6096240" cy="255276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im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C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áli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áli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áli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áli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áli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áli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205" name=""/>
          <p:cNvSpPr/>
          <p:nvPr/>
        </p:nvSpPr>
        <p:spPr>
          <a:xfrm>
            <a:off x="1619280" y="4869000"/>
            <a:ext cx="7010280" cy="20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emplo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(  ?   ) BC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= 001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= 001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 = 100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     logo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= 001000111001 (BCD)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presentação BCD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98359-7251-4CAC-BD05-79606A3601F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presentação de </a:t>
            </a:r>
            <a:br>
              <a:rPr sz="3600"/>
            </a:b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Números Inteir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31640" y="1701360"/>
            <a:ext cx="7561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Representação em Complemento d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Representação de números inteiros positiv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gual à forma aprendida na conversão decimal/biná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Representação de números inteiros nega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plemento de 1 + 1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utra forma de obtenção: mantém-se os bits menos significativos da direita para a esquerda até à ocorrência do primeiro bit igual a 1 (inclusive), sendo os bits restantes complementados de 1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xemplo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 (8 bi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00001100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   = +12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0    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00101001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   = +41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0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11110100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c2   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= -12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11010111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c2   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= -41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A620F-5C62-49B7-A1AE-3FB6F17D2F2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1192320" y="177336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codificação de um dígito em BCD requer 4 b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o a utilização de apenas 4 bits por byte não é eficiente, normalmente são armazenados 2 dígitos BCD em um só byte. Esta representação é chamada </a:t>
            </a:r>
            <a:r>
              <a:rPr b="1" lang="pt-BR" sz="2000" spc="-1" strike="noStrike">
                <a:solidFill>
                  <a:srgbClr val="000099"/>
                </a:solidFill>
                <a:latin typeface="Arial"/>
              </a:rPr>
              <a:t>BCD comprimido ou compactado</a:t>
            </a: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 ("</a:t>
            </a:r>
            <a:r>
              <a:rPr b="1" i="1" lang="pt-BR" sz="2000" spc="-1" strike="noStrike">
                <a:solidFill>
                  <a:srgbClr val="000099"/>
                </a:solidFill>
                <a:latin typeface="Arial"/>
              </a:rPr>
              <a:t>packed BCD</a:t>
            </a: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")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emplo: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14239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= (  ?   ) BC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619280" y="4724280"/>
          <a:ext cx="6781680" cy="1569960"/>
        </p:xfrm>
        <a:graphic>
          <a:graphicData uri="http://schemas.openxmlformats.org/drawingml/2006/table">
            <a:tbl>
              <a:tblPr/>
              <a:tblGrid>
                <a:gridCol w="1525680"/>
                <a:gridCol w="1611000"/>
                <a:gridCol w="1525680"/>
                <a:gridCol w="21193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úmero decim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xx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00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111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resentação BCD comprimi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+2                                            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+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ereç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presentação BCD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AA679-8493-4C61-B712-AA6EC07A5D8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1258560" y="170028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ntre os algarismos sem código válido em decimal (códigos representativos dos valores decimais de 10 a 15), é comum utilizar alguns deles para indicar o sinal do númer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Há sistemas que adotam a seguinte convenção para o sinal dos números representados em BC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100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presenta o sinal positivo (“+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101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presenta o sinal negativo (“-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presentação BCD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7E38C-092E-4D4C-A3FF-2DA21045F79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1258560" y="1773360"/>
            <a:ext cx="77007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 nesta representação ainda há um desperdício de códigos; como BCD usa 4 bits (16 representações possíveis) para representar 10 algarismos, 6 (ou 4) códigos não são utilizad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tanto, essa representação é menos eficiente em relação à utilização dos recursos do computador que a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representação em ponto flutuan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presentação BCD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3006D-5966-4420-9174-DBB05BB91E0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1371600" y="1844640"/>
            <a:ext cx="7377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Na maioria das linguagens de programação e nos sistemas de computação (e os compiladores da maior parte das linguagens de programação) emprega-s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representação de números em ponto fixo para indicar valores inteiros (a vírgula fracionária é assumida na posição mais à direita do número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úmeros fracionários sã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presentados apenas em ponto flutua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 Representação da Informaçã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C8978-FBD5-43EF-9CA6-8188DDD6B1B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258920" y="1916280"/>
            <a:ext cx="7467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mpl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úmeros inteiros codificados e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nário de 8 bi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 um sistema que utiliza complemento de 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-128, -127, ...,  -2. -1,  0,  +1,  +2,...,  +12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{10000000, 10000001, ..., 11111110, 11111111,  00000000, 00000001, 00000010, ..., 01111111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 mais significativo       informação de si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0 = positivo e 1 = negativ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643280" y="5661000"/>
            <a:ext cx="30492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presentação em Complemento de 2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81B9C-8262-4911-873B-225CECBB213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295280" y="1600200"/>
            <a:ext cx="762012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m só circui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mador) para fazer a adição e a subtraçã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á apenas uma representação para o val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disponibilidade par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s uma representação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mais um número negativo pode ser representado (para 8 bits, pode-se representar o número –128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0000000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quantidade de números positivos é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feren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a quantidade de números nega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presentação em Complemento de 2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CB0C9-D021-4B73-B085-FF4937C06F6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971280" y="1844280"/>
            <a:ext cx="7848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Números negativos de 8 bits expressos em Complemento de 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556000" y="2276640"/>
          <a:ext cx="4464000" cy="4216320"/>
        </p:xfrm>
        <a:graphic>
          <a:graphicData uri="http://schemas.openxmlformats.org/drawingml/2006/table">
            <a:tbl>
              <a:tblPr/>
              <a:tblGrid>
                <a:gridCol w="1179360"/>
                <a:gridCol w="1363680"/>
                <a:gridCol w="1920960"/>
              </a:tblGrid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ecima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binári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omplemento de 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00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111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00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11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00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111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00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11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01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10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10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01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100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11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1111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presentação em Complemento de 2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15A2C-1394-4F76-9FEB-5A7AEFB12C0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140360" y="3141720"/>
            <a:ext cx="1944360" cy="609480"/>
          </a:xfrm>
          <a:prstGeom prst="rect">
            <a:avLst/>
          </a:prstGeom>
          <a:solidFill>
            <a:srgbClr val="ffffcc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258560" y="177336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Representação em Ponto Flutua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a maneira de separar a faixa de variação dos números de sua precisão consiste em representá-lo na notação científ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x 10</a:t>
            </a:r>
            <a:r>
              <a:rPr b="1" i="1" lang="pt-BR" sz="20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- fração ou significando (ou mantiss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- expoente (inteiro positivo ou negativ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alquer número (inteiro ou fracionário) pode ser expresso no format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número x base</a:t>
            </a:r>
            <a:r>
              <a:rPr b="1" lang="pt-BR" sz="2000" spc="-1" strike="noStrike" baseline="30000">
                <a:solidFill>
                  <a:srgbClr val="000000"/>
                </a:solidFill>
                <a:latin typeface="Arial"/>
              </a:rPr>
              <a:t>expoent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podendo-se variar a posição da vírgula  e o expoen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nominação (computacional):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representação em ponto flutuant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(o ponto varia sua posição, modificando, em conseqüência, o valor representado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presentação de </a:t>
            </a:r>
            <a:br>
              <a:rPr sz="3600"/>
            </a:b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Números Reai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7EEEC-76AB-48DE-8BC6-8DCE599775E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331640" y="1844640"/>
            <a:ext cx="7391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presentação pode variar (“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lutua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”) a posição da vírgula, ajustando a potência da b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xemplo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3,14 = 0,314 x 10</a:t>
            </a:r>
            <a:r>
              <a:rPr b="0" lang="pt-BR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= 3,14 x 10</a:t>
            </a:r>
            <a:r>
              <a:rPr b="0" lang="pt-BR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0,000001= 0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 x 10</a:t>
            </a:r>
            <a:r>
              <a:rPr b="0" lang="pt-BR" sz="20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= 1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0 x 10</a:t>
            </a:r>
            <a:r>
              <a:rPr b="0" lang="pt-BR" sz="20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941 = 0,1941 x 10</a:t>
            </a:r>
            <a:r>
              <a:rPr b="0" lang="pt-BR" sz="20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= 1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941 x 10</a:t>
            </a:r>
            <a:r>
              <a:rPr b="0" lang="pt-BR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aixa de variaç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dos números é determinada pela quantidade de dígitos do expoente e a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ecis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é determinada pela quantidade de dígitos do significan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presentação em </a:t>
            </a:r>
            <a:br>
              <a:rPr sz="3600"/>
            </a:b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onto Flutuant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9B99B-BEA8-47C3-8641-3C189854C97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218960" y="1699920"/>
            <a:ext cx="792468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 normalizad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sa um único dígito antes da vírgula, diferente de zero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 representação computacional de números em ponto flutuante, a representação normalizada é, em geral, melhor que a não-normaliz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 normalizad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só existe uma forma de representar um núme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 não normalizad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um mesmo número pode ser representado de diversas maneir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73320" y="4992840"/>
            <a:ext cx="7619760" cy="16693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drão IEEE 754 para números em ponto flutuante –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gnificando normalizad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começa com um bit 1, seguido de um ponto (vírgula) binário e pelo resto do significando (número = ± 1,_ _  ... x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tiss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rmalizad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começa com o ponto (vírgula) binário seguido por um bit 1 e pelo resto da mantissa (bit antes da vírgula igual a zero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presentação em </a:t>
            </a:r>
            <a:br>
              <a:rPr sz="3600"/>
            </a:b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onto Flutuant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4D1B2-D42B-4674-9F5C-2EF7B275CE5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22:34:42Z</dcterms:created>
  <dc:creator>Joseana Macêdo Fechine/DSC/UFCG</dc:creator>
  <dc:description/>
  <dc:language>en-US</dc:language>
  <cp:lastModifiedBy>USE</cp:lastModifiedBy>
  <dcterms:modified xsi:type="dcterms:W3CDTF">2008-05-02T11:44:00Z</dcterms:modified>
  <cp:revision>158</cp:revision>
  <dc:subject/>
  <dc:title>Organização e Arquitetura de Computadores I</dc:title>
</cp:coreProperties>
</file>