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6A0D-EEC5-4FE3-906F-CE094F872C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n = 4 si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6 i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&gt;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ceiling function for lo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is 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29B6-1601-43A7-A9E6-B9E87A3EF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D93D-A30A-42C2-94FD-BEA554822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E976-6C76-471B-BD86-D10F75CD0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3D60-6508-418D-8255-F0FE07798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2679C-A730-45F0-B772-5B1CB044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C45A5-E9F6-4346-BB63-423F1B16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60273-92CE-4952-8983-262B31A0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15ACE-523F-4B0F-B82C-A8752561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C8DB3-9187-471E-B6A8-BF46C0D2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D42E0-73C7-4578-A2C9-CC9704B7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82F36-9A1D-417D-8FF4-421CF1BD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4D2F-06BB-43FD-ACC0-9777A0C56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53930-A0F1-4498-AA65-CA67784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921A3-8839-45B7-BEEA-E236E46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40677-A6A2-4EE1-ACB3-2F02BB4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40B93-CAE4-425D-A715-59452542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2EFC6-249A-4949-881A-EEDE09F4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3C16-26E9-423C-ACD1-0431F4B30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9464-61CC-4234-9854-3C2F32A90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A755-F27A-4FDE-945E-25E388FE7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151A-CEC2-4CAD-BDC1-B97AE9E34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AAEA-F156-49A1-935C-E00EAAC85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3873-2459-4C1F-81B5-D74296C87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CC13-235C-4308-A5D7-0D0684838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AD34-B070-43E0-A16E-98FDEB4841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24000" y="6165360"/>
            <a:ext cx="647640" cy="576360"/>
            <a:chOff x="32400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32400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08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5460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824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35568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0773-C574-4208-989A-053642ACAF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de sinal: quantidade física - tens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68360" y="2133720"/>
            <a:ext cx="7740720" cy="3517920"/>
            <a:chOff x="1368360" y="2133720"/>
            <a:chExt cx="7740720" cy="35179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1368360" y="2133720"/>
              <a:ext cx="774072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428000" y="4839480"/>
              <a:ext cx="164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reshold 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073040" y="3711240"/>
              <a:ext cx="392760" cy="135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E1AD-A5FC-4063-9649-9912681B55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Valores Binários: outras quantidades fís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as quantidades físicas representadas por  0 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en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ireção do campo mag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uperfície Pits/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 Dinâmica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rga el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393372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365720"/>
            <a:ext cx="216000" cy="215640"/>
          </a:xfrm>
          <a:prstGeom prst="rightArrow">
            <a:avLst>
              <a:gd name="adj1" fmla="val 50000"/>
              <a:gd name="adj2" fmla="val 25042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350028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06864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13C4-C827-4A10-9123-2ED05D0C47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computadores manipulam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sinais brutos e sem significado individual) para produzir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ormaç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nversão de dados em informações, e estas novamente em dados, é uma parte tão fundamental em relação ao que os computadores fazem que é preciso saber como a conversão ocorre para compreender como o computador funcio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pecto importante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istema de numer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8900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Nume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DA53-8AEF-49F1-B4F7-FA7672C9F1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de Numeração – Exemp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92360" y="1916280"/>
          <a:ext cx="6624720" cy="4464000"/>
        </p:xfrm>
        <a:graphic>
          <a:graphicData uri="http://schemas.openxmlformats.org/drawingml/2006/table">
            <a:tbl>
              <a:tblPr/>
              <a:tblGrid>
                <a:gridCol w="1562040"/>
                <a:gridCol w="1677960"/>
                <a:gridCol w="180036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iná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íg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=&gt; r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=&gt;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=&gt;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tência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4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a bas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73D5-5B77-4A58-A908-83D24F43297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úmeros Binários 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s Binári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dade de re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2C54-068A-4FAB-B760-840BE7BB1C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s Binários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ão Numér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1080" y="1913040"/>
            <a:ext cx="73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ígitos binários, um código binário é um mapeamento de um conjunto de elementos em um subconjunt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s bin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9600" y="57610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26960" y="3357720"/>
            <a:ext cx="2094840" cy="2786040"/>
            <a:chOff x="4926960" y="3357720"/>
            <a:chExt cx="2094840" cy="2786040"/>
          </a:xfrm>
        </p:grpSpPr>
        <p:sp>
          <p:nvSpPr>
            <p:cNvPr id="179" name=""/>
            <p:cNvSpPr/>
            <p:nvPr/>
          </p:nvSpPr>
          <p:spPr>
            <a:xfrm>
              <a:off x="4926960" y="3357720"/>
              <a:ext cx="209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úmero Binári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1880" y="335772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08520" y="37022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7800" y="370224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08520" y="404676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7800" y="404676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8520" y="439128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57800" y="439128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08520" y="47358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7800" y="473580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57800" y="511200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08520" y="508968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57800" y="508968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8520" y="54342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57800" y="543420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08520" y="577872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57800" y="577872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414600" y="3357720"/>
            <a:ext cx="48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97360" y="3724200"/>
            <a:ext cx="12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l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98440" y="4068720"/>
            <a:ext cx="144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aranj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0720" y="4068720"/>
            <a:ext cx="13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97360" y="4413240"/>
            <a:ext cx="111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mare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9720" y="4413240"/>
            <a:ext cx="13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97360" y="4757760"/>
            <a:ext cx="77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89360" y="4757760"/>
            <a:ext cx="13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7360" y="5111640"/>
            <a:ext cx="590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98080" y="5456160"/>
            <a:ext cx="158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l esc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0920" y="5800680"/>
            <a:ext cx="13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11760" y="576108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ole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700360" y="3357720"/>
          <a:ext cx="4458960" cy="2776320"/>
        </p:xfrm>
        <a:graphic>
          <a:graphicData uri="http://schemas.openxmlformats.org/drawingml/2006/table">
            <a:tbl>
              <a:tblPr/>
              <a:tblGrid>
                <a:gridCol w="2011320"/>
                <a:gridCol w="244764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3414-67E0-4021-AF3B-2019D8913E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lementos a serem representados por um código binário, o número mínimo de bit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necessários, satisfaz a rel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log</a:t>
            </a:r>
            <a:r>
              <a:rPr b="1" lang="en-US" sz="2400" spc="-1" strike="noStrike" baseline="-16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xempl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ntos bits são necessários para representar dígitos decimais em um código binári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úmero de bits necessári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DAD6-4552-4B8A-923E-CA5CD3648CC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s Decim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as características desses códig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746360" y="2421000"/>
          <a:ext cx="6838920" cy="3527280"/>
        </p:xfrm>
        <a:graphic>
          <a:graphicData uri="http://schemas.openxmlformats.org/drawingml/2006/table">
            <a:tbl>
              <a:tblPr/>
              <a:tblGrid>
                <a:gridCol w="1311120"/>
                <a:gridCol w="1310040"/>
                <a:gridCol w="1769760"/>
                <a:gridCol w="1297080"/>
                <a:gridCol w="115092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978280" y="31989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03880" y="55897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8280" y="34988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8280" y="49910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2360" y="4654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62560" y="46544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66000" y="46544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0120" y="4654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51800" y="4654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9600" y="2448000"/>
            <a:ext cx="106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5040" y="2448000"/>
            <a:ext cx="83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,4,2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71680" y="24480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09640" y="2448000"/>
            <a:ext cx="16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cesso 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71800" y="24480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9360" y="24480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,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76560" y="244800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76640" y="244800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04880" y="244800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7120" y="24480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29320" y="24480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96360" y="2448000"/>
            <a:ext cx="678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70640" y="24480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07600" y="28843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612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6680" y="2884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1112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4640" y="2884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764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79640" y="2884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9408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78080" y="2884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9252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92360" y="286236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1440" y="2862360"/>
            <a:ext cx="1325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4880" y="2862360"/>
            <a:ext cx="1417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62560" y="2862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1920" y="2862360"/>
            <a:ext cx="1379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66000" y="2862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75360" y="2862360"/>
            <a:ext cx="12304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50120" y="286236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24560" y="2862360"/>
            <a:ext cx="1227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51800" y="286236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07600" y="3182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612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96680" y="3182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1112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04640" y="3182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764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9640" y="3182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9408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78080" y="3182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9252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07600" y="34815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3612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6680" y="34815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1112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04640" y="34815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1764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9640" y="34815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9408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78080" y="34815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9252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7600" y="37800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612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6680" y="3780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1112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3780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764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9640" y="3780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9408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78080" y="3780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9252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07600" y="4078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612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96680" y="4078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1112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04640" y="4078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764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9640" y="4078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408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78080" y="4078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9252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07600" y="4376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612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668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1112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0464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1764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964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9408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7808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9252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07600" y="46753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612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96680" y="4675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1112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04640" y="4675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764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9640" y="4675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9408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78080" y="4675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252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76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612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6680" y="4973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1112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04640" y="4973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764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9640" y="4973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9408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78080" y="4973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9252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07600" y="5273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612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96680" y="52736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1112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04640" y="52736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1764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9640" y="52736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9408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8080" y="52736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52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07600" y="5572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612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6680" y="55720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1112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06080" y="5572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33880" y="5572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764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9640" y="55720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9408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78080" y="55720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9252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448C-32EF-49EA-B411-76D11E7714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uidado: Conversão ou Codificação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2060640"/>
            <a:ext cx="6369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1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vers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001|0011 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dificaç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3C39-7A8F-464F-8821-AA2D146B1F7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s Alfanumér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 definido pela organização AN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 de 7 bits (128 combinações de caracte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CII Estendido (utiliza outros 128 códigos para símbolos gráficos, e línguas diferentes do inglês)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-9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30 – 39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-Z         41 – 5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-z          61 – 7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ferece 2 bytes para a representação de símbolos (mais de 65.000 símbo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76720" y="3860640"/>
            <a:ext cx="215640" cy="142920"/>
          </a:xfrm>
          <a:prstGeom prst="rightArrow">
            <a:avLst>
              <a:gd name="adj1" fmla="val 50000"/>
              <a:gd name="adj2" fmla="val 3772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221000"/>
            <a:ext cx="215640" cy="142920"/>
          </a:xfrm>
          <a:prstGeom prst="rightArrow">
            <a:avLst>
              <a:gd name="adj1" fmla="val 50000"/>
              <a:gd name="adj2" fmla="val 3772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4581360"/>
            <a:ext cx="215640" cy="142920"/>
          </a:xfrm>
          <a:prstGeom prst="rightArrow">
            <a:avLst>
              <a:gd name="adj1" fmla="val 50000"/>
              <a:gd name="adj2" fmla="val 3772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D176-1FA9-41AC-8787-567B7CBD9B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igitais 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N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inário, octal e hexadecim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s Deci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s Alfanum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D524-F8C2-4B67-8781-85DE1BE7433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 para Deteção de Erro – Bit de Par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70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ere redund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idade P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o número de bits iguais a 1 é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idade Ímp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o número de bits iguais a 1 é í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detectar erro em um bit (ou múltiplos bi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de representação de um dado de 3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lavra-códig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1111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idad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lavra-códi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“1110”: paridade ímp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8B63-FCCC-4186-907C-072EFF07F6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Digitais e Computad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igi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sistema no qual os sinais têm um número finito de valores discretos, se contrapondo a sistemas analógicos nos quais os sinais têm valores pertencentes a um conjunto contínuo (infini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4076"/>
          <a:stretch/>
        </p:blipFill>
        <p:spPr>
          <a:xfrm>
            <a:off x="1763640" y="3500280"/>
            <a:ext cx="660240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0DB5-4773-4AE4-89BA-AD56CA03EF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Embarcad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ito de Aplicação Específica – 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ção Reconfigurá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ógica programável -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4149720"/>
            <a:ext cx="3200400" cy="1457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40160" y="3716280"/>
            <a:ext cx="3903840" cy="262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A2B4-63C3-4A8D-ADD1-3D35D394B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Embarcad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7448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uxo de Projeto Simpl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7895" r="0" b="0"/>
          <a:stretch/>
        </p:blipFill>
        <p:spPr>
          <a:xfrm>
            <a:off x="1763640" y="2192400"/>
            <a:ext cx="6767640" cy="462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208D-595F-4511-8912-BB1C3CB0C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Embarcados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36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s de outros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sistemas embarc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compu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crocontrol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adores digitais de si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s de aplicações para sistemas embarc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fones 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01F2-1A04-42C2-9F2F-D37A31642B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92360" y="2421000"/>
            <a:ext cx="6624720" cy="36720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Embarcad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3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af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29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5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4653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l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609400">
            <a:off x="5495400" y="3725640"/>
            <a:ext cx="1224000" cy="504720"/>
          </a:xfrm>
          <a:prstGeom prst="leftRightArrow">
            <a:avLst>
              <a:gd name="adj1" fmla="val 50000"/>
              <a:gd name="adj2" fmla="val 48277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27600">
            <a:off x="3133440" y="3692160"/>
            <a:ext cx="1224000" cy="468360"/>
          </a:xfrm>
          <a:prstGeom prst="leftRightArrow">
            <a:avLst>
              <a:gd name="adj1" fmla="val 50000"/>
              <a:gd name="adj2" fmla="val 52025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508640"/>
            <a:ext cx="1224000" cy="504720"/>
          </a:xfrm>
          <a:prstGeom prst="leftRightArrow">
            <a:avLst>
              <a:gd name="adj1" fmla="val 50000"/>
              <a:gd name="adj2" fmla="val 48277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CFFE-C16D-43AE-8D62-9B4E09FD97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a Informação - Si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representada por grandezas fí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ig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riáveis assumem valores discr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usual: sistema bi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9FC3-D2A5-45E3-B443-3C2A585110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inais ao longo do Temp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5760" y="2060640"/>
            <a:ext cx="5666760" cy="4071960"/>
            <a:chOff x="1805760" y="2060640"/>
            <a:chExt cx="5666760" cy="4071960"/>
          </a:xfrm>
        </p:grpSpPr>
        <p:grpSp>
          <p:nvGrpSpPr>
            <p:cNvPr id="133" name=""/>
            <p:cNvGrpSpPr/>
            <p:nvPr/>
          </p:nvGrpSpPr>
          <p:grpSpPr>
            <a:xfrm>
              <a:off x="3643200" y="2832480"/>
              <a:ext cx="3804840" cy="1114200"/>
              <a:chOff x="3643200" y="2832480"/>
              <a:chExt cx="3804840" cy="1114200"/>
            </a:xfrm>
          </p:grpSpPr>
          <p:sp>
            <p:nvSpPr>
              <p:cNvPr id="134" name=""/>
              <p:cNvSpPr/>
              <p:nvPr/>
            </p:nvSpPr>
            <p:spPr>
              <a:xfrm>
                <a:off x="3717000" y="2832480"/>
                <a:ext cx="3731040" cy="1114200"/>
              </a:xfrm>
              <a:custGeom>
                <a:avLst/>
                <a:gdLst/>
                <a:ahLst/>
                <a:rect l="l" t="t" r="r" b="b"/>
                <a:pathLst>
                  <a:path w="2580" h="763">
                    <a:moveTo>
                      <a:pt x="0" y="687"/>
                    </a:moveTo>
                    <a:lnTo>
                      <a:pt x="51" y="687"/>
                    </a:lnTo>
                    <a:lnTo>
                      <a:pt x="129" y="572"/>
                    </a:lnTo>
                    <a:lnTo>
                      <a:pt x="180" y="382"/>
                    </a:lnTo>
                    <a:lnTo>
                      <a:pt x="180" y="0"/>
                    </a:lnTo>
                    <a:lnTo>
                      <a:pt x="335" y="0"/>
                    </a:lnTo>
                    <a:lnTo>
                      <a:pt x="438" y="77"/>
                    </a:lnTo>
                    <a:lnTo>
                      <a:pt x="490" y="382"/>
                    </a:lnTo>
                    <a:lnTo>
                      <a:pt x="542" y="572"/>
                    </a:lnTo>
                    <a:lnTo>
                      <a:pt x="645" y="687"/>
                    </a:lnTo>
                    <a:lnTo>
                      <a:pt x="799" y="687"/>
                    </a:lnTo>
                    <a:lnTo>
                      <a:pt x="826" y="572"/>
                    </a:lnTo>
                    <a:lnTo>
                      <a:pt x="903" y="611"/>
                    </a:lnTo>
                    <a:lnTo>
                      <a:pt x="1006" y="687"/>
                    </a:lnTo>
                    <a:lnTo>
                      <a:pt x="1213" y="687"/>
                    </a:lnTo>
                    <a:lnTo>
                      <a:pt x="1290" y="420"/>
                    </a:lnTo>
                    <a:lnTo>
                      <a:pt x="1341" y="191"/>
                    </a:lnTo>
                    <a:lnTo>
                      <a:pt x="1471" y="39"/>
                    </a:lnTo>
                    <a:lnTo>
                      <a:pt x="1599" y="115"/>
                    </a:lnTo>
                    <a:lnTo>
                      <a:pt x="1676" y="191"/>
                    </a:lnTo>
                    <a:lnTo>
                      <a:pt x="1754" y="382"/>
                    </a:lnTo>
                    <a:lnTo>
                      <a:pt x="1780" y="763"/>
                    </a:lnTo>
                    <a:lnTo>
                      <a:pt x="1909" y="763"/>
                    </a:lnTo>
                    <a:lnTo>
                      <a:pt x="2038" y="572"/>
                    </a:lnTo>
                    <a:lnTo>
                      <a:pt x="2090" y="344"/>
                    </a:lnTo>
                    <a:lnTo>
                      <a:pt x="2167" y="153"/>
                    </a:lnTo>
                    <a:lnTo>
                      <a:pt x="2218" y="115"/>
                    </a:lnTo>
                    <a:lnTo>
                      <a:pt x="2399" y="77"/>
                    </a:lnTo>
                    <a:lnTo>
                      <a:pt x="2580" y="11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3643200" y="3325680"/>
                <a:ext cx="3782160" cy="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645000" y="4472280"/>
              <a:ext cx="3803400" cy="555480"/>
            </a:xfrm>
            <a:custGeom>
              <a:avLst/>
              <a:gdLst/>
              <a:ahLst/>
              <a:rect l="l" t="t" r="r" b="b"/>
              <a:pathLst>
                <a:path w="2623" h="381">
                  <a:moveTo>
                    <a:pt x="0" y="381"/>
                  </a:moveTo>
                  <a:lnTo>
                    <a:pt x="216" y="381"/>
                  </a:lnTo>
                  <a:lnTo>
                    <a:pt x="216" y="0"/>
                  </a:lnTo>
                  <a:lnTo>
                    <a:pt x="521" y="0"/>
                  </a:lnTo>
                  <a:lnTo>
                    <a:pt x="521" y="381"/>
                  </a:lnTo>
                  <a:lnTo>
                    <a:pt x="1318" y="381"/>
                  </a:lnTo>
                  <a:lnTo>
                    <a:pt x="1318" y="15"/>
                  </a:lnTo>
                  <a:lnTo>
                    <a:pt x="1462" y="15"/>
                  </a:lnTo>
                  <a:lnTo>
                    <a:pt x="1744" y="15"/>
                  </a:lnTo>
                  <a:lnTo>
                    <a:pt x="1747" y="381"/>
                  </a:lnTo>
                  <a:lnTo>
                    <a:pt x="2146" y="381"/>
                  </a:lnTo>
                  <a:lnTo>
                    <a:pt x="2146" y="15"/>
                  </a:lnTo>
                  <a:lnTo>
                    <a:pt x="2623" y="17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84600" y="5673960"/>
              <a:ext cx="3787920" cy="458640"/>
            </a:xfrm>
            <a:custGeom>
              <a:avLst/>
              <a:gdLst/>
              <a:ahLst/>
              <a:rect l="l" t="t" r="r" b="b"/>
              <a:pathLst>
                <a:path w="2612" h="314">
                  <a:moveTo>
                    <a:pt x="0" y="305"/>
                  </a:moveTo>
                  <a:lnTo>
                    <a:pt x="297" y="305"/>
                  </a:lnTo>
                  <a:lnTo>
                    <a:pt x="297" y="0"/>
                  </a:lnTo>
                  <a:lnTo>
                    <a:pt x="950" y="0"/>
                  </a:lnTo>
                  <a:lnTo>
                    <a:pt x="940" y="314"/>
                  </a:lnTo>
                  <a:lnTo>
                    <a:pt x="1564" y="314"/>
                  </a:lnTo>
                  <a:lnTo>
                    <a:pt x="1573" y="0"/>
                  </a:lnTo>
                  <a:lnTo>
                    <a:pt x="2612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05760" y="2924280"/>
              <a:ext cx="1920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SWISS"/>
                </a:rPr>
                <a:t>Sinal analó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1800" y="4584960"/>
              <a:ext cx="13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WISS"/>
                </a:rPr>
                <a:t>Assíncro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3240" y="5683320"/>
              <a:ext cx="105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WISS"/>
                </a:rPr>
                <a:t>Síncro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00880" y="2289240"/>
              <a:ext cx="58680" cy="59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40" y="2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00880" y="2289240"/>
              <a:ext cx="58680" cy="59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40" y="20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45000" y="2319480"/>
              <a:ext cx="3786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6360" y="2071800"/>
              <a:ext cx="5868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6360" y="2071800"/>
              <a:ext cx="5868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103640" y="2138040"/>
              <a:ext cx="126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33880" y="20606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33880" y="20606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062680" y="2138040"/>
              <a:ext cx="1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7120" y="206388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37120" y="20750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965920" y="2152440"/>
              <a:ext cx="1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42160" y="20750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2160" y="20750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870600" y="2141640"/>
              <a:ext cx="1800" cy="3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56000" y="2143440"/>
              <a:ext cx="86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"/>
                </a:rPr>
                <a:t>T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21840" y="3964320"/>
              <a:ext cx="150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"/>
                </a:rPr>
                <a:t>Sinal 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7EB8-777D-4DBE-9D3F-453077F4A4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9-15T05:44:04Z</dcterms:modified>
  <cp:revision>155</cp:revision>
  <dc:subject/>
  <dc:title>Organização e Arquitetura de Computadores I</dc:title>
</cp:coreProperties>
</file>