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9D1B-CF58-491F-AE61-F0F88A29C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52FF-1397-4776-89D7-07F0B9B73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C92E-1E43-40D4-9ED6-E1653A403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ECA3-8D9B-40F8-82C8-50E27A4EC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FF935-EAFB-474B-B9FA-7D6FF539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4467D-E9AF-4914-B2B0-CF59DA0C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79D2E-FA00-4434-87F9-20C9859D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33848-BB11-426D-9026-D0A05F8C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97CCB-88C4-4AC0-9EE3-6AC522B0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9CD44-295B-4E32-9DF5-D71131AA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3E6F9-3665-4701-8B6E-A2B05DE6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2216-74AB-410E-A36B-954C39988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D1A25-CF88-49C7-B059-7F459D1E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067AE-5028-4D8C-9312-4B1AD442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F084B-BE8A-4E1D-AB64-A18C68B9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0875E-A030-4D36-9BDE-5A1B8A02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8BFC0-DFCF-4822-AD9F-34018B02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1D24-97C5-4B75-A677-0F4CCF6D7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33DA-A3BD-4A17-8E29-D2CCC20E4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28FB-8874-433A-9994-D471EEA96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15C6-C403-4B77-9B2D-31DADF629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00B0-775D-4192-8486-77D968A62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DA11-BCA0-4C68-9BBA-E7876010A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65AA-E87C-4BEB-A45C-DF09B586D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52037" t="20435" r="18811" b="5099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920A-A225-4AA5-84AE-0127E2EFC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24000" y="6165360"/>
            <a:ext cx="647640" cy="576360"/>
            <a:chOff x="32400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32400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08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35460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8824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35568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70000" contrast="-70000"/>
          </a:blip>
          <a:srcRect l="52027" t="20435" r="18790" b="50994"/>
          <a:stretch/>
        </p:blipFill>
        <p:spPr>
          <a:xfrm>
            <a:off x="2843280" y="1268280"/>
            <a:ext cx="3389400" cy="4751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B645-9638-4CCD-B833-F4CB0D151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9280" y="6165360"/>
            <a:ext cx="647640" cy="576360"/>
            <a:chOff x="179280" y="6165360"/>
            <a:chExt cx="647640" cy="576360"/>
          </a:xfrm>
        </p:grpSpPr>
        <p:sp>
          <p:nvSpPr>
            <p:cNvPr id="53" name=""/>
            <p:cNvSpPr/>
            <p:nvPr/>
          </p:nvSpPr>
          <p:spPr>
            <a:xfrm>
              <a:off x="17928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136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20988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352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1096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112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76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PRESENTAÇÃO DA DISCIPL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f.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8000" y="1773360"/>
            <a:ext cx="5257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rganização e Arquitetura de Computador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3b"/>
                  </a:gs>
                  <a:gs pos="100000">
                    <a:srgbClr val="00008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Digitais e Infor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cuitos Combinacionais (Decodificadores, Multiplexadores, Demultiplexadores, dentre outr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jeto Lógico de Circuitos Combina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nguagens de Descrição de Hardware (HD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rcuitos Seqüenciais (Registradores, Contadores e Memór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ceitos Básicos de um Projeto de Comp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rodução ao Conjunto da Arquitetura de um 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nidades de Processamento - RISC e CIS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de Memó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-518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rada e Saída e Barramentos de um Comput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8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1133-ADB9-47E9-9796-708E634877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las ex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idades individuais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todologia, Técnicas de Ensin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0C3E-BA83-468F-BD0A-CAB0E6D9AF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cursos Didá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7156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o bran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oprojetor, Datash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s de Simulação de domín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CD40-BCF0-455D-A0F7-B76FA1A4BB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15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315200" cy="374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ontínu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ões individuais e trabalhos em laborató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rabalhos interativos de pesquisa extra-class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is e em gru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rabalhos de pesquisa em sala de aul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is e em grup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398F-DEC9-482F-A20C-04A9F940AD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1781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O, M. Morris and KIME, Charles R.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gic and Computer Design Fundamen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th edition; Pearson Prentice Hall. 2008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NTEIRO, M. A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trodução à Organização de Computad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LTC. 199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NENBAUM, A. S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puter Arquitectu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4 Edition, Prentice Hall.,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NENBAUM, A. S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rganização Estruturada de Computad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Quarta Edição. LTC.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ALLINGS, W.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puter Organization and Arquitectu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4 Edition, Prentice Hall, 199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ALLINGS, W.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rquitetura e Organização de Computad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5a Edição, Prentice Hall, 200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OETA, I. V. e CAPUANO, F. G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lementos de Eletrônica Digit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Editora Ér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ostilas e Manuais Técnicos de Autores/Fabricantes Diver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00F6-2E4B-4370-A54B-2C927BD7F3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59000" y="2516040"/>
            <a:ext cx="7334280" cy="23623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7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que significa Organização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quitetura de um Computad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EAAA-A623-4733-A02B-DE51B32234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03560" y="3079800"/>
            <a:ext cx="3657600" cy="289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65120" y="2622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27440" y="1860480"/>
            <a:ext cx="4343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ibutos de um sistema visíveis ao program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ibutos que têm impacto direto sobre a execução lógica de um pr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1851120"/>
            <a:ext cx="358920" cy="2225520"/>
          </a:xfrm>
          <a:custGeom>
            <a:avLst/>
            <a:gdLst>
              <a:gd name="textAreaLeft" fmla="*/ 229320 w 358920"/>
              <a:gd name="textAreaRight" fmla="*/ 359280 w 358920"/>
              <a:gd name="textAreaTop" fmla="*/ 57960 h 2225520"/>
              <a:gd name="textAreaBottom" fmla="*/ 2167560 h 222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9086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ção de um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27440" y="4603680"/>
            <a:ext cx="4876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operacionais e suas interconex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m as especificações da su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tu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4508640"/>
            <a:ext cx="358920" cy="2146320"/>
          </a:xfrm>
          <a:custGeom>
            <a:avLst/>
            <a:gdLst>
              <a:gd name="textAreaLeft" fmla="*/ 229320 w 358920"/>
              <a:gd name="textAreaRight" fmla="*/ 359280 w 358920"/>
              <a:gd name="textAreaTop" fmla="*/ 55800 h 2146320"/>
              <a:gd name="textAreaBottom" fmla="*/ 2090520 h 21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0FE6-2AF3-4A11-BDFA-D525517C04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59000" y="349236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2200" y="2577960"/>
            <a:ext cx="43434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JUNTO DE INSTRU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ÚMERO DE BITS USADOS PARA REPRESENTAR OS VÁRIOS                                                                                                                                                                                                                TIPOS DE DADOS (NÚMEROS , CARACTE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S MECANISMOS DE 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TÉCNICAS DE ENDEREÇAMENTO DE MEMÓ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2349360"/>
            <a:ext cx="457200" cy="3276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2136-FBAA-4C29-9170-FC11F9ECA9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30280" y="341964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ibu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276640"/>
            <a:ext cx="457200" cy="3276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97160" y="250524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DETALHES DE HARDWARE TRANSPARENTES AO PROGRAM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AIS DE C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FACES ENTRE O COMPUTADOR E PERIFÉ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NOLOGIA DE MEMÓRIA UTI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7BE0-35FB-4764-85B3-5729C6B23C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52520" y="2463840"/>
            <a:ext cx="7524720" cy="23810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75840" y="2997360"/>
            <a:ext cx="78678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enguin"/>
              </a:rPr>
              <a:t>Por que estudar Organização 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enguin"/>
              </a:rPr>
              <a:t>Arquitetura de Computador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isão Ger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2798-9002-4E78-9DFC-BE344536E4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lano de Ensin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údo Progra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ologia, Técnicas de En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os Did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2535-5411-423D-8AC2-691E673F51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nder o funcionamento do hardware de um sistema computa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nder o funcionamento dos vários módulos que compõem um sistema computa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er uma visão crítica sobre os requisitos de desempenho associados a um sistema computa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92AC-25A6-497F-9DDB-C24D79A1B3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men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nformação e sua representação (revisão), Tecnologia CMOS, Circuitos Combinacionais (análise e otimização, projeto, simulação e síntese), Circuitos Seqüenciais (elementos de memória e análise, projetos, máquinas de estado, fluxo de controle), Projeto Básico de um Computador, Dispositivos Embarc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1669-48D6-4DB7-89AE-34D51FF03C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 </cp:lastModifiedBy>
  <dcterms:modified xsi:type="dcterms:W3CDTF">2008-09-10T10:04:23Z</dcterms:modified>
  <cp:revision>149</cp:revision>
  <dc:subject/>
  <dc:title>Organização e Arquitetura de Computadores</dc:title>
</cp:coreProperties>
</file>