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D7E0-E6A7-49DB-87C8-C551D05D4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59C6-FD48-4B81-8769-E64DCD459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C770-64EB-4042-B145-EA12AAD26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4653-B86F-497D-9EE0-4B65C951C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2CFAF-85EC-4F33-88A5-E1846294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CA591-AEE8-4DCA-B3FC-D74D54B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0B692-EB33-44D5-BBE7-11864B18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15E56-A8B7-4FD2-927F-03EA4674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5B67D-813F-46BF-866F-1DA371AE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046CB-5E03-4D24-BE3B-38EA0EDB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0D806-930E-4586-87A4-072D493F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A2FB-B6A0-41D8-AD9A-6891CFDCB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D6FDC-B041-43BF-B649-01712D2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BBB20-99F2-4B78-B566-30ECB884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503FD-11C2-4D4F-8A67-1FCBFAE2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A118B-5A5D-430B-82D3-D0237E1B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5EC41-EF83-407D-82DB-775C758F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B87C-9D2D-4331-85B7-38508C93E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5678-6A48-463B-B6BE-59C3626CC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AEA0-B516-45F6-9CC1-078A4B936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F01F-2155-42D7-A096-11126329A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71F7-E72E-4A30-A69D-942CF95A6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66FC-0159-44CD-B0C6-E1A3CC5EB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668A-5601-4FF3-959A-86C4B03BD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CD9E-B72D-410A-A442-456F5FC21E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9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4" name="comput2" descr=""/>
          <p:cNvPicPr/>
          <p:nvPr/>
        </p:nvPicPr>
        <p:blipFill>
          <a:blip r:embed="rId3"/>
          <a:stretch/>
        </p:blipFill>
        <p:spPr>
          <a:xfrm>
            <a:off x="0" y="533520"/>
            <a:ext cx="1066680" cy="289548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F4D-D276-470B-9355-E6757365B60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0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1752480"/>
            <a:ext cx="182880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" name="comput2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TÓPICOS COMPLEMENTARES (Parte II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eaeaea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joseana@dsc.ufpb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8960" y="22093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Cabo Coax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Há dois fios condutores em um cabo coaxial. Um deles é um fio simples no centro do cabo; o outro é uma blindagem que envolve o primeiro cabo com um isolante no meio. Existe o cabo grosso, em desuso, e o fino.  Capacidade aproximada de 10 Mbits/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cabo%20coaxial%20fino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35404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1377720" y="1447920"/>
            <a:ext cx="41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B659-5729-4B2E-AC0B-AE9FA34764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23619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m certa época, cabo coaxial era o tipo de cabeamento de rede mais amplamente utiliz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cabo coaxial tem uma imunidade a ruído bem melhor que o par traçado, mas seu custo é mais elevad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5560" y="137160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bo Coaxi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42F1-62E1-4BB9-90BF-C7B289EA7D36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19320" y="23623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bo de fibra ó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É um fino fio  que transmite vibrações de raios de luz em vez de freqüências elétricas. Quando uma extremidade é exposta à luz, o fio transporta a luz para a outra extremidade. Imune a interferências eletromagnétic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fibra%20otica1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23623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54040" y="1371600"/>
            <a:ext cx="41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4C6D-4E6E-4109-952A-533CFB508D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cabo de fibra óptica é apropriado para transmissão de dados a grande velocidade e alta capacidade, devido a ausência de atenuação e à pureza do si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É o mais caro de todos, atinge taxas de quase centenas de Gbits/s, transmitindo dados, voz e imagem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4160" y="1447920"/>
            <a:ext cx="3381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bo de fibra ót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95D7-8D87-4467-9991-6C0BA9ADB40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9528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nexões sem f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 a popularização da comunicação de dados, houve um impulso na direção de meios mais flexíveis e de meios que alcancem distâncias maiores. Vários tipos de conexões para comunicação sem fio oferecem essas vantage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s redes permanentes sem fio são usadas especialmente em situações nas quais é difícil a passagem física dos da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: ondas de rádio, microondas, infravermelho,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7720" y="1371600"/>
            <a:ext cx="41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6B31-625F-4E5D-AE0D-BA5FF3201F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assificação das Re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Locai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L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Local Area Network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Metropolitana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Metropolitan Area Network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Geograficamente Distribuídas ou Redes de Longa Distância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W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Wide Area Network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Locais sem Fio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WL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Wireless Local Area Network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Pessoai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A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Personal Area Network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Locais Virtuai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VLANs 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Virtual Local Area Network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es Privadas Virtuais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VPN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eaeaea"/>
                </a:solidFill>
                <a:latin typeface="Arial"/>
              </a:rPr>
              <a:t>Virtual Private Network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pt-B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61C9-580E-4255-9941-42D02571FAD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1828800"/>
            <a:ext cx="6629400" cy="41911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assificação das  Re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1280" y="658332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seana M. Fech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057400" y="2057400"/>
          <a:ext cx="588168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88168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9BB6-89C9-40C2-8112-E48B167245D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efinem a forma como as estações (Computadores) estão fisicamente distribuí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 topologia física é a descrição da rota utilizada pelos cabos da rede para interligar os nó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pologia de rede é o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layout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ísico dos fios que conectam nos nós da red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pologias comuns: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barramento linea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strel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ne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Há vários fatores que devem ser considerados para determinar-se qual a melhor topologia para uma certa situação, tais como: tipos de computadores, tipo de fiação, custo e desempenh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opologias de  Re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0C44-5DE2-4110-804B-E74CE22BBD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opologia em Estrel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52480" y="1676520"/>
            <a:ext cx="6248160" cy="4723920"/>
            <a:chOff x="1752480" y="1676520"/>
            <a:chExt cx="6248160" cy="4723920"/>
          </a:xfrm>
        </p:grpSpPr>
        <p:sp>
          <p:nvSpPr>
            <p:cNvPr id="155" name=""/>
            <p:cNvSpPr/>
            <p:nvPr/>
          </p:nvSpPr>
          <p:spPr>
            <a:xfrm>
              <a:off x="4965120" y="2904120"/>
              <a:ext cx="0" cy="2393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69000" y="4008600"/>
              <a:ext cx="42660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1752480" y="2965320"/>
            <a:ext cx="1631160" cy="13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965320"/>
                      <a:ext cx="1631160" cy="13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4210200" y="5028840"/>
            <a:ext cx="1631160" cy="137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10200" y="5028840"/>
                      <a:ext cx="16311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6369480" y="3333240"/>
            <a:ext cx="1631160" cy="137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69480" y="3333240"/>
                      <a:ext cx="1631160" cy="13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4157280" y="1676520"/>
            <a:ext cx="1631160" cy="137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57280" y="1676520"/>
                      <a:ext cx="1631160" cy="13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4051080" y="3332160"/>
            <a:ext cx="1588680" cy="147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51080" y="3332160"/>
                      <a:ext cx="1588680" cy="147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8F4E-F6E4-4374-A491-664CA3A0551C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opologia em Ane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95280" y="1752480"/>
            <a:ext cx="7188120" cy="4294440"/>
            <a:chOff x="1295280" y="1752480"/>
            <a:chExt cx="7188120" cy="4294440"/>
          </a:xfrm>
        </p:grpSpPr>
        <p:sp>
          <p:nvSpPr>
            <p:cNvPr id="169" name=""/>
            <p:cNvSpPr/>
            <p:nvPr/>
          </p:nvSpPr>
          <p:spPr>
            <a:xfrm>
              <a:off x="2878920" y="2405520"/>
              <a:ext cx="4813920" cy="3442320"/>
            </a:xfrm>
            <a:prstGeom prst="ellipse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1295280" y="3176640"/>
            <a:ext cx="1936440" cy="132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317664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2920680" y="4720320"/>
            <a:ext cx="1936440" cy="132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20680" y="472032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5234040" y="4720320"/>
            <a:ext cx="1936440" cy="132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34040" y="472032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6546960" y="3354840"/>
            <a:ext cx="1936440" cy="132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46960" y="335484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2795760" y="1752480"/>
            <a:ext cx="1936440" cy="1326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95760" y="175248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5358960" y="1871280"/>
            <a:ext cx="1936440" cy="1326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58960" y="1871280"/>
                      <a:ext cx="1936440" cy="13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C434-05A0-408C-8B12-B8DE92AAB0BD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ópicos Complementa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0" y="2666880"/>
            <a:ext cx="5415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des de Computador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E007-2A32-4AC7-93C5-9B02DF1000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Topologia em Barrament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523880" y="1905120"/>
            <a:ext cx="6730920" cy="3988800"/>
            <a:chOff x="1523880" y="1905120"/>
            <a:chExt cx="6730920" cy="3988800"/>
          </a:xfrm>
        </p:grpSpPr>
        <p:graphicFrame>
          <p:nvGraphicFramePr>
            <p:cNvPr id="184" name=""/>
            <p:cNvGraphicFramePr/>
            <p:nvPr/>
          </p:nvGraphicFramePr>
          <p:xfrm>
            <a:off x="1638360" y="1905120"/>
            <a:ext cx="1745280" cy="1465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8360" y="1905120"/>
                      <a:ext cx="1745280" cy="146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5188320" y="2211480"/>
            <a:ext cx="2260440" cy="157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8320" y="2211480"/>
                      <a:ext cx="2260440" cy="157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1523880" y="4469040"/>
            <a:ext cx="1792440" cy="1364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4469040"/>
                      <a:ext cx="1792440" cy="13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3895920" y="4529880"/>
            <a:ext cx="1792440" cy="1364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95920" y="4529880"/>
                      <a:ext cx="1792440" cy="13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6384240" y="4469040"/>
            <a:ext cx="1792440" cy="1364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84240" y="4469040"/>
                      <a:ext cx="1792440" cy="13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2121480" y="4042080"/>
              <a:ext cx="6133320" cy="0"/>
            </a:xfrm>
            <a:prstGeom prst="line">
              <a:avLst/>
            </a:prstGeom>
            <a:ln w="1015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220920" y="4042080"/>
              <a:ext cx="0" cy="109800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77760" y="4042080"/>
              <a:ext cx="0" cy="109800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907760" y="4041720"/>
              <a:ext cx="0" cy="97596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57960" y="3370320"/>
              <a:ext cx="0" cy="67140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981840" y="3248280"/>
              <a:ext cx="0" cy="793080"/>
            </a:xfrm>
            <a:prstGeom prst="line">
              <a:avLst/>
            </a:prstGeom>
            <a:ln w="507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3921-C650-49B4-AE68-CBA4855E551B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tocolo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- regras e procedimentos para comunic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uando diversos computadores estão interligados em rede, as regras e procedimentos técnicos que administram sua comunicação e interação são chamados de protocol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486B-799D-4D23-8E2E-7A2EA97D1763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de Red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rquitetura de red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modelo abstrato que permite descrever a organização e o comportamento dos sistemas que constituem a red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Modelos adotad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organização das funções em módulos e  estruturação hierárquica -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rquiteturas em Camad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Layered Architectures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).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8F94-979D-4033-BDED-642DAD70DE7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2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Baseiam-se em três princípios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dependência entre camad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– uma camada encapsula as funções que realiza, é visível apenas o serviço que oferec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amadas adjacentes comunicam-se através de uma interfa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– a camada inferior oferece um serviço à camada superior através da interfac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Valorização dos serviço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– o serviço oferecido por uma camada à camada superior acrescenta valor ao serviço recebido da camada inferi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em Camada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E5AF-2AA9-438C-A6B2-5B9553C7190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984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09760"/>
            <a:ext cx="784872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392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antagen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dução da complexidade de concepção, desenvolvimento e manuten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ilidade de desenvolvimento independente das várias camad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lexibilidade de implemen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ilidade de suportar diferentes aplicações com um número reduzido de interfaces (serviços) comu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92040" indent="-39204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doção d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adrõ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- permite a produção em massa e o suporte de produtos por diferentes fabricant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em Camada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C568-3FF5-43A9-AF3B-60FA0AEFA4D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371240" y="1905120"/>
            <a:ext cx="71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Exemplos de Arquitetur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odelo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 RM-OSI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Reference Model - Open System Interconnection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Arquitetura TCP/IP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padrão IEEE 802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em Camada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8445-51B2-4955-A84F-39A8002C9A3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TCP/IP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Ênfase - ligação de redes heterogêne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s padrões nesta arquitetura são definidos por um comitê denominado IAB (I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nternet Activity Board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ituída de 4 camadas: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Aplicação, Transporte, Inter-Rede e Acesso ao mei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aseia-se, principalmente, em dois serviç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 serviço de transporte orientado à conexão - fornecido pelo TCP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 serviço de rede não orientado à conexão - fornecido pelo I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B94B-28CD-4DF8-B53C-DDEDABD35EE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7508880" cy="3722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24080" y="2863800"/>
            <a:ext cx="1143000" cy="87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0720" y="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TCP/IP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8645-6881-4003-A722-E23B264A67C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600200" y="2057400"/>
            <a:ext cx="6876720" cy="4114440"/>
            <a:chOff x="1600200" y="2057400"/>
            <a:chExt cx="6876720" cy="411444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7052760" y="2057400"/>
              <a:ext cx="1301760" cy="12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1600200" y="2057400"/>
              <a:ext cx="1301760" cy="12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1661040" y="4829760"/>
              <a:ext cx="1301760" cy="12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7175160" y="4890960"/>
              <a:ext cx="1301760" cy="12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2825640" y="2549520"/>
            <a:ext cx="4593960" cy="2895120"/>
            <a:chOff x="2825640" y="2549520"/>
            <a:chExt cx="4593960" cy="2895120"/>
          </a:xfrm>
        </p:grpSpPr>
        <p:sp>
          <p:nvSpPr>
            <p:cNvPr id="222" name=""/>
            <p:cNvSpPr/>
            <p:nvPr/>
          </p:nvSpPr>
          <p:spPr>
            <a:xfrm flipV="1">
              <a:off x="6072120" y="2549520"/>
              <a:ext cx="1225080" cy="98568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886840" y="4089600"/>
              <a:ext cx="1163520" cy="13550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25640" y="2672640"/>
              <a:ext cx="1224720" cy="862560"/>
            </a:xfrm>
            <a:prstGeom prst="line">
              <a:avLst/>
            </a:prstGeom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2120" y="4089600"/>
              <a:ext cx="1347480" cy="12319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50360" y="3535200"/>
              <a:ext cx="2021400" cy="642600"/>
            </a:xfrm>
            <a:prstGeom prst="rect">
              <a:avLst/>
            </a:prstGeom>
            <a:noFill/>
            <a:ln w="572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TCP/IP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rot="19350600">
            <a:off x="5486760" y="243792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TELNE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121600">
            <a:off x="2848680" y="28461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8633600">
            <a:off x="2853360" y="44571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SMTP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472000">
            <a:off x="5479200" y="462852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POP3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rquitetura TCP/IP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2840" y="142092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amada de Aplica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6775-1CAC-4B86-A1DB-09B3240350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tocolos – Camada de Aplic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ELNET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Network Terminal Protoco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tocolo para a execução remota de aplicaçõ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MTP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imple Mail Transfer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tocolo para o envio e recebimento de correio eletrôni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FTP/TFTP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File Transfer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/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vial File Transfer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FTP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inclui senhas de segurança, capaz de conectar-se a um sistema remoto (</a:t>
            </a:r>
            <a:r>
              <a:rPr b="0" i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logon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), acessar diretórios e executar a transferência de arquivos entre sistemas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TFTP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 -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Arial"/>
              </a:rPr>
              <a:t>não pode acessar diretórios nem incluir senhas de segurança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567E-FB74-4F3D-A60F-25CD513ABC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possibilidade de conectar vários computadores resulta em tantos benefícios que se tornou uma das áreas de maior crescimento no mercado de microcomputado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s computadores se comunicam de duas maneiras importantes: por meio de modem e de red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dem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permite que os computadores usem linhas telefônicas para trocar da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d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conectam os computadores diretamente, seja por intermédio de fios especiais ou de alguma maneira de transmissão sem fi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07DA-65DF-41B7-BDD3-95F5238C5A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tocolos – Camada de Aplicaçã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TTP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yperText Transfer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tocolo para a transferência de documentos, arquivos e aplicações entre sistem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OP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ost Office Protocol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tocolo para a leitura de correio eletrôni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NS (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omain Name Servic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Fornece o serviço de tradução de nomes de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host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em endereços I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9F70-3682-404F-B5D3-9B478458F1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nsiderações Finai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Quando a tecnologia dos computadores chegar ao ponto em que a maioria dos computadores terá vários processadores, as redes poderão assumir também uma nova dimens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Talvez, no futuro, a rede consista em um cabo de extensão do barramento. Talvez todos os computadores virão com a porta já incorporada à sua estrutura básica. Você só precisará ligar o computador novo ao antigo para ter instantaneamente um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rede "inteligente" capaz de dividir o tempo do processador e também de compartilhar dispositivos, memória e dados</a:t>
            </a: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391520" y="6064200"/>
            <a:ext cx="1371600" cy="7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EED2-BDD3-461B-B2DA-9DE7DCA56A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6530" t="9184" r="0" b="0"/>
          <a:stretch/>
        </p:blipFill>
        <p:spPr>
          <a:xfrm>
            <a:off x="1523880" y="1600200"/>
            <a:ext cx="7010640" cy="4842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DA9B-DB25-4356-8D52-BBA320003B6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49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m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de de Computador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é formada por um conjunto de dispositivos capazes de trocar informações e compartilhar recursos, interligados por um sistema de comunic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istema de Comunicação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arranjo topológico interligando os vários módulos processadores através de enlaces físicos (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meios de transmissã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 e de um conjunto de regras com o fim de organizar a comunicação (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protocolo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A1EB-CF1A-40DF-91A8-2CA46E53B0E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Compartilhamento de Recurs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Confiabilida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Escalabilida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Redução de Cus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Arial"/>
              </a:rPr>
              <a:t>Meio de Comunicação efic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3080" y="15462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E161-B145-4B0D-8168-F54AB2D0986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fere-se aos fios, cabos e outros recursos usados pelos dados para viajar de sua origem para seu destino. São el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o de Par Tranç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abo Coax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abo de Fibra Ót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nexões sem F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794F-6A31-4EAD-A325-CC38612817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95280" y="251424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Fio de Par Tranç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iste de dois fios entrelaçados um em torno do outro. Capacidade de 100 Mbits/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ar%20trançado%20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5905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377720" y="1523880"/>
            <a:ext cx="41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ios de Comunica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28C3-0E60-4F3E-9CFB-38EC304DF7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236196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par traçado é bastante susceptível a ruídos e interferência, mas é o meio que tem menor custo por compriment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ligação de nós é extremamente simples, reduzindo ainda mais o custo da utiliz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8560" y="1447920"/>
            <a:ext cx="35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io de Par Tranç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des de Comput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485F-562E-46F4-B717-C848FF18F828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Particular</cp:lastModifiedBy>
  <dcterms:modified xsi:type="dcterms:W3CDTF">2004-04-28T10:45:07Z</dcterms:modified>
  <cp:revision>453</cp:revision>
  <dc:subject/>
  <dc:title>Slide sem título </dc:title>
</cp:coreProperties>
</file>