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AD2B-2958-4207-8689-F84ADA563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DAB9-DA31-438F-85A8-9F5623974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0873-9E6D-46F4-840C-C26EC51BD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2C03-B97C-49D0-AB4D-CA421DAC9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00AE8-7572-43CF-91C0-7A44EF53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3F5DA-8AB5-4F5A-8F2E-98E23239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4459E-D66A-4D81-AB7A-A60F832A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89B61-28EA-4BE6-8BFB-9AC2E68B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30540-C0EF-4759-AA78-9013A62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E273B-7548-4B16-8D3C-041269E5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DA84A-8E55-419D-B62B-DEB0909A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3B88-79EE-4EA6-81E6-4A64E3BCA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356F3-5FEB-4C72-8F96-F7E96EC0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3F8E6-E815-46C0-A092-03652AB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79F3B-BF36-453C-94F3-0883467A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A2C78-E3D8-4D1F-9348-31117E13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FE2FF-6A08-4959-96A8-C08FD2D0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A995-BD67-4012-B317-2EEC8642B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3871-5F3B-42CE-B61F-C8E9447AE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D220-F6B9-4EFC-A0E6-1EC308CDB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6F31-F2F7-42DF-8B4A-B8F30DAF3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ED05-5D07-476B-8F73-23B3AF6AE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6F22-50CB-4CEC-8C32-EB18C000D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15CE-5756-4924-9B83-6CA0F23C7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1D26-F65B-4477-AE1F-28C0886C0FE5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9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4" name="comput2" descr=""/>
          <p:cNvPicPr/>
          <p:nvPr/>
        </p:nvPicPr>
        <p:blipFill>
          <a:blip r:embed="rId3"/>
          <a:stretch/>
        </p:blipFill>
        <p:spPr>
          <a:xfrm>
            <a:off x="0" y="533520"/>
            <a:ext cx="1066680" cy="289548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B978-3BFF-4848-9D18-FE8ECD2F6DE4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0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1752480"/>
            <a:ext cx="182880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" name="comput2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TÓPICOS COMPLEMENTARES (Parte I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eaeaea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joseana@dsc.ufpb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95280" y="14479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anua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Informatiz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Programas de apli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Sistema de Gerência de Banco de Dados (SGBD) ou </a:t>
            </a:r>
            <a:r>
              <a:rPr b="0" i="1" lang="pt-BR" sz="2400" spc="-1" strike="noStrike">
                <a:solidFill>
                  <a:srgbClr val="ffffcc"/>
                </a:solidFill>
                <a:latin typeface="Arial"/>
              </a:rPr>
              <a:t>Database Management System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ffffcc"/>
                </a:solidFill>
                <a:latin typeface="Arial"/>
              </a:rPr>
              <a:t>DBMS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94160" y="4411800"/>
            <a:ext cx="497160" cy="576000"/>
          </a:xfrm>
          <a:prstGeom prst="downArrow">
            <a:avLst>
              <a:gd name="adj1" fmla="val 50000"/>
              <a:gd name="adj2" fmla="val 28965"/>
            </a:avLst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6800" y="5097600"/>
            <a:ext cx="64623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BD – É o conjunto de programas (software) que permite a criação e manutenção de um B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BF0E-6935-4E0F-A9C7-6907BDD17B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apas da Modelagem de B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5760" y="2921040"/>
            <a:ext cx="4003560" cy="2841480"/>
          </a:xfrm>
          <a:prstGeom prst="rect">
            <a:avLst/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55280" y="4124160"/>
            <a:ext cx="2242800" cy="45972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jeto Lóg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70520" y="3260880"/>
            <a:ext cx="2812680" cy="45972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jeto Conceit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5878440"/>
            <a:ext cx="1511280" cy="93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4f4f4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2349360"/>
            <a:ext cx="395928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álise de Requisi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28360" y="5013360"/>
            <a:ext cx="2094840" cy="459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jeto Fís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2852640"/>
            <a:ext cx="0" cy="3603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3718080"/>
            <a:ext cx="0" cy="3603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4581360"/>
            <a:ext cx="0" cy="3603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5518080"/>
            <a:ext cx="0" cy="550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69160" y="61657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AEEF-0130-4C80-84F3-6CC8F7D956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Linguagens envolvidas em um SGB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DL – “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Data Definition Languag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ML – “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Data Manipulation Languag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42900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Linguagem usada para descrever o modelo lógi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502920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Linguagem usada para escrever instruções que operam sobre a base de dados (acesso e alteração de dados). Integrada com a DD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D92A-FEA5-4410-888B-B81E1373A9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71240" y="1905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ndênci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ssibilitar o acesso rápido e eficiente de uma infinidade de informações (texto, voz, imagem, vídeo - multimídia etc.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8FA5-2973-4E17-B914-0A34C14ED2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ópicos Complementa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0" y="2666880"/>
            <a:ext cx="5415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nco de Dad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C89F-91D6-4349-A3DB-95AF9AC0BB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stemas de Arquivos Convencion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09680" y="3851280"/>
            <a:ext cx="1697040" cy="4842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23800" y="38527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70080" y="2481120"/>
            <a:ext cx="1820880" cy="86868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ff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4840" y="2481120"/>
            <a:ext cx="1729080" cy="88596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ff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514600"/>
            <a:ext cx="1728720" cy="82224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ff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4480" y="33195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280" y="33670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69160" y="3373560"/>
            <a:ext cx="1440" cy="466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74840" y="3852720"/>
            <a:ext cx="1697040" cy="4842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28560" y="38527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3844800"/>
            <a:ext cx="1697040" cy="4492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0760" y="38433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532320"/>
            <a:ext cx="802800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25920" y="24433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Nível d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Aplic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4280" y="3681360"/>
            <a:ext cx="216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Arquiv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Convenciona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5084640"/>
            <a:ext cx="561492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dos não estão integr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EAA1-FE72-4A7F-AD10-E0D9A89D2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blemas da falta de integração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smo objeto representado múltiplas vez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dundância não controlada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3200400"/>
            <a:ext cx="374400" cy="576360"/>
          </a:xfrm>
          <a:prstGeom prst="downArrow">
            <a:avLst>
              <a:gd name="adj1" fmla="val 50000"/>
              <a:gd name="adj2" fmla="val 38486"/>
            </a:avLst>
          </a:prstGeom>
          <a:gradFill rotWithShape="0">
            <a:gsLst>
              <a:gs pos="0">
                <a:srgbClr val="6d5105"/>
              </a:gs>
              <a:gs pos="100000">
                <a:srgbClr val="eeb00b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975040" y="2129400"/>
            <a:ext cx="216000" cy="174780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7800"/>
              <a:gd name="textAreaBottom" fmla="*/ 1702440 h 17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87400" y="3860640"/>
            <a:ext cx="71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Inconsistência de dado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dados não representam corretamente a realid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Re-digitação de informaçõ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trabalho repetitivo que pode levar a err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22FE-79BB-47A4-B70C-0F6FB1B5BC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9320" y="1447560"/>
            <a:ext cx="7696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lução para evitar redundânci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tilhamento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da informação armazenada uma única ve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33680" y="4508640"/>
            <a:ext cx="1174680" cy="617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1040" y="3645000"/>
            <a:ext cx="1671480" cy="81432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cc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645000"/>
            <a:ext cx="1549440" cy="81432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cc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9520" y="3645000"/>
            <a:ext cx="1608120" cy="81432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cc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0560" y="4508640"/>
            <a:ext cx="1440" cy="502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19600" y="4508640"/>
            <a:ext cx="111312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0720" y="5013360"/>
            <a:ext cx="154620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79800" y="5494320"/>
            <a:ext cx="1410840" cy="496800"/>
            <a:chOff x="3979800" y="5494320"/>
            <a:chExt cx="1410840" cy="496800"/>
          </a:xfrm>
        </p:grpSpPr>
        <p:sp>
          <p:nvSpPr>
            <p:cNvPr id="141" name=""/>
            <p:cNvSpPr/>
            <p:nvPr/>
          </p:nvSpPr>
          <p:spPr>
            <a:xfrm>
              <a:off x="3979800" y="5506920"/>
              <a:ext cx="10504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42440" y="54943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t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031840" y="4724280"/>
            <a:ext cx="5996160" cy="180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93F7-204B-4A1C-AA1C-17637697D0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19320" y="13712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anco de Dados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7238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i="1" lang="pt-BR" sz="2600" spc="-1" strike="noStrike">
                <a:solidFill>
                  <a:srgbClr val="ffffcc"/>
                </a:solidFill>
                <a:latin typeface="Arial"/>
              </a:rPr>
              <a:t>Conjunto de dados integrados que visa a   atender  um conjunto de aplicaçõe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” [Heuser, 2001]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“ </a:t>
            </a:r>
            <a:r>
              <a:rPr b="1" i="1" lang="pt-BR" sz="2600" spc="-1" strike="noStrike">
                <a:solidFill>
                  <a:srgbClr val="ffffcc"/>
                </a:solidFill>
                <a:latin typeface="Arial"/>
              </a:rPr>
              <a:t>É uma coleção de dados integrado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” [Navathe, 2002]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i="1" lang="pt-BR" sz="2600" spc="-1" strike="noStrike">
                <a:solidFill>
                  <a:srgbClr val="ffffcc"/>
                </a:solidFill>
                <a:latin typeface="Arial"/>
              </a:rPr>
              <a:t>Sistema de manutenção de registros por computador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” [Date, 1990]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EFAD-5545-4977-BEA5-C706C1C47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"/>
              </a:rPr>
              <a:t>Vantagens na utilização de Banco de Da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ode reduzir a redundânci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A inconsistência pode ser evitada (até certo ponto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ermite compartilhar os dado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ode reforçar os padrõ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ode aplicar restrições de seguranç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ode manter a integridad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3639-AE66-428B-A5A4-50878B38A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47560" y="1483920"/>
            <a:ext cx="71024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senvolvimento de aplicações de BD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rquivos devem ser projetados para atender diferentes aplicaç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ados devem estar corretos -  Manutenção d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strições de integrid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D acessad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ncorrentement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por múltiplos usuários –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ntrole de Concorrênc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4589-361F-4D0B-A73D-A0546D060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71240" y="15235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senvolvimento de aplicações de B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m todo o usuário pode acessar qualquer informação –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ntrole de Aces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dos são de importância vital e não podem ser perdidos –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Tolerância a Falh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DB7C-0ED7-4A64-AFD2-4AB836FB5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Particular</cp:lastModifiedBy>
  <dcterms:modified xsi:type="dcterms:W3CDTF">2004-04-28T10:41:14Z</dcterms:modified>
  <cp:revision>453</cp:revision>
  <dc:subject/>
  <dc:title>Slide sem título </dc:title>
</cp:coreProperties>
</file>