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02C06-1430-46DE-A67E-6CCC1F36F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B8B97-80C8-49B6-916C-5966DAB10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13382-F511-41D8-B865-6435B0FE4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94B93-3465-4828-86A8-F42197245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4D77D-EF49-4E11-AED5-56F02FB2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293F9-B12E-467F-AD41-962E3198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C0BD2-96FE-4B22-AC8B-3CC96BC1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759E5-AC75-4703-8BEF-E413B14C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8F5AF-DEA5-465A-AFB1-AB3D1E39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8E8A1-BB5B-4A42-9D5D-B867867E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6DDA5-6ED2-4E6A-9E4F-C5497271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5BA73-3D3B-47C5-9A35-3D2C269D76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4B760-43EB-44FA-A79F-DA1FD1AE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E6B5B-AD90-4B5B-907F-EA437D41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DD533-E213-4827-BA04-030D3A9E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DBC00-4CE7-4B56-A6BF-7EEC4432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CC5C8-5629-4880-AED6-644C0CF4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E0125-9FB3-4407-9414-F0905B13B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38AC-5083-4939-9B19-8A8C24D442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7888-D647-4005-A933-7B98747F8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256C3-6D2D-4272-9500-49449E7F24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3B6A1-1D33-4A87-A156-8307E7CC6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2F11-E521-40D6-A0FC-A0FC8A65D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AA71E-07B7-486A-A2E8-16689E369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9B3B-8CC0-4B8A-A373-D044DFF76CEC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43000" y="1219320"/>
            <a:ext cx="8001000" cy="0"/>
          </a:xfrm>
          <a:prstGeom prst="line">
            <a:avLst/>
          </a:prstGeom>
          <a:ln cap="sq" w="10152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comput2" descr=""/>
          <p:cNvPicPr/>
          <p:nvPr/>
        </p:nvPicPr>
        <p:blipFill>
          <a:blip r:embed="rId3"/>
          <a:stretch/>
        </p:blipFill>
        <p:spPr>
          <a:xfrm>
            <a:off x="0" y="533520"/>
            <a:ext cx="1066680" cy="2895480"/>
          </a:xfrm>
          <a:prstGeom prst="rect">
            <a:avLst/>
          </a:prstGeom>
          <a:ln w="25560">
            <a:solidFill>
              <a:srgbClr val="eeb00b"/>
            </a:solidFill>
            <a:miter/>
          </a:ln>
        </p:spPr>
      </p:pic>
      <p:grpSp>
        <p:nvGrpSpPr>
          <p:cNvPr id="9" name=""/>
          <p:cNvGrpSpPr/>
          <p:nvPr/>
        </p:nvGrpSpPr>
        <p:grpSpPr>
          <a:xfrm>
            <a:off x="0" y="6019560"/>
            <a:ext cx="914400" cy="838440"/>
            <a:chOff x="0" y="6019560"/>
            <a:chExt cx="914400" cy="838440"/>
          </a:xfrm>
        </p:grpSpPr>
        <p:sp>
          <p:nvSpPr>
            <p:cNvPr id="10" name=""/>
            <p:cNvSpPr/>
            <p:nvPr/>
          </p:nvSpPr>
          <p:spPr>
            <a:xfrm>
              <a:off x="0" y="6690600"/>
              <a:ext cx="914400" cy="1674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00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69360" y="6285240"/>
              <a:ext cx="49932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43920" y="6019200"/>
              <a:ext cx="497520" cy="3682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72240" y="6298200"/>
              <a:ext cx="49896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 flipV="1">
              <a:off x="45000" y="6032160"/>
              <a:ext cx="500400" cy="3686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ECF9-3DE6-4671-9597-99FA842F3142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comput2" descr=""/>
          <p:cNvPicPr/>
          <p:nvPr/>
        </p:nvPicPr>
        <p:blipFill>
          <a:blip r:embed="rId3"/>
          <a:stretch/>
        </p:blipFill>
        <p:spPr>
          <a:xfrm>
            <a:off x="0" y="1752480"/>
            <a:ext cx="1828800" cy="1981440"/>
          </a:xfrm>
          <a:prstGeom prst="rect">
            <a:avLst/>
          </a:prstGeom>
          <a:ln w="25560">
            <a:solidFill>
              <a:srgbClr val="eeb00b"/>
            </a:solidFill>
            <a:miter/>
          </a:ln>
        </p:spPr>
      </p:pic>
      <p:grpSp>
        <p:nvGrpSpPr>
          <p:cNvPr id="60" name=""/>
          <p:cNvGrpSpPr/>
          <p:nvPr/>
        </p:nvGrpSpPr>
        <p:grpSpPr>
          <a:xfrm>
            <a:off x="380880" y="6019560"/>
            <a:ext cx="914400" cy="838440"/>
            <a:chOff x="380880" y="6019560"/>
            <a:chExt cx="914400" cy="838440"/>
          </a:xfrm>
        </p:grpSpPr>
        <p:sp>
          <p:nvSpPr>
            <p:cNvPr id="61" name=""/>
            <p:cNvSpPr/>
            <p:nvPr/>
          </p:nvSpPr>
          <p:spPr>
            <a:xfrm>
              <a:off x="380880" y="6690600"/>
              <a:ext cx="914400" cy="1674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00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50240" y="6285240"/>
              <a:ext cx="49932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>
              <a:off x="425160" y="6019200"/>
              <a:ext cx="497520" cy="3682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53120" y="6298200"/>
              <a:ext cx="49896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426240" y="6032160"/>
              <a:ext cx="500400" cy="3686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eb00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0574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Tahoma"/>
              </a:rPr>
              <a:t>TÓPICOS COMPLEMENTARES (Parte 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eaeaea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eaeaea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eaeaea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eaeaea"/>
                </a:solidFill>
                <a:latin typeface="Tahoma"/>
              </a:rPr>
              <a:t>joseana@dsc.ufpb.b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19320" y="182880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ngenharia de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Software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é o estabelecimento e uso de sólidos princípios de engenharia para que se possa obter economicamente um 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software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que seja confiável e que funcione eficientemente em máquinas reais”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É UMA METODOLOGIA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Software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8B89-D517-40F6-888F-20657360AB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.S. possui 3 elementos fundamentai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étodos: “como fazer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erramentas: apoio automatizado aos métod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ocedimentos: elo de ligação entre os métodos e os procediment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xistem diversos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Paradigmas de Engenharia de Softwar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bordagens que envolvem estes métodos, ferramentas e procediment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Engenharia de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Software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41B3D-7AC0-4FB0-A86F-B096C64DED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55600" y="1752120"/>
            <a:ext cx="3416400" cy="23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41400" indent="0" algn="r">
              <a:lnSpc>
                <a:spcPct val="12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ocess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41400" indent="0" algn="r">
              <a:lnSpc>
                <a:spcPct val="7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étod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41400" indent="0" algn="r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errament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41400" indent="0" algn="r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ases genérica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1905120"/>
            <a:ext cx="584280" cy="1955520"/>
          </a:xfrm>
          <a:custGeom>
            <a:avLst/>
            <a:gdLst>
              <a:gd name="textAreaLeft" fmla="*/ 0 w 584280"/>
              <a:gd name="textAreaRight" fmla="*/ 210960 w 584280"/>
              <a:gd name="textAreaTop" fmla="*/ 50760 h 1955520"/>
              <a:gd name="textAreaBottom" fmla="*/ 1904760 h 195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055600"/>
            <a:ext cx="370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evem incorporar uma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estratégia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de desenvolviment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4508280"/>
            <a:ext cx="7320240" cy="137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odelo de Process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aradigma de Engenharia de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iclo de Vid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50240" y="3162240"/>
            <a:ext cx="901800" cy="1575000"/>
          </a:xfrm>
          <a:custGeom>
            <a:avLst/>
            <a:gdLst>
              <a:gd name="textAreaLeft" fmla="*/ 120600 w 901800"/>
              <a:gd name="textAreaRight" fmla="*/ 781200 w 901800"/>
              <a:gd name="textAreaTop" fmla="*/ 275400 h 1575000"/>
              <a:gd name="textAreaBottom" fmla="*/ 1141920 h 15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cc"/>
          </a:solidFill>
          <a:ln cap="sq"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58672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Engenharia de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Software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- o Process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D3645-426D-41D0-B328-2526F301A3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3152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Modelo de Processo de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Software</a:t>
            </a:r>
            <a:r>
              <a:rPr b="1" i="1" lang="en-US" sz="44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1751040"/>
            <a:ext cx="75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odo desenvolvimento de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software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ode ser caracterizado como um loop de soluçã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474920" y="3130560"/>
            <a:ext cx="7331040" cy="3060720"/>
            <a:chOff x="1474920" y="3130560"/>
            <a:chExt cx="7331040" cy="3060720"/>
          </a:xfrm>
        </p:grpSpPr>
        <p:sp>
          <p:nvSpPr>
            <p:cNvPr id="138" name=""/>
            <p:cNvSpPr/>
            <p:nvPr/>
          </p:nvSpPr>
          <p:spPr>
            <a:xfrm>
              <a:off x="3468600" y="3130560"/>
              <a:ext cx="2022480" cy="82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ff"/>
                  </a:solidFill>
                  <a:latin typeface="Arial"/>
                </a:rPr>
                <a:t>definição do problem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46920" y="4184640"/>
              <a:ext cx="2759040" cy="82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ff"/>
                  </a:solidFill>
                  <a:latin typeface="Arial"/>
                </a:rPr>
                <a:t>desenvolvimento técnic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32320" y="5365800"/>
              <a:ext cx="2022480" cy="82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ff"/>
                  </a:solidFill>
                  <a:latin typeface="Arial"/>
                </a:rPr>
                <a:t>integração da soluçã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1474920" y="3873600"/>
              <a:ext cx="1666800" cy="1218960"/>
              <a:chOff x="1474920" y="3873600"/>
              <a:chExt cx="1666800" cy="1218960"/>
            </a:xfrm>
          </p:grpSpPr>
          <p:sp>
            <p:nvSpPr>
              <p:cNvPr id="142" name=""/>
              <p:cNvSpPr/>
              <p:nvPr/>
            </p:nvSpPr>
            <p:spPr>
              <a:xfrm>
                <a:off x="1587600" y="3873600"/>
                <a:ext cx="1371600" cy="1218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474920" y="4057920"/>
                <a:ext cx="1666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00ff"/>
                    </a:solidFill>
                    <a:latin typeface="Arial"/>
                  </a:rPr>
                  <a:t>estado atual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489040" y="3422520"/>
              <a:ext cx="952560" cy="451080"/>
            </a:xfrm>
            <a:custGeom>
              <a:avLst/>
              <a:gdLst/>
              <a:ahLst/>
              <a:rect l="l" t="t" r="r" b="b"/>
              <a:pathLst>
                <a:path w="600" h="284">
                  <a:moveTo>
                    <a:pt x="0" y="284"/>
                  </a:moveTo>
                  <a:cubicBezTo>
                    <a:pt x="20" y="257"/>
                    <a:pt x="65" y="168"/>
                    <a:pt x="120" y="124"/>
                  </a:cubicBezTo>
                  <a:cubicBezTo>
                    <a:pt x="175" y="80"/>
                    <a:pt x="248" y="40"/>
                    <a:pt x="328" y="20"/>
                  </a:cubicBezTo>
                  <a:cubicBezTo>
                    <a:pt x="408" y="0"/>
                    <a:pt x="543" y="7"/>
                    <a:pt x="600" y="4"/>
                  </a:cubicBez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00880" y="3386160"/>
              <a:ext cx="1244520" cy="728640"/>
            </a:xfrm>
            <a:custGeom>
              <a:avLst/>
              <a:gdLst/>
              <a:ahLst/>
              <a:rect l="l" t="t" r="r" b="b"/>
              <a:pathLst>
                <a:path w="784" h="459">
                  <a:moveTo>
                    <a:pt x="0" y="11"/>
                  </a:moveTo>
                  <a:cubicBezTo>
                    <a:pt x="48" y="11"/>
                    <a:pt x="195" y="0"/>
                    <a:pt x="288" y="11"/>
                  </a:cubicBezTo>
                  <a:cubicBezTo>
                    <a:pt x="381" y="22"/>
                    <a:pt x="485" y="36"/>
                    <a:pt x="560" y="75"/>
                  </a:cubicBezTo>
                  <a:cubicBezTo>
                    <a:pt x="635" y="114"/>
                    <a:pt x="699" y="179"/>
                    <a:pt x="736" y="243"/>
                  </a:cubicBezTo>
                  <a:cubicBezTo>
                    <a:pt x="773" y="307"/>
                    <a:pt x="774" y="414"/>
                    <a:pt x="784" y="459"/>
                  </a:cubicBez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76840" y="5118120"/>
              <a:ext cx="1257480" cy="774720"/>
            </a:xfrm>
            <a:custGeom>
              <a:avLst/>
              <a:gdLst/>
              <a:ahLst/>
              <a:rect l="l" t="t" r="r" b="b"/>
              <a:pathLst>
                <a:path w="792" h="488">
                  <a:moveTo>
                    <a:pt x="792" y="0"/>
                  </a:moveTo>
                  <a:cubicBezTo>
                    <a:pt x="785" y="40"/>
                    <a:pt x="792" y="168"/>
                    <a:pt x="752" y="240"/>
                  </a:cubicBezTo>
                  <a:cubicBezTo>
                    <a:pt x="712" y="312"/>
                    <a:pt x="627" y="393"/>
                    <a:pt x="552" y="432"/>
                  </a:cubicBezTo>
                  <a:cubicBezTo>
                    <a:pt x="477" y="471"/>
                    <a:pt x="396" y="463"/>
                    <a:pt x="304" y="472"/>
                  </a:cubicBezTo>
                  <a:cubicBezTo>
                    <a:pt x="212" y="481"/>
                    <a:pt x="63" y="485"/>
                    <a:pt x="0" y="488"/>
                  </a:cubicBez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00480" y="5232240"/>
              <a:ext cx="1104840" cy="649440"/>
            </a:xfrm>
            <a:custGeom>
              <a:avLst/>
              <a:gdLst/>
              <a:ahLst/>
              <a:rect l="l" t="t" r="r" b="b"/>
              <a:pathLst>
                <a:path w="696" h="409">
                  <a:moveTo>
                    <a:pt x="696" y="408"/>
                  </a:moveTo>
                  <a:cubicBezTo>
                    <a:pt x="659" y="409"/>
                    <a:pt x="537" y="405"/>
                    <a:pt x="464" y="400"/>
                  </a:cubicBezTo>
                  <a:cubicBezTo>
                    <a:pt x="391" y="395"/>
                    <a:pt x="320" y="405"/>
                    <a:pt x="256" y="376"/>
                  </a:cubicBezTo>
                  <a:cubicBezTo>
                    <a:pt x="192" y="347"/>
                    <a:pt x="123" y="287"/>
                    <a:pt x="80" y="224"/>
                  </a:cubicBezTo>
                  <a:cubicBezTo>
                    <a:pt x="37" y="161"/>
                    <a:pt x="17" y="47"/>
                    <a:pt x="0" y="0"/>
                  </a:cubicBez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9E090-E8FE-4F60-A7D7-CA53C79BD7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aradigmas de Desenvolvimento de 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xistem dezena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4 principai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Ciclo de Vida Clássico (modelo Cascata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Prototip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Espir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Técnicas de Quarta Ger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73152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esenvolvimento de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Software</a:t>
            </a:r>
            <a:r>
              <a:rPr b="1" lang="en-US" sz="44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811EA-9582-4F9F-8BDD-2B8A46B0C6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600200" y="1752480"/>
            <a:ext cx="6629400" cy="3962520"/>
            <a:chOff x="1600200" y="1752480"/>
            <a:chExt cx="6629400" cy="3962520"/>
          </a:xfrm>
        </p:grpSpPr>
        <p:sp>
          <p:nvSpPr>
            <p:cNvPr id="151" name=""/>
            <p:cNvSpPr/>
            <p:nvPr/>
          </p:nvSpPr>
          <p:spPr>
            <a:xfrm>
              <a:off x="1600200" y="1752480"/>
              <a:ext cx="1852560" cy="9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 Narrow"/>
                </a:rPr>
                <a:t>Engenharia de Sistema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67040" y="2303280"/>
              <a:ext cx="1852560" cy="9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 Narrow"/>
                </a:rPr>
                <a:t>Análise  de Requisitos 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37040" y="2852640"/>
              <a:ext cx="1852560" cy="9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 Narrow"/>
                </a:rPr>
                <a:t>Projeto  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19600" y="3403440"/>
              <a:ext cx="1852560" cy="9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 Narrow"/>
                </a:rPr>
                <a:t>Codificação 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99000" y="3954240"/>
              <a:ext cx="1852560" cy="9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 Narrow"/>
                </a:rPr>
                <a:t>Testes 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77040" y="4394160"/>
              <a:ext cx="185256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 Narrow"/>
                </a:rPr>
                <a:t>Manutenção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52760" y="2082600"/>
              <a:ext cx="48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19600" y="252252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89600" y="307332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72160" y="362412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51560" y="417348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40200" y="2082600"/>
              <a:ext cx="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11560" y="2522520"/>
              <a:ext cx="0" cy="33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81560" y="3073320"/>
              <a:ext cx="0" cy="33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64120" y="3624120"/>
              <a:ext cx="0" cy="33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42160" y="4173480"/>
              <a:ext cx="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54720" y="5384520"/>
              <a:ext cx="0" cy="33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82760" y="5715000"/>
              <a:ext cx="497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2760" y="2743200"/>
              <a:ext cx="0" cy="297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49600" y="3294000"/>
              <a:ext cx="0" cy="2421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24120" y="3843360"/>
              <a:ext cx="0" cy="18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07040" y="4394160"/>
              <a:ext cx="0" cy="132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987880" y="4944960"/>
              <a:ext cx="0" cy="77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Modelo Cascata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48160" y="5866560"/>
            <a:ext cx="66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modelo original, proposto por Royce, prevê feedback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C917B-4A74-416D-ABDE-53650AA656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Prototip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675880" y="1869120"/>
            <a:ext cx="4368240" cy="4150440"/>
            <a:chOff x="2675880" y="1869120"/>
            <a:chExt cx="4368240" cy="4150440"/>
          </a:xfrm>
        </p:grpSpPr>
        <p:sp>
          <p:nvSpPr>
            <p:cNvPr id="178" name=""/>
            <p:cNvSpPr/>
            <p:nvPr/>
          </p:nvSpPr>
          <p:spPr>
            <a:xfrm>
              <a:off x="3051000" y="2187360"/>
              <a:ext cx="3670200" cy="3416400"/>
            </a:xfrm>
            <a:prstGeom prst="ellipse">
              <a:avLst/>
            </a:prstGeom>
            <a:noFill/>
            <a:ln cap="sq" w="5079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4751000">
              <a:off x="5180760" y="1993680"/>
              <a:ext cx="727200" cy="701640"/>
            </a:xfrm>
            <a:prstGeom prst="rtTriangle">
              <a:avLst/>
            </a:prstGeom>
            <a:solidFill>
              <a:srgbClr val="66ccff"/>
            </a:solidFill>
            <a:ln cap="sq"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1722200">
              <a:off x="3657240" y="2069640"/>
              <a:ext cx="726840" cy="701640"/>
            </a:xfrm>
            <a:prstGeom prst="rtTriangle">
              <a:avLst/>
            </a:prstGeom>
            <a:solidFill>
              <a:srgbClr val="66ccff"/>
            </a:solidFill>
            <a:ln cap="sq"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7932800">
              <a:off x="6197760" y="2806200"/>
              <a:ext cx="726840" cy="701640"/>
            </a:xfrm>
            <a:prstGeom prst="rtTriangle">
              <a:avLst/>
            </a:prstGeom>
            <a:solidFill>
              <a:srgbClr val="66ccff"/>
            </a:solidFill>
            <a:ln cap="sq"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0477400">
              <a:off x="6146640" y="4279320"/>
              <a:ext cx="727200" cy="701640"/>
            </a:xfrm>
            <a:prstGeom prst="rtTriangle">
              <a:avLst/>
            </a:prstGeom>
            <a:solidFill>
              <a:srgbClr val="66ccff"/>
            </a:solidFill>
            <a:ln cap="sq"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726200">
              <a:off x="5181120" y="5130360"/>
              <a:ext cx="727200" cy="701640"/>
            </a:xfrm>
            <a:prstGeom prst="rtTriangle">
              <a:avLst/>
            </a:prstGeom>
            <a:solidFill>
              <a:srgbClr val="66ccff"/>
            </a:solidFill>
            <a:ln cap="sq"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4200600">
              <a:off x="3733200" y="5206680"/>
              <a:ext cx="727200" cy="701640"/>
            </a:xfrm>
            <a:prstGeom prst="rtTriangle">
              <a:avLst/>
            </a:prstGeom>
            <a:solidFill>
              <a:srgbClr val="66ccff"/>
            </a:solidFill>
            <a:ln cap="sq"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6667200">
              <a:off x="2831400" y="4343040"/>
              <a:ext cx="727200" cy="701640"/>
            </a:xfrm>
            <a:prstGeom prst="rtTriangle">
              <a:avLst/>
            </a:prstGeom>
            <a:solidFill>
              <a:srgbClr val="66ccff"/>
            </a:solidFill>
            <a:ln cap="sq"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0051200">
              <a:off x="2742840" y="2996640"/>
              <a:ext cx="726840" cy="701640"/>
            </a:xfrm>
            <a:prstGeom prst="rtTriangle">
              <a:avLst/>
            </a:prstGeom>
            <a:solidFill>
              <a:srgbClr val="66ccff"/>
            </a:solidFill>
            <a:ln cap="sq"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041720" y="5235480"/>
              <a:ext cx="203040" cy="457200"/>
            </a:xfrm>
            <a:prstGeom prst="line">
              <a:avLst/>
            </a:prstGeom>
            <a:ln cap="sq"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5476680" y="5235480"/>
              <a:ext cx="139680" cy="482400"/>
            </a:xfrm>
            <a:prstGeom prst="line">
              <a:avLst/>
            </a:prstGeom>
            <a:ln cap="sq"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6302160" y="4523760"/>
              <a:ext cx="470160" cy="228600"/>
            </a:xfrm>
            <a:prstGeom prst="line">
              <a:avLst/>
            </a:prstGeom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6327360" y="4537080"/>
              <a:ext cx="190440" cy="101520"/>
            </a:xfrm>
            <a:prstGeom prst="line">
              <a:avLst/>
            </a:prstGeom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302160" y="3089160"/>
              <a:ext cx="482760" cy="164880"/>
            </a:xfrm>
            <a:prstGeom prst="line">
              <a:avLst/>
            </a:prstGeom>
            <a:ln cap="sq" w="572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489640" y="2059920"/>
              <a:ext cx="164880" cy="482760"/>
            </a:xfrm>
            <a:prstGeom prst="line">
              <a:avLst/>
            </a:prstGeom>
            <a:ln cap="sq" w="572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3876480" y="2174400"/>
              <a:ext cx="254160" cy="431640"/>
            </a:xfrm>
            <a:prstGeom prst="line">
              <a:avLst/>
            </a:prstGeom>
            <a:ln cap="sq"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2923920" y="3241080"/>
              <a:ext cx="432000" cy="266760"/>
            </a:xfrm>
            <a:prstGeom prst="line">
              <a:avLst/>
            </a:prstGeom>
            <a:ln cap="sq"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3012480" y="4562280"/>
              <a:ext cx="444600" cy="216000"/>
            </a:xfrm>
            <a:prstGeom prst="line">
              <a:avLst/>
            </a:prstGeom>
            <a:ln cap="sq"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265080" y="2409840"/>
            <a:ext cx="2433240" cy="825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a/revi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ótip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94120" y="4260240"/>
            <a:ext cx="176832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e 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ótipo pelo clien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15960" y="2562480"/>
            <a:ext cx="1609920" cy="825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ça o clien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9222-1169-4D4C-B7AE-7412D5140E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905120" y="1523880"/>
            <a:ext cx="6202080" cy="508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422080" y="1636560"/>
            <a:ext cx="5207040" cy="4637160"/>
            <a:chOff x="2422080" y="1636560"/>
            <a:chExt cx="5207040" cy="4637160"/>
          </a:xfrm>
        </p:grpSpPr>
        <p:sp>
          <p:nvSpPr>
            <p:cNvPr id="201" name=""/>
            <p:cNvSpPr/>
            <p:nvPr/>
          </p:nvSpPr>
          <p:spPr>
            <a:xfrm>
              <a:off x="2422440" y="2201760"/>
              <a:ext cx="1136520" cy="56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cc"/>
                  </a:solidFill>
                  <a:latin typeface="Comic Sans MS"/>
                </a:rPr>
                <a:t>fim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62280" y="1636560"/>
              <a:ext cx="1136520" cy="56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cc"/>
                  </a:solidFill>
                  <a:latin typeface="Comic Sans MS"/>
                </a:rPr>
                <a:t>iníci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14600" y="3241440"/>
              <a:ext cx="186048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construção</a:t>
              </a: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produt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28720" y="4576680"/>
              <a:ext cx="1757520" cy="90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refinamento</a:t>
              </a: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protótip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86240" y="5256000"/>
              <a:ext cx="1654200" cy="90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avaliação</a:t>
              </a: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protótip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626080" y="4463640"/>
              <a:ext cx="165420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construção</a:t>
              </a: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protótip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32360" y="3219120"/>
              <a:ext cx="144792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projeto</a:t>
              </a: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rápid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79600" y="2428560"/>
              <a:ext cx="1652760" cy="113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obtenção</a:t>
              </a: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os</a:t>
              </a: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requisito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22440" y="2314440"/>
              <a:ext cx="4960800" cy="3959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79600" y="3558960"/>
              <a:ext cx="1652760" cy="135720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65600" y="2541240"/>
              <a:ext cx="826920" cy="113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522400" y="2653920"/>
              <a:ext cx="723960" cy="101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32360" y="4238280"/>
              <a:ext cx="155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22760" y="4803480"/>
              <a:ext cx="827280" cy="113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868560" y="4916160"/>
              <a:ext cx="827280" cy="113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422080" y="4238280"/>
              <a:ext cx="1757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9966800">
              <a:off x="4592160" y="4011120"/>
              <a:ext cx="826920" cy="565200"/>
            </a:xfrm>
            <a:custGeom>
              <a:avLst/>
              <a:gdLst>
                <a:gd name="textAreaLeft" fmla="*/ 129240 w 826920"/>
                <a:gd name="textAreaRight" fmla="*/ 723600 w 826920"/>
                <a:gd name="textAreaTop" fmla="*/ 141120 h 565200"/>
                <a:gd name="textAreaBottom" fmla="*/ 424080 h 56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179600" y="3671640"/>
              <a:ext cx="1343160" cy="566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5840" y="4237920"/>
              <a:ext cx="1136520" cy="677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3042720" y="2428200"/>
              <a:ext cx="206280" cy="338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68560" y="1976040"/>
              <a:ext cx="208080" cy="3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276880" y="2431080"/>
              <a:ext cx="2352240" cy="2710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221" y="8"/>
                  </a:moveTo>
                  <a:arcTo wR="10800" hR="10800" stAng="-5265829" swAng="4371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221" y="8"/>
                  </a:moveTo>
                  <a:arcTo wR="10800" hR="10800" stAng="-5265829" swAng="437194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Prototip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570E2-963C-489D-B35E-5780D98662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Modelo Espiral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987640" y="2252520"/>
            <a:ext cx="3632040" cy="3543120"/>
            <a:chOff x="2987640" y="2252520"/>
            <a:chExt cx="3632040" cy="3543120"/>
          </a:xfrm>
        </p:grpSpPr>
        <p:sp>
          <p:nvSpPr>
            <p:cNvPr id="226" name=""/>
            <p:cNvSpPr/>
            <p:nvPr/>
          </p:nvSpPr>
          <p:spPr>
            <a:xfrm rot="4255200">
              <a:off x="4380480" y="2995560"/>
              <a:ext cx="1162080" cy="2951280"/>
            </a:xfrm>
            <a:prstGeom prst="flowChartDelay">
              <a:avLst/>
            </a:prstGeom>
            <a:solidFill>
              <a:srgbClr val="99ccff"/>
            </a:solidFill>
            <a:ln cap="sq" w="1260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5054600">
              <a:off x="4303440" y="2099880"/>
              <a:ext cx="990720" cy="2565360"/>
            </a:xfrm>
            <a:prstGeom prst="flowChartDelay">
              <a:avLst/>
            </a:prstGeom>
            <a:solidFill>
              <a:srgbClr val="99ccff"/>
            </a:solidFill>
            <a:ln cap="sq" w="1260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4241400">
              <a:off x="4542480" y="3164400"/>
              <a:ext cx="804960" cy="2247840"/>
            </a:xfrm>
            <a:prstGeom prst="flowChartDelay">
              <a:avLst/>
            </a:prstGeom>
            <a:solidFill>
              <a:srgbClr val="33ccff"/>
            </a:solidFill>
            <a:ln cap="sq" w="1260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5020400">
              <a:off x="4483440" y="2541960"/>
              <a:ext cx="743040" cy="1865160"/>
            </a:xfrm>
            <a:prstGeom prst="flowChartDelay">
              <a:avLst/>
            </a:prstGeom>
            <a:solidFill>
              <a:srgbClr val="33ccff"/>
            </a:solidFill>
            <a:ln cap="sq" w="1260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4248000">
              <a:off x="4625640" y="3420720"/>
              <a:ext cx="584280" cy="1498320"/>
            </a:xfrm>
            <a:prstGeom prst="flowChartDelay">
              <a:avLst/>
            </a:prstGeom>
            <a:solidFill>
              <a:srgbClr val="0099ff"/>
            </a:solidFill>
            <a:ln cap="sq" w="1260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5100200">
              <a:off x="4574880" y="2950560"/>
              <a:ext cx="558720" cy="1231560"/>
            </a:xfrm>
            <a:prstGeom prst="flowChartDelay">
              <a:avLst/>
            </a:prstGeom>
            <a:solidFill>
              <a:srgbClr val="0099ff"/>
            </a:solidFill>
            <a:ln cap="sq" w="1260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5064800">
              <a:off x="4651200" y="3306600"/>
              <a:ext cx="380880" cy="698400"/>
            </a:xfrm>
            <a:prstGeom prst="flowChartDelay">
              <a:avLst/>
            </a:prstGeom>
            <a:solidFill>
              <a:srgbClr val="0066ff"/>
            </a:solidFill>
            <a:ln cap="sq" w="1260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4300200">
              <a:off x="4671360" y="3619080"/>
              <a:ext cx="396720" cy="927000"/>
            </a:xfrm>
            <a:prstGeom prst="flowChartDelay">
              <a:avLst/>
            </a:prstGeom>
            <a:solidFill>
              <a:srgbClr val="0066ff"/>
            </a:solidFill>
            <a:ln cap="sq" w="1260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987640" y="3255480"/>
              <a:ext cx="3632040" cy="1270080"/>
            </a:xfrm>
            <a:prstGeom prst="line">
              <a:avLst/>
            </a:prstGeom>
            <a:ln cap="sq" w="5724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473000" y="2252520"/>
              <a:ext cx="723960" cy="3543120"/>
            </a:xfrm>
            <a:prstGeom prst="line">
              <a:avLst/>
            </a:prstGeom>
            <a:ln cap="sq" w="3816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54400" y="2734920"/>
              <a:ext cx="3238200" cy="2247840"/>
            </a:xfrm>
            <a:prstGeom prst="line">
              <a:avLst/>
            </a:prstGeom>
            <a:ln cap="sq" w="3816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10000" y="3763800"/>
              <a:ext cx="38160" cy="177480"/>
            </a:xfrm>
            <a:custGeom>
              <a:avLst/>
              <a:gdLst/>
              <a:ahLst/>
              <a:rect l="l" t="t" r="r" b="b"/>
              <a:pathLst>
                <a:path w="24" h="112">
                  <a:moveTo>
                    <a:pt x="24" y="112"/>
                  </a:moveTo>
                  <a:lnTo>
                    <a:pt x="0" y="80"/>
                  </a:ln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200b5b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43240" y="3801600"/>
              <a:ext cx="88920" cy="266760"/>
            </a:xfrm>
            <a:custGeom>
              <a:avLst/>
              <a:gdLst/>
              <a:ahLst/>
              <a:rect l="l" t="t" r="r" b="b"/>
              <a:pathLst>
                <a:path w="56" h="168">
                  <a:moveTo>
                    <a:pt x="56" y="168"/>
                  </a:moveTo>
                  <a:lnTo>
                    <a:pt x="16" y="96"/>
                  </a:ln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200b5b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87560" y="3789000"/>
              <a:ext cx="101520" cy="380880"/>
            </a:xfrm>
            <a:custGeom>
              <a:avLst/>
              <a:gdLst/>
              <a:ahLst/>
              <a:rect l="l" t="t" r="r" b="b"/>
              <a:pathLst>
                <a:path w="64" h="240">
                  <a:moveTo>
                    <a:pt x="64" y="240"/>
                  </a:moveTo>
                  <a:lnTo>
                    <a:pt x="16" y="120"/>
                  </a:ln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200b5b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30360" y="3839760"/>
              <a:ext cx="165240" cy="470160"/>
            </a:xfrm>
            <a:custGeom>
              <a:avLst/>
              <a:gdLst/>
              <a:ahLst/>
              <a:rect l="l" t="t" r="r" b="b"/>
              <a:pathLst>
                <a:path w="104" h="296">
                  <a:moveTo>
                    <a:pt x="104" y="296"/>
                  </a:moveTo>
                  <a:lnTo>
                    <a:pt x="48" y="232"/>
                  </a:lnTo>
                  <a:lnTo>
                    <a:pt x="16" y="112"/>
                  </a:ln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200b5b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3255840" y="22471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lanejament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9600" y="22852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nálise de Risc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43520" y="374580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Engenhar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28880" y="520632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onstrução e Releas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19080" y="525708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valiação do Clien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14600" y="309996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omunicação co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o Clien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A9F69-17C5-485F-AB1C-CCEC18618E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1600200" y="1752480"/>
            <a:ext cx="6721200" cy="4678200"/>
            <a:chOff x="1600200" y="1752480"/>
            <a:chExt cx="6721200" cy="4678200"/>
          </a:xfrm>
        </p:grpSpPr>
        <p:sp>
          <p:nvSpPr>
            <p:cNvPr id="248" name="">
              <a:hlinkClick r:id="rId1" action="ppaction://hlinksldjump"/>
            </p:cNvPr>
            <p:cNvSpPr/>
            <p:nvPr/>
          </p:nvSpPr>
          <p:spPr>
            <a:xfrm>
              <a:off x="4572000" y="3200040"/>
              <a:ext cx="1523880" cy="762120"/>
            </a:xfrm>
            <a:custGeom>
              <a:avLst/>
              <a:gdLst>
                <a:gd name="textAreaLeft" fmla="*/ 49320 w 1523880"/>
                <a:gd name="textAreaRight" fmla="*/ 1474560 w 1523880"/>
                <a:gd name="textAreaTop" fmla="*/ 49320 h 762120"/>
                <a:gd name="textAreaBottom" fmla="*/ 712800 h 762120"/>
              </a:gdLst>
              <a:ahLst/>
              <a:rect l="textAreaLeft" t="textAreaTop" r="textAreaRight" b="textAreaBottom"/>
              <a:pathLst>
                <a:path w="43180" h="21600">
                  <a:moveTo>
                    <a:pt x="0" y="0"/>
                  </a:moveTo>
                  <a:lnTo>
                    <a:pt x="43180" y="0"/>
                  </a:lnTo>
                  <a:lnTo>
                    <a:pt x="43180" y="21600"/>
                  </a:lnTo>
                  <a:lnTo>
                    <a:pt x="0" y="21600"/>
                  </a:lnTo>
                  <a:close/>
                </a:path>
                <a:path fill="lightenLess" w="43180" h="21600">
                  <a:moveTo>
                    <a:pt x="0" y="0"/>
                  </a:moveTo>
                  <a:lnTo>
                    <a:pt x="43180" y="0"/>
                  </a:lnTo>
                  <a:lnTo>
                    <a:pt x="41780" y="1400"/>
                  </a:lnTo>
                  <a:lnTo>
                    <a:pt x="1400" y="1400"/>
                  </a:lnTo>
                  <a:close/>
                </a:path>
                <a:path fill="darken" w="43180" h="21600">
                  <a:moveTo>
                    <a:pt x="43180" y="0"/>
                  </a:moveTo>
                  <a:lnTo>
                    <a:pt x="43180" y="21600"/>
                  </a:lnTo>
                  <a:lnTo>
                    <a:pt x="41780" y="20200"/>
                  </a:lnTo>
                  <a:lnTo>
                    <a:pt x="41780" y="1400"/>
                  </a:lnTo>
                  <a:close/>
                </a:path>
                <a:path fill="darkenLess" w="43180" h="21600">
                  <a:moveTo>
                    <a:pt x="4318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1780" y="20200"/>
                  </a:lnTo>
                  <a:close/>
                </a:path>
                <a:path fill="lighten" w="4318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eeb00b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>
              <a:hlinkClick r:id="rId2" action="ppaction://hlinksldjump"/>
            </p:cNvPr>
            <p:cNvSpPr/>
            <p:nvPr/>
          </p:nvSpPr>
          <p:spPr>
            <a:xfrm>
              <a:off x="1752480" y="1981080"/>
              <a:ext cx="1752480" cy="1371600"/>
            </a:xfrm>
            <a:custGeom>
              <a:avLst/>
              <a:gdLst>
                <a:gd name="textAreaLeft" fmla="*/ 88560 w 1752480"/>
                <a:gd name="textAreaRight" fmla="*/ 1663920 w 1752480"/>
                <a:gd name="textAreaTop" fmla="*/ 88560 h 1371600"/>
                <a:gd name="textAreaBottom" fmla="*/ 1283040 h 1371600"/>
              </a:gdLst>
              <a:ahLst/>
              <a:rect l="textAreaLeft" t="textAreaTop" r="textAreaRight" b="textAreaBottom"/>
              <a:pathLst>
                <a:path w="27597" h="21600">
                  <a:moveTo>
                    <a:pt x="0" y="0"/>
                  </a:moveTo>
                  <a:lnTo>
                    <a:pt x="27597" y="0"/>
                  </a:lnTo>
                  <a:lnTo>
                    <a:pt x="27597" y="21600"/>
                  </a:lnTo>
                  <a:lnTo>
                    <a:pt x="0" y="21600"/>
                  </a:lnTo>
                  <a:close/>
                </a:path>
                <a:path fill="lightenLess" w="27597" h="21600">
                  <a:moveTo>
                    <a:pt x="0" y="0"/>
                  </a:moveTo>
                  <a:lnTo>
                    <a:pt x="27597" y="0"/>
                  </a:lnTo>
                  <a:lnTo>
                    <a:pt x="26197" y="1400"/>
                  </a:lnTo>
                  <a:lnTo>
                    <a:pt x="1400" y="1400"/>
                  </a:lnTo>
                  <a:close/>
                </a:path>
                <a:path fill="darken" w="27597" h="21600">
                  <a:moveTo>
                    <a:pt x="27597" y="0"/>
                  </a:moveTo>
                  <a:lnTo>
                    <a:pt x="27597" y="21600"/>
                  </a:lnTo>
                  <a:lnTo>
                    <a:pt x="26197" y="20200"/>
                  </a:lnTo>
                  <a:lnTo>
                    <a:pt x="26197" y="1400"/>
                  </a:lnTo>
                  <a:close/>
                </a:path>
                <a:path fill="darkenLess" w="27597" h="21600">
                  <a:moveTo>
                    <a:pt x="2759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197" y="20200"/>
                  </a:lnTo>
                  <a:close/>
                </a:path>
                <a:path fill="lighten" w="2759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eeb00b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>
              <a:hlinkClick r:id="rId3" action="ppaction://hlinksldjump"/>
            </p:cNvPr>
            <p:cNvSpPr/>
            <p:nvPr/>
          </p:nvSpPr>
          <p:spPr>
            <a:xfrm>
              <a:off x="3276360" y="2742840"/>
              <a:ext cx="1600200" cy="762120"/>
            </a:xfrm>
            <a:custGeom>
              <a:avLst/>
              <a:gdLst>
                <a:gd name="textAreaLeft" fmla="*/ 49320 w 1600200"/>
                <a:gd name="textAreaRight" fmla="*/ 1550880 w 1600200"/>
                <a:gd name="textAreaTop" fmla="*/ 49320 h 762120"/>
                <a:gd name="textAreaBottom" fmla="*/ 712800 h 762120"/>
              </a:gdLst>
              <a:ahLst/>
              <a:rect l="textAreaLeft" t="textAreaTop" r="textAreaRight" b="textAreaBottom"/>
              <a:pathLst>
                <a:path w="45342" h="21600">
                  <a:moveTo>
                    <a:pt x="0" y="0"/>
                  </a:moveTo>
                  <a:lnTo>
                    <a:pt x="45342" y="0"/>
                  </a:lnTo>
                  <a:lnTo>
                    <a:pt x="45342" y="21600"/>
                  </a:lnTo>
                  <a:lnTo>
                    <a:pt x="0" y="21600"/>
                  </a:lnTo>
                  <a:close/>
                </a:path>
                <a:path fill="lightenLess" w="45342" h="21600">
                  <a:moveTo>
                    <a:pt x="0" y="0"/>
                  </a:moveTo>
                  <a:lnTo>
                    <a:pt x="45342" y="0"/>
                  </a:lnTo>
                  <a:lnTo>
                    <a:pt x="43942" y="1400"/>
                  </a:lnTo>
                  <a:lnTo>
                    <a:pt x="1400" y="1400"/>
                  </a:lnTo>
                  <a:close/>
                </a:path>
                <a:path fill="darken" w="45342" h="21600">
                  <a:moveTo>
                    <a:pt x="45342" y="0"/>
                  </a:moveTo>
                  <a:lnTo>
                    <a:pt x="45342" y="21600"/>
                  </a:lnTo>
                  <a:lnTo>
                    <a:pt x="43942" y="20200"/>
                  </a:lnTo>
                  <a:lnTo>
                    <a:pt x="43942" y="1400"/>
                  </a:lnTo>
                  <a:close/>
                </a:path>
                <a:path fill="darkenLess" w="45342" h="21600">
                  <a:moveTo>
                    <a:pt x="4534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3942" y="20200"/>
                  </a:lnTo>
                  <a:close/>
                </a:path>
                <a:path fill="lighten" w="4534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eeb00b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00200" y="1752480"/>
              <a:ext cx="6721200" cy="4678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09800" y="2158920"/>
              <a:ext cx="1965240" cy="915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</a:rPr>
                <a:t>Obtenção dos Requisito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254400" y="2668320"/>
              <a:ext cx="196524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</a:rPr>
                <a:t>Estratégia do “Projeto” 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95680" y="3176280"/>
              <a:ext cx="1965240" cy="916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</a:rPr>
                <a:t>Implementação usando 4GL  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43600" y="3684240"/>
              <a:ext cx="1963440" cy="916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Arial Narrow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</a:rPr>
                <a:t>Testes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75040" y="2463480"/>
              <a:ext cx="517320" cy="0"/>
            </a:xfrm>
            <a:prstGeom prst="line">
              <a:avLst/>
            </a:prstGeom>
            <a:ln w="3816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19640" y="2871720"/>
              <a:ext cx="309600" cy="0"/>
            </a:xfrm>
            <a:prstGeom prst="line">
              <a:avLst/>
            </a:prstGeom>
            <a:ln w="3816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460920" y="3379680"/>
              <a:ext cx="309600" cy="0"/>
            </a:xfrm>
            <a:prstGeom prst="line">
              <a:avLst/>
            </a:prstGeom>
            <a:ln w="3816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92360" y="2463480"/>
              <a:ext cx="0" cy="204840"/>
            </a:xfrm>
            <a:prstGeom prst="line">
              <a:avLst/>
            </a:prstGeom>
            <a:ln w="38160">
              <a:solidFill>
                <a:srgbClr val="200b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29240" y="2871720"/>
              <a:ext cx="0" cy="304560"/>
            </a:xfrm>
            <a:prstGeom prst="line">
              <a:avLst/>
            </a:prstGeom>
            <a:ln w="38160">
              <a:solidFill>
                <a:srgbClr val="200b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70520" y="3379680"/>
              <a:ext cx="0" cy="304560"/>
            </a:xfrm>
            <a:prstGeom prst="line">
              <a:avLst/>
            </a:prstGeom>
            <a:ln w="38160">
              <a:solidFill>
                <a:srgbClr val="200b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33400" y="5821200"/>
              <a:ext cx="3930840" cy="0"/>
            </a:xfrm>
            <a:prstGeom prst="line">
              <a:avLst/>
            </a:prstGeom>
            <a:ln w="3816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33400" y="3074760"/>
              <a:ext cx="0" cy="2746440"/>
            </a:xfrm>
            <a:prstGeom prst="line">
              <a:avLst/>
            </a:prstGeom>
            <a:ln w="38160">
              <a:solidFill>
                <a:srgbClr val="200b5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78000" y="3582720"/>
              <a:ext cx="0" cy="2238480"/>
            </a:xfrm>
            <a:prstGeom prst="line">
              <a:avLst/>
            </a:prstGeom>
            <a:ln w="38160">
              <a:solidFill>
                <a:srgbClr val="200b5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13360" y="4092480"/>
              <a:ext cx="0" cy="1728720"/>
            </a:xfrm>
            <a:prstGeom prst="line">
              <a:avLst/>
            </a:prstGeom>
            <a:ln w="38160">
              <a:solidFill>
                <a:srgbClr val="200b5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64240" y="4600440"/>
              <a:ext cx="0" cy="1220760"/>
            </a:xfrm>
            <a:prstGeom prst="line">
              <a:avLst/>
            </a:prstGeom>
            <a:ln w="38160">
              <a:solidFill>
                <a:srgbClr val="200b5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Técnicas de 4</a:t>
            </a:r>
            <a:r>
              <a:rPr b="1" lang="en-US" sz="3600" spc="-1" strike="noStrike" u="sng" baseline="30000">
                <a:solidFill>
                  <a:srgbClr val="ffcc00"/>
                </a:solidFill>
                <a:uFillTx/>
                <a:latin typeface="Arial"/>
              </a:rPr>
              <a:t>a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Ger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AFB5F-4485-4395-9E0C-83B08588EA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Tópicos Complementa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86000" y="2666880"/>
            <a:ext cx="5415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genharia de Software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5290C-8D11-4159-9551-AA92F2D8F7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onsiderações Finai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NGENHARIA DE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ctr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pode ser vista como uma abordagem de desenvolvimento de 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software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elaborada com disciplina e métodos bem definid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0">
              <a:lnSpc>
                <a:spcPct val="3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0">
              <a:lnSpc>
                <a:spcPct val="3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0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.....“a construção por múltiplas pessoas de um software de múltiplas versões”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[Parnas 1987]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219320" y="4495680"/>
            <a:ext cx="622080" cy="18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B9478-6BBA-4BA3-85E9-9005B69756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Evolução do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Software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(1950 - 1965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O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hardwar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sofreu contínuas mudanç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O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softwar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era uma arte "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cundária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" para a qual havia poucos métodos sistemátic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O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hardwar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era de propósito ger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O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softwar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era específico para cada aplicaçã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Não havia documen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7DC34-4027-4093-A769-81630AC278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45480" indent="0" algn="just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Times New Roman"/>
              </a:rPr>
              <a:t>(</a:t>
            </a: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1965 - 1975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45480" indent="0" algn="just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645480" indent="-26280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Multi-programação e sistemas multi-usuário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45480" indent="-26280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écnicas interativa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45480" indent="-26280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istemas de tempo re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45480" indent="-26280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roduto de 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softwar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- s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oftware hou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45480" indent="-26280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Bibliotecas de 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45480" indent="-26280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resce n</a:t>
            </a:r>
            <a:r>
              <a:rPr b="1" lang="pt-BR" sz="2400" spc="-1" strike="noStrike" u="sng" baseline="30000">
                <a:solidFill>
                  <a:srgbClr val="ffffcc"/>
                </a:solidFill>
                <a:uFillTx/>
                <a:latin typeface="Arial"/>
              </a:rPr>
              <a:t>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de sistemas baseado em computad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45480" indent="-26280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Manutenção quase impossí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45480" indent="0" algn="ctr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                </a:t>
            </a:r>
            <a:r>
              <a:rPr b="0" lang="pt-BR" sz="2400" spc="-1" strike="noStrike">
                <a:solidFill>
                  <a:srgbClr val="ff66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45480" indent="0" algn="ctr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6600"/>
                </a:solidFill>
                <a:latin typeface="Arial"/>
              </a:rPr>
              <a:t>                </a:t>
            </a:r>
            <a:r>
              <a:rPr b="0" lang="pt-BR" sz="2400" spc="-1" strike="noStrike">
                <a:solidFill>
                  <a:srgbClr val="ff6600"/>
                </a:solidFill>
                <a:latin typeface="Arial"/>
              </a:rPr>
              <a:t>.....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CRISE DE SOFTWARE</a:t>
            </a:r>
            <a:r>
              <a:rPr b="0" lang="pt-BR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33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Evolução do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Software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7C700-7164-4FA5-8819-63A84BEC6C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44792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41400" indent="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(1975 -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hoje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41400" indent="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41400" indent="-48420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istemas distribuí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41400" indent="-48420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edes locais e globa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41400" indent="-48420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Uso generalizado de microprocessadores - produtos inteligen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41400" indent="-48420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Hardwar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de baixo cus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41400" indent="-48420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mpacto de consum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Evolução do S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oftware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16E21-3C87-429F-AC1A-6E4688CC51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295280" y="17521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31680" indent="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(Quarta era do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software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: atualidad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31680" indent="0" algn="just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931680" indent="-479160" algn="just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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ecnologias orientadas o objet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31680" indent="-479160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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istemas especialistas e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softwar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para inteligência artificial usados na prát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31680" indent="-479160" algn="just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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Softwar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de rede neural artifici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31680" indent="-479160" algn="just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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omputação Paralel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31680" indent="-479160" algn="just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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Evolução do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Software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74537-9709-48A8-80F0-A94B951C26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Software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- Perspectiva Industrial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847080" indent="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oje, é o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softwar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que custa mais do que o hardwar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47080" indent="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Já há algum tempo, gerentes e técnicos se perguntam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47080" indent="-435600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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Porque é preciso tanto tempo para terminar os programas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847080" indent="-435600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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Porque os custos são tão altos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847080" indent="-435600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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Porque não se consegue encontrar todos os erros antes que o </a:t>
            </a:r>
            <a:r>
              <a:rPr b="1" i="1" lang="en-US" sz="2000" spc="-1" strike="noStrike">
                <a:solidFill>
                  <a:srgbClr val="ffffcc"/>
                </a:solidFill>
                <a:latin typeface="Arial"/>
              </a:rPr>
              <a:t>software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seja liberado para os clientes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847080" indent="-435600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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Porque existe uma dificuldade em medir o progresso à medida que o </a:t>
            </a:r>
            <a:r>
              <a:rPr b="1" i="1" lang="en-US" sz="2000" spc="-1" strike="noStrike">
                <a:solidFill>
                  <a:srgbClr val="ffffcc"/>
                </a:solidFill>
                <a:latin typeface="Arial"/>
              </a:rPr>
              <a:t>software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está sendo construído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EC1F5-E488-4A06-B5D8-A85A39DB23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1981080"/>
            <a:ext cx="2438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Denver International Airport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46483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rros no sistema automático de transporte de bagagens (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isloaded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isrouted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jammed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34960" indent="-2055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traso na abertura do aeroporto com custo total estimado em US$360 Milhõ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86 milhões para consertar o sistem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apr_denver_airport_h" descr=""/>
          <p:cNvPicPr/>
          <p:nvPr/>
        </p:nvPicPr>
        <p:blipFill>
          <a:blip r:embed="rId1"/>
          <a:stretch/>
        </p:blipFill>
        <p:spPr>
          <a:xfrm>
            <a:off x="4038480" y="1447920"/>
            <a:ext cx="4343400" cy="3127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371600" y="0"/>
            <a:ext cx="7772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Software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xemplos de problem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37AD5-A919-47B4-93D1-5EC2EF5499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218960" y="1143000"/>
            <a:ext cx="79246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cc00"/>
                </a:solidFill>
                <a:latin typeface="Arial"/>
              </a:rPr>
              <a:t>ARIANE 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240120" indent="-2401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Projeto da Agência Espacial Européia que custou: 10 anos, US$ 8 Bilhõ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40120" indent="-2401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Explosão 40 segundos após a decolagem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40120" indent="-2401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Os computadores principal e </a:t>
            </a:r>
            <a:r>
              <a:rPr b="1" i="1" lang="pt-BR" sz="2000" spc="-1" strike="noStrike">
                <a:solidFill>
                  <a:srgbClr val="ffffcc"/>
                </a:solidFill>
                <a:latin typeface="Arial"/>
              </a:rPr>
              <a:t>back-up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deram </a:t>
            </a:r>
            <a:r>
              <a:rPr b="1" i="1" lang="pt-BR" sz="2000" spc="-1" strike="noStrike">
                <a:solidFill>
                  <a:srgbClr val="ffffcc"/>
                </a:solidFill>
                <a:latin typeface="Arial"/>
              </a:rPr>
              <a:t>shut-down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ao mesmo tempo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40120" indent="-2401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Por que o </a:t>
            </a:r>
            <a:r>
              <a:rPr b="1" i="1" lang="pt-BR" sz="2000" spc="-1" strike="noStrike">
                <a:solidFill>
                  <a:srgbClr val="ffffcc"/>
                </a:solidFill>
                <a:latin typeface="Arial"/>
              </a:rPr>
              <a:t>shut-down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? Ocorrera um </a:t>
            </a:r>
            <a:r>
              <a:rPr b="1" i="1" lang="pt-BR" sz="2000" spc="-1" strike="noStrike">
                <a:solidFill>
                  <a:srgbClr val="ffffcc"/>
                </a:solidFill>
                <a:latin typeface="Arial"/>
              </a:rPr>
              <a:t>run time error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i="1" lang="pt-BR" sz="2000" spc="-1" strike="noStrike">
                <a:solidFill>
                  <a:srgbClr val="ffffcc"/>
                </a:solidFill>
                <a:latin typeface="Arial"/>
              </a:rPr>
              <a:t>out of range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i="1" lang="pt-BR" sz="2000" spc="-1" strike="noStrike">
                <a:solidFill>
                  <a:srgbClr val="ffffcc"/>
                </a:solidFill>
                <a:latin typeface="Arial"/>
              </a:rPr>
              <a:t>overflow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, ou outro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launch.explode.lrg" descr=""/>
          <p:cNvPicPr/>
          <p:nvPr/>
        </p:nvPicPr>
        <p:blipFill>
          <a:blip r:embed="rId1"/>
          <a:stretch/>
        </p:blipFill>
        <p:spPr>
          <a:xfrm>
            <a:off x="3352680" y="1523880"/>
            <a:ext cx="5410440" cy="2551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371600" y="0"/>
            <a:ext cx="7772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Software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xemplos de problem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E6D0F-5863-4A8E-A504-09E7313D9E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</dc:creator>
  <dc:description/>
  <dc:language>en-US</dc:language>
  <cp:lastModifiedBy>Particular</cp:lastModifiedBy>
  <dcterms:modified xsi:type="dcterms:W3CDTF">2004-04-28T10:40:01Z</dcterms:modified>
  <cp:revision>111</cp:revision>
  <dc:subject/>
  <dc:title>Slide sem título </dc:title>
</cp:coreProperties>
</file>