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413B0-CF8D-4A0D-A92D-4BD0B34BEB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062AD-73BE-4F19-AB12-FE41290B6A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3D7DC-998B-4779-B858-F85F136DE5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72272-13AE-48AE-A9E0-227BBC2621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333DE-8589-4057-BA35-61401AB8C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55B73-E38E-4706-A409-DCD4A8C3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0E8C8-BE55-4924-AC19-0A08277C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8A9D8-9E63-4318-B58B-380DFA96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E5DFD-0B3A-4971-B6E5-D4DB6D2F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2E15D-678D-4075-9A56-F26E19B8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23F23-4DA5-4F32-9234-4E7BA72E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93706-4E15-4264-8214-8DDCCE193D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E59D2-DBD1-444F-9D50-00A026FB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3FC306-FD79-4C75-A636-11E2E857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92675-8AB7-4D70-8C70-BE34612F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A341E-2149-4805-AFC4-46877F284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A8E5D-C7D1-4474-8FBF-6438908CE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433C0-93CB-46F6-B82E-C21F9A6639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C5172-92BC-4F75-BCC1-557710C1DF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C0D91-D675-4D75-A758-5289BB16C5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BB9E2-FEFA-452F-9D08-CA8892504C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AC9C2-B581-4032-A8AE-E69274D884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16962-2ACF-439B-8338-CC4787AC3B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8A59D-59C4-42E6-A2C6-C9FFA76F9B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3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3.png"/><Relationship Id="rId17" Type="http://schemas.openxmlformats.org/officeDocument/2006/relationships/image" Target="../media/image1.png"/><Relationship Id="rId18" Type="http://schemas.openxmlformats.org/officeDocument/2006/relationships/image" Target="../media/image2.png"/><Relationship Id="rId19" Type="http://schemas.openxmlformats.org/officeDocument/2006/relationships/image" Target="../media/image3.png"/><Relationship Id="rId20" Type="http://schemas.openxmlformats.org/officeDocument/2006/relationships/image" Target="../media/image1.png"/><Relationship Id="rId21" Type="http://schemas.openxmlformats.org/officeDocument/2006/relationships/image" Target="../media/image2.png"/><Relationship Id="rId22" Type="http://schemas.openxmlformats.org/officeDocument/2006/relationships/image" Target="../media/image3.png"/><Relationship Id="rId23" Type="http://schemas.openxmlformats.org/officeDocument/2006/relationships/slideLayout" Target="../slideLayouts/slideLayout1.xml"/><Relationship Id="rId24" Type="http://schemas.openxmlformats.org/officeDocument/2006/relationships/slideLayout" Target="../slideLayouts/slideLayout2.xml"/><Relationship Id="rId25" Type="http://schemas.openxmlformats.org/officeDocument/2006/relationships/slideLayout" Target="../slideLayouts/slideLayout3.xml"/><Relationship Id="rId26" Type="http://schemas.openxmlformats.org/officeDocument/2006/relationships/slideLayout" Target="../slideLayouts/slideLayout4.xml"/><Relationship Id="rId27" Type="http://schemas.openxmlformats.org/officeDocument/2006/relationships/slideLayout" Target="../slideLayouts/slideLayout5.xml"/><Relationship Id="rId28" Type="http://schemas.openxmlformats.org/officeDocument/2006/relationships/slideLayout" Target="../slideLayouts/slideLayout6.xml"/><Relationship Id="rId29" Type="http://schemas.openxmlformats.org/officeDocument/2006/relationships/slideLayout" Target="../slideLayouts/slideLayout7.xml"/><Relationship Id="rId30" Type="http://schemas.openxmlformats.org/officeDocument/2006/relationships/slideLayout" Target="../slideLayouts/slideLayout8.xml"/><Relationship Id="rId31" Type="http://schemas.openxmlformats.org/officeDocument/2006/relationships/slideLayout" Target="../slideLayouts/slideLayout9.xml"/><Relationship Id="rId32" Type="http://schemas.openxmlformats.org/officeDocument/2006/relationships/slideLayout" Target="../slideLayouts/slideLayout10.xml"/><Relationship Id="rId33" Type="http://schemas.openxmlformats.org/officeDocument/2006/relationships/slideLayout" Target="../slideLayouts/slideLayout11.xml"/><Relationship Id="rId3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20A6-C7A6-4411-9147-3AD69168CEB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4920" y="952560"/>
            <a:ext cx="1116000" cy="863280"/>
            <a:chOff x="34920" y="952560"/>
            <a:chExt cx="1116000" cy="863280"/>
          </a:xfrm>
        </p:grpSpPr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34920" y="1125360"/>
              <a:ext cx="525960" cy="58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374040" y="952560"/>
              <a:ext cx="47484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4"/>
            <a:srcRect l="3110" t="0" r="7992" b="309"/>
            <a:stretch/>
          </p:blipFill>
          <p:spPr>
            <a:xfrm>
              <a:off x="616680" y="1125360"/>
              <a:ext cx="534240" cy="69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" name=""/>
          <p:cNvGrpSpPr/>
          <p:nvPr/>
        </p:nvGrpSpPr>
        <p:grpSpPr>
          <a:xfrm>
            <a:off x="34920" y="1889280"/>
            <a:ext cx="1116000" cy="863280"/>
            <a:chOff x="34920" y="1889280"/>
            <a:chExt cx="1116000" cy="863280"/>
          </a:xfrm>
        </p:grpSpPr>
        <p:pic>
          <p:nvPicPr>
            <p:cNvPr id="8" name="" descr=""/>
            <p:cNvPicPr/>
            <p:nvPr/>
          </p:nvPicPr>
          <p:blipFill>
            <a:blip r:embed="rId5"/>
            <a:stretch/>
          </p:blipFill>
          <p:spPr>
            <a:xfrm>
              <a:off x="34920" y="2062080"/>
              <a:ext cx="525960" cy="58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6"/>
            <a:stretch/>
          </p:blipFill>
          <p:spPr>
            <a:xfrm>
              <a:off x="374040" y="1889280"/>
              <a:ext cx="47484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7"/>
            <a:srcRect l="3110" t="0" r="7992" b="309"/>
            <a:stretch/>
          </p:blipFill>
          <p:spPr>
            <a:xfrm>
              <a:off x="616680" y="2062080"/>
              <a:ext cx="534240" cy="69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" name=""/>
          <p:cNvGrpSpPr/>
          <p:nvPr/>
        </p:nvGrpSpPr>
        <p:grpSpPr>
          <a:xfrm>
            <a:off x="34920" y="44280"/>
            <a:ext cx="1116000" cy="863280"/>
            <a:chOff x="34920" y="44280"/>
            <a:chExt cx="1116000" cy="863280"/>
          </a:xfrm>
        </p:grpSpPr>
        <p:pic>
          <p:nvPicPr>
            <p:cNvPr id="12" name="" descr=""/>
            <p:cNvPicPr/>
            <p:nvPr/>
          </p:nvPicPr>
          <p:blipFill>
            <a:blip r:embed="rId8"/>
            <a:stretch/>
          </p:blipFill>
          <p:spPr>
            <a:xfrm>
              <a:off x="34920" y="217080"/>
              <a:ext cx="525960" cy="58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" name="" descr=""/>
            <p:cNvPicPr/>
            <p:nvPr/>
          </p:nvPicPr>
          <p:blipFill>
            <a:blip r:embed="rId9"/>
            <a:stretch/>
          </p:blipFill>
          <p:spPr>
            <a:xfrm>
              <a:off x="374040" y="44280"/>
              <a:ext cx="47484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" name="" descr=""/>
            <p:cNvPicPr/>
            <p:nvPr/>
          </p:nvPicPr>
          <p:blipFill>
            <a:blip r:embed="rId10"/>
            <a:srcRect l="3110" t="0" r="7992" b="309"/>
            <a:stretch/>
          </p:blipFill>
          <p:spPr>
            <a:xfrm>
              <a:off x="616680" y="217080"/>
              <a:ext cx="534240" cy="69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" name=""/>
          <p:cNvGrpSpPr/>
          <p:nvPr/>
        </p:nvGrpSpPr>
        <p:grpSpPr>
          <a:xfrm>
            <a:off x="34920" y="2825640"/>
            <a:ext cx="1116000" cy="863280"/>
            <a:chOff x="34920" y="2825640"/>
            <a:chExt cx="1116000" cy="863280"/>
          </a:xfrm>
        </p:grpSpPr>
        <p:pic>
          <p:nvPicPr>
            <p:cNvPr id="16" name="" descr=""/>
            <p:cNvPicPr/>
            <p:nvPr/>
          </p:nvPicPr>
          <p:blipFill>
            <a:blip r:embed="rId11"/>
            <a:stretch/>
          </p:blipFill>
          <p:spPr>
            <a:xfrm>
              <a:off x="34920" y="2998440"/>
              <a:ext cx="525960" cy="58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" name="" descr=""/>
            <p:cNvPicPr/>
            <p:nvPr/>
          </p:nvPicPr>
          <p:blipFill>
            <a:blip r:embed="rId12"/>
            <a:stretch/>
          </p:blipFill>
          <p:spPr>
            <a:xfrm>
              <a:off x="374040" y="2825640"/>
              <a:ext cx="47484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" name="" descr=""/>
            <p:cNvPicPr/>
            <p:nvPr/>
          </p:nvPicPr>
          <p:blipFill>
            <a:blip r:embed="rId13"/>
            <a:srcRect l="3110" t="0" r="7992" b="309"/>
            <a:stretch/>
          </p:blipFill>
          <p:spPr>
            <a:xfrm>
              <a:off x="616680" y="2998440"/>
              <a:ext cx="534240" cy="69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" name=""/>
          <p:cNvGrpSpPr/>
          <p:nvPr/>
        </p:nvGrpSpPr>
        <p:grpSpPr>
          <a:xfrm>
            <a:off x="34920" y="4697280"/>
            <a:ext cx="1116000" cy="863280"/>
            <a:chOff x="34920" y="4697280"/>
            <a:chExt cx="1116000" cy="863280"/>
          </a:xfrm>
        </p:grpSpPr>
        <p:pic>
          <p:nvPicPr>
            <p:cNvPr id="20" name="" descr=""/>
            <p:cNvPicPr/>
            <p:nvPr/>
          </p:nvPicPr>
          <p:blipFill>
            <a:blip r:embed="rId14"/>
            <a:stretch/>
          </p:blipFill>
          <p:spPr>
            <a:xfrm>
              <a:off x="34920" y="4870080"/>
              <a:ext cx="525960" cy="58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" descr=""/>
            <p:cNvPicPr/>
            <p:nvPr/>
          </p:nvPicPr>
          <p:blipFill>
            <a:blip r:embed="rId15"/>
            <a:stretch/>
          </p:blipFill>
          <p:spPr>
            <a:xfrm>
              <a:off x="374040" y="4697280"/>
              <a:ext cx="47484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" name="" descr=""/>
            <p:cNvPicPr/>
            <p:nvPr/>
          </p:nvPicPr>
          <p:blipFill>
            <a:blip r:embed="rId16"/>
            <a:srcRect l="3110" t="0" r="7992" b="309"/>
            <a:stretch/>
          </p:blipFill>
          <p:spPr>
            <a:xfrm>
              <a:off x="616680" y="4870080"/>
              <a:ext cx="534240" cy="69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" name=""/>
          <p:cNvGrpSpPr/>
          <p:nvPr/>
        </p:nvGrpSpPr>
        <p:grpSpPr>
          <a:xfrm>
            <a:off x="34920" y="3760920"/>
            <a:ext cx="1116000" cy="863280"/>
            <a:chOff x="34920" y="3760920"/>
            <a:chExt cx="1116000" cy="863280"/>
          </a:xfrm>
        </p:grpSpPr>
        <p:pic>
          <p:nvPicPr>
            <p:cNvPr id="24" name="" descr=""/>
            <p:cNvPicPr/>
            <p:nvPr/>
          </p:nvPicPr>
          <p:blipFill>
            <a:blip r:embed="rId17"/>
            <a:stretch/>
          </p:blipFill>
          <p:spPr>
            <a:xfrm>
              <a:off x="34920" y="3933720"/>
              <a:ext cx="525960" cy="58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" name="" descr=""/>
            <p:cNvPicPr/>
            <p:nvPr/>
          </p:nvPicPr>
          <p:blipFill>
            <a:blip r:embed="rId18"/>
            <a:stretch/>
          </p:blipFill>
          <p:spPr>
            <a:xfrm>
              <a:off x="374040" y="3760920"/>
              <a:ext cx="47484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" name="" descr=""/>
            <p:cNvPicPr/>
            <p:nvPr/>
          </p:nvPicPr>
          <p:blipFill>
            <a:blip r:embed="rId19"/>
            <a:srcRect l="3110" t="0" r="7992" b="309"/>
            <a:stretch/>
          </p:blipFill>
          <p:spPr>
            <a:xfrm>
              <a:off x="616680" y="3933720"/>
              <a:ext cx="534240" cy="69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" name=""/>
          <p:cNvGrpSpPr/>
          <p:nvPr/>
        </p:nvGrpSpPr>
        <p:grpSpPr>
          <a:xfrm>
            <a:off x="34920" y="5560920"/>
            <a:ext cx="1116000" cy="863280"/>
            <a:chOff x="34920" y="5560920"/>
            <a:chExt cx="1116000" cy="863280"/>
          </a:xfrm>
        </p:grpSpPr>
        <p:pic>
          <p:nvPicPr>
            <p:cNvPr id="28" name="" descr=""/>
            <p:cNvPicPr/>
            <p:nvPr/>
          </p:nvPicPr>
          <p:blipFill>
            <a:blip r:embed="rId20"/>
            <a:stretch/>
          </p:blipFill>
          <p:spPr>
            <a:xfrm>
              <a:off x="34920" y="5733720"/>
              <a:ext cx="525960" cy="58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" name="" descr=""/>
            <p:cNvPicPr/>
            <p:nvPr/>
          </p:nvPicPr>
          <p:blipFill>
            <a:blip r:embed="rId21"/>
            <a:stretch/>
          </p:blipFill>
          <p:spPr>
            <a:xfrm>
              <a:off x="374040" y="5560920"/>
              <a:ext cx="47484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" name="" descr=""/>
            <p:cNvPicPr/>
            <p:nvPr/>
          </p:nvPicPr>
          <p:blipFill>
            <a:blip r:embed="rId22"/>
            <a:srcRect l="3110" t="0" r="7992" b="309"/>
            <a:stretch/>
          </p:blipFill>
          <p:spPr>
            <a:xfrm>
              <a:off x="616680" y="5733720"/>
              <a:ext cx="534240" cy="69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" name=""/>
          <p:cNvGrpSpPr/>
          <p:nvPr/>
        </p:nvGrpSpPr>
        <p:grpSpPr>
          <a:xfrm>
            <a:off x="214200" y="6066000"/>
            <a:ext cx="863640" cy="764640"/>
            <a:chOff x="214200" y="6066000"/>
            <a:chExt cx="863640" cy="764640"/>
          </a:xfrm>
        </p:grpSpPr>
        <p:sp>
          <p:nvSpPr>
            <p:cNvPr id="32" name=""/>
            <p:cNvSpPr/>
            <p:nvPr/>
          </p:nvSpPr>
          <p:spPr>
            <a:xfrm>
              <a:off x="214200" y="6678000"/>
              <a:ext cx="86364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563040" y="6308280"/>
              <a:ext cx="471600" cy="334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flipH="1" flipV="1">
              <a:off x="255600" y="6066000"/>
              <a:ext cx="470160" cy="336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65560" y="6319800"/>
              <a:ext cx="471240" cy="334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flipH="1" flipV="1">
              <a:off x="255960" y="6077160"/>
              <a:ext cx="472680" cy="336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7" name=""/>
          <p:cNvSpPr/>
          <p:nvPr/>
        </p:nvSpPr>
        <p:spPr>
          <a:xfrm>
            <a:off x="1222200" y="44280"/>
            <a:ext cx="0" cy="685800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1258920" y="1557360"/>
            <a:ext cx="788508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3"/>
    <p:sldLayoutId id="2147483650" r:id="rId24"/>
    <p:sldLayoutId id="2147483651" r:id="rId25"/>
    <p:sldLayoutId id="2147483652" r:id="rId26"/>
    <p:sldLayoutId id="2147483653" r:id="rId27"/>
    <p:sldLayoutId id="2147483654" r:id="rId28"/>
    <p:sldLayoutId id="2147483655" r:id="rId29"/>
    <p:sldLayoutId id="2147483656" r:id="rId30"/>
    <p:sldLayoutId id="2147483657" r:id="rId31"/>
    <p:sldLayoutId id="2147483658" r:id="rId32"/>
    <p:sldLayoutId id="2147483659" r:id="rId33"/>
    <p:sldLayoutId id="2147483660" r:id="rId3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6E44-9586-4ABD-907C-9763F2819645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0" y="1546200"/>
            <a:ext cx="1753920" cy="1522440"/>
            <a:chOff x="0" y="1546200"/>
            <a:chExt cx="1753920" cy="1522440"/>
          </a:xfrm>
        </p:grpSpPr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0" y="1851120"/>
              <a:ext cx="826920" cy="10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533160" y="1546200"/>
              <a:ext cx="74628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4"/>
            <a:srcRect l="3110" t="0" r="7992" b="309"/>
            <a:stretch/>
          </p:blipFill>
          <p:spPr>
            <a:xfrm>
              <a:off x="914400" y="1851120"/>
              <a:ext cx="839520" cy="121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"/>
          <p:cNvGrpSpPr/>
          <p:nvPr/>
        </p:nvGrpSpPr>
        <p:grpSpPr>
          <a:xfrm>
            <a:off x="0" y="3068640"/>
            <a:ext cx="1753920" cy="1522440"/>
            <a:chOff x="0" y="3068640"/>
            <a:chExt cx="1753920" cy="1522440"/>
          </a:xfrm>
        </p:grpSpPr>
        <p:pic>
          <p:nvPicPr>
            <p:cNvPr id="84" name="" descr=""/>
            <p:cNvPicPr/>
            <p:nvPr/>
          </p:nvPicPr>
          <p:blipFill>
            <a:blip r:embed="rId5"/>
            <a:stretch/>
          </p:blipFill>
          <p:spPr>
            <a:xfrm>
              <a:off x="0" y="3373560"/>
              <a:ext cx="826920" cy="10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6"/>
            <a:stretch/>
          </p:blipFill>
          <p:spPr>
            <a:xfrm>
              <a:off x="533160" y="3068640"/>
              <a:ext cx="74628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7"/>
            <a:srcRect l="3110" t="0" r="7992" b="309"/>
            <a:stretch/>
          </p:blipFill>
          <p:spPr>
            <a:xfrm>
              <a:off x="914400" y="3373560"/>
              <a:ext cx="839520" cy="121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"/>
          <p:cNvGrpSpPr/>
          <p:nvPr/>
        </p:nvGrpSpPr>
        <p:grpSpPr>
          <a:xfrm>
            <a:off x="0" y="0"/>
            <a:ext cx="1753920" cy="1522440"/>
            <a:chOff x="0" y="0"/>
            <a:chExt cx="1753920" cy="1522440"/>
          </a:xfrm>
        </p:grpSpPr>
        <p:pic>
          <p:nvPicPr>
            <p:cNvPr id="88" name="" descr=""/>
            <p:cNvPicPr/>
            <p:nvPr/>
          </p:nvPicPr>
          <p:blipFill>
            <a:blip r:embed="rId8"/>
            <a:stretch/>
          </p:blipFill>
          <p:spPr>
            <a:xfrm>
              <a:off x="0" y="304920"/>
              <a:ext cx="826920" cy="10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9"/>
            <a:stretch/>
          </p:blipFill>
          <p:spPr>
            <a:xfrm>
              <a:off x="533160" y="0"/>
              <a:ext cx="74628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10"/>
            <a:srcRect l="3110" t="0" r="7992" b="309"/>
            <a:stretch/>
          </p:blipFill>
          <p:spPr>
            <a:xfrm>
              <a:off x="914400" y="304920"/>
              <a:ext cx="839520" cy="121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"/>
          <p:cNvSpPr/>
          <p:nvPr/>
        </p:nvSpPr>
        <p:spPr>
          <a:xfrm>
            <a:off x="1835280" y="0"/>
            <a:ext cx="0" cy="685800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68360" y="6165360"/>
            <a:ext cx="865080" cy="692640"/>
            <a:chOff x="468360" y="6165360"/>
            <a:chExt cx="865080" cy="692640"/>
          </a:xfrm>
        </p:grpSpPr>
        <p:sp>
          <p:nvSpPr>
            <p:cNvPr id="93" name=""/>
            <p:cNvSpPr/>
            <p:nvPr/>
          </p:nvSpPr>
          <p:spPr>
            <a:xfrm>
              <a:off x="468360" y="6719760"/>
              <a:ext cx="865080" cy="1382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17560" y="6384960"/>
              <a:ext cx="472320" cy="303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10120" y="6165000"/>
              <a:ext cx="470880" cy="3042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20440" y="6395400"/>
              <a:ext cx="471960" cy="303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510480" y="6175800"/>
              <a:ext cx="473400" cy="3045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4581360"/>
            <a:ext cx="1753920" cy="1522440"/>
            <a:chOff x="0" y="4581360"/>
            <a:chExt cx="1753920" cy="1522440"/>
          </a:xfrm>
        </p:grpSpPr>
        <p:pic>
          <p:nvPicPr>
            <p:cNvPr id="99" name="" descr=""/>
            <p:cNvPicPr/>
            <p:nvPr/>
          </p:nvPicPr>
          <p:blipFill>
            <a:blip r:embed="rId11"/>
            <a:stretch/>
          </p:blipFill>
          <p:spPr>
            <a:xfrm>
              <a:off x="0" y="4886280"/>
              <a:ext cx="826920" cy="10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12"/>
            <a:stretch/>
          </p:blipFill>
          <p:spPr>
            <a:xfrm>
              <a:off x="533160" y="4581360"/>
              <a:ext cx="74628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13"/>
            <a:srcRect l="3110" t="0" r="7992" b="309"/>
            <a:stretch/>
          </p:blipFill>
          <p:spPr>
            <a:xfrm>
              <a:off x="914400" y="4886280"/>
              <a:ext cx="839520" cy="121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"/>
          <p:cNvSpPr/>
          <p:nvPr/>
        </p:nvSpPr>
        <p:spPr>
          <a:xfrm>
            <a:off x="1908000" y="3213000"/>
            <a:ext cx="7236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796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0b5b"/>
                </a:solidFill>
                <a:latin typeface="Tahoma"/>
              </a:rPr>
              <a:t>Introdução à Comput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0574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Software (Parte 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formações Adicion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24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457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415880" y="2041560"/>
            <a:ext cx="746784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oftware Li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s que mantém 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pyr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 ainda assim permi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lnSpc>
                <a:spcPct val="100000"/>
              </a:lnSpc>
              <a:buClr>
                <a:srgbClr val="200b5b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ivre distribuição (cópi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lnSpc>
                <a:spcPct val="100000"/>
              </a:lnSpc>
              <a:buClr>
                <a:srgbClr val="200b5b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acesso ao código-fonte;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lnSpc>
                <a:spcPct val="100000"/>
              </a:lnSpc>
              <a:buClr>
                <a:srgbClr val="200b5b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direito de alterar o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39920" y="549360"/>
            <a:ext cx="7696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- Modalidad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2F534-5BEB-47D5-9B2B-63802A8D99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1407960" y="1752480"/>
          <a:ext cx="7315200" cy="4326120"/>
        </p:xfrm>
        <a:graphic>
          <a:graphicData uri="http://schemas.openxmlformats.org/drawingml/2006/table">
            <a:tbl>
              <a:tblPr/>
              <a:tblGrid>
                <a:gridCol w="2827440"/>
                <a:gridCol w="1279440"/>
                <a:gridCol w="1101960"/>
                <a:gridCol w="1096920"/>
                <a:gridCol w="1009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alidade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rci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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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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rewar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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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ewar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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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twar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ivr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. Público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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1332000" y="61722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.R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Copyright,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.F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Código fonte disponível,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s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programa pode ser distribuído livremente,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Al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= programa pode ser alterado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07960" y="488880"/>
            <a:ext cx="7696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- Modalidad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47206-3859-40EE-8C1D-4DBC321AE6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523520" y="184428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oftware comer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Share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 algn="just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Free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 algn="just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B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 algn="just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5. Demo ou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 algn="just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A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7. Domínio Públ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8. Software Li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428760"/>
            <a:ext cx="769608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– Modalidades (Adicional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8875A-E39F-47AA-B8BB-C422CBA66A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412640" y="173664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oftware comer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são revelados detalhes de funcionamento, não se pode copiá-los para outros usuários e alterações (muito difíceis, dada a forma binária) sã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rminantemente proibid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gramas distribuídos na sua maioria somente na forma binária (executáveis) com direitos específicos (um ou alguns usuários, um ou alguns computadores, CPUs etc.) e quase sempre com um preço associ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13000" y="549360"/>
            <a:ext cx="769608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- Modalidad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92C1C-A7B0-42AB-ADB5-7561674D53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447920" y="1700280"/>
            <a:ext cx="7162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Share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stumam ser distribuídos na forma binária e ter características semelhantes aos comerciais,  mas com uma diferença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odem ser distribuídas cópias para outras pessoas experimentarem o program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e se gostarem registrarem-se com o autor, pagando uma certa tax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512640"/>
            <a:ext cx="769608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- Modalidad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7C675-C407-48EA-9F7E-EC101EAADC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447920" y="191592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Free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os programas gratuitos, exatamente como o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harewar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mas não exigem registro e não têm taxa de  uso.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ão é permitida sua alter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347760"/>
            <a:ext cx="769608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- Modalidad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6A0B5-A84D-438B-80D0-33C098E60D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412640" y="196992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B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ersões ainda em desenvolvimen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Muitas vezes com aspectos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reewar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outras veze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harewar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cede a versão oficial. Ex.: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oftwar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com a versão 0.x ou RC1, RC2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C -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elease Candida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geralmente as últimas versões antes do lançamento oficial.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13000" y="477720"/>
            <a:ext cx="769608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- Modalidad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5F89F-681F-4B7B-9C73-23BC51A7E4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339560" y="1936800"/>
            <a:ext cx="75438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emo ou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 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versões Demo são basicamente relacionadas a jogos. Apenas alguns níve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Trial funciona quase da mesma maneira, se aplica a programas, mas com uma pequena diferença: algumas não salvam nem exportam os trabalhos realiz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39920" y="520560"/>
            <a:ext cx="769608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- Modalidad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D2CAA-A3B1-4748-9F29-BD5F2C8E61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412640" y="1744560"/>
            <a:ext cx="7543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A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programas suportados por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ann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assim com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i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gratuitos enquanto 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ann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stiver rodando no programa, mas há a possibilidade de adquirir um registro e retirar o sistema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ann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-se ter todas as vantagens de ser um usuário cadastrado, assim como acontece com 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harewar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13000" y="404640"/>
            <a:ext cx="769608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- Modalidad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72667-3352-47AD-A3D2-3E6F812950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402920" y="1860120"/>
            <a:ext cx="7543800" cy="42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mínio Públ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autor abre mão dos direitos, perdendo inclusive o direito de cópia - 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pyr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Em todos os casos, o código fonte acompanha o progra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programa pode ser embutido em outro programa e ven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03280" y="520560"/>
            <a:ext cx="7696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- Modalidad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4BA41-8990-4AAC-A0C9-688E29BF58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. fechine</dc:creator>
  <dc:description/>
  <dc:language>en-US</dc:language>
  <cp:lastModifiedBy>USE</cp:lastModifiedBy>
  <dcterms:modified xsi:type="dcterms:W3CDTF">2007-09-24T02:02:11Z</dcterms:modified>
  <cp:revision>375</cp:revision>
  <dc:subject/>
  <dc:title>Introdução à Computação</dc:title>
</cp:coreProperties>
</file>