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B687-9F08-4A73-B9B4-4C10A6EF4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5912-D9C0-45A4-A2B5-9A857443F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171C-2F4D-4B87-9C7C-45C7F444A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B70A-F706-4859-ABAF-438F5E94E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E63B0-F076-4C9D-943C-2CC42311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E7204-4284-4E0F-9D89-37C3DDF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C0E8-8019-4029-AC5F-6A6211AB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B5DE-1B6B-4100-88D0-6780241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39C2C-A1D1-4B2B-AD3B-A4CA2DF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9C7F5-B76F-42C3-B32C-9F64FB37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BB83C-3C3B-427C-B801-46628D8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B41A-7249-41C5-BCDD-A4603C576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0EE90-11AD-4DD3-8F84-E78119D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86598-048E-4E47-B848-0B963210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AB6CE-6CC8-4CC6-8BFB-EC0BA1A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CC973-2905-49CF-BF45-D6CC0206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DE4E0-D1BA-4A12-952C-CB2CAD52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0FBA-B840-4884-ADC9-61CC4E6A8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31D2-87DB-42E2-A897-9FD9763A5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6D21-C60A-4AD6-9237-09ECB8812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603C-FAE1-4C4E-A4DA-F77B304AA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D4B-9AC3-424E-AA6D-C261F6A8D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BBC4-BC23-4FFC-B6B9-DCE930416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5D2F-367D-47B4-BE24-5D5E11327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slideLayout" Target="../slideLayouts/slideLayout2.xml"/><Relationship Id="rId25" Type="http://schemas.openxmlformats.org/officeDocument/2006/relationships/slideLayout" Target="../slideLayouts/slideLayout3.xml"/><Relationship Id="rId26" Type="http://schemas.openxmlformats.org/officeDocument/2006/relationships/slideLayout" Target="../slideLayouts/slideLayout4.xml"/><Relationship Id="rId27" Type="http://schemas.openxmlformats.org/officeDocument/2006/relationships/slideLayout" Target="../slideLayouts/slideLayout5.xml"/><Relationship Id="rId28" Type="http://schemas.openxmlformats.org/officeDocument/2006/relationships/slideLayout" Target="../slideLayouts/slideLayout6.xml"/><Relationship Id="rId29" Type="http://schemas.openxmlformats.org/officeDocument/2006/relationships/slideLayout" Target="../slideLayouts/slideLayout7.xml"/><Relationship Id="rId30" Type="http://schemas.openxmlformats.org/officeDocument/2006/relationships/slideLayout" Target="../slideLayouts/slideLayout8.xml"/><Relationship Id="rId31" Type="http://schemas.openxmlformats.org/officeDocument/2006/relationships/slideLayout" Target="../slideLayouts/slideLayout9.xml"/><Relationship Id="rId32" Type="http://schemas.openxmlformats.org/officeDocument/2006/relationships/slideLayout" Target="../slideLayouts/slideLayout10.xml"/><Relationship Id="rId33" Type="http://schemas.openxmlformats.org/officeDocument/2006/relationships/slideLayout" Target="../slideLayouts/slideLayout11.xml"/><Relationship Id="rId3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2BA-170E-4BE2-B074-236E67144932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4920" y="934920"/>
            <a:ext cx="1116000" cy="863280"/>
            <a:chOff x="34920" y="934920"/>
            <a:chExt cx="1116000" cy="8632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34920" y="1107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374040" y="934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616680" y="1107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34920" y="1871640"/>
            <a:ext cx="1116000" cy="863280"/>
            <a:chOff x="34920" y="1871640"/>
            <a:chExt cx="1116000" cy="8632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34920" y="2044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74040" y="1871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616680" y="2044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34920" y="27000"/>
            <a:ext cx="1116000" cy="863280"/>
            <a:chOff x="34920" y="27000"/>
            <a:chExt cx="1116000" cy="863280"/>
          </a:xfrm>
        </p:grpSpPr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34920" y="19980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374040" y="2700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616680" y="19980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"/>
          <p:cNvGrpSpPr/>
          <p:nvPr/>
        </p:nvGrpSpPr>
        <p:grpSpPr>
          <a:xfrm>
            <a:off x="34920" y="2808360"/>
            <a:ext cx="1116000" cy="863280"/>
            <a:chOff x="34920" y="2808360"/>
            <a:chExt cx="1116000" cy="863280"/>
          </a:xfrm>
        </p:grpSpPr>
        <p:pic>
          <p:nvPicPr>
            <p:cNvPr id="16" name="" descr=""/>
            <p:cNvPicPr/>
            <p:nvPr/>
          </p:nvPicPr>
          <p:blipFill>
            <a:blip r:embed="rId11"/>
            <a:stretch/>
          </p:blipFill>
          <p:spPr>
            <a:xfrm>
              <a:off x="34920" y="298116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2"/>
            <a:stretch/>
          </p:blipFill>
          <p:spPr>
            <a:xfrm>
              <a:off x="374040" y="280836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616680" y="298116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" name=""/>
          <p:cNvGrpSpPr/>
          <p:nvPr/>
        </p:nvGrpSpPr>
        <p:grpSpPr>
          <a:xfrm>
            <a:off x="34920" y="4680000"/>
            <a:ext cx="1116000" cy="863280"/>
            <a:chOff x="34920" y="4680000"/>
            <a:chExt cx="1116000" cy="863280"/>
          </a:xfrm>
        </p:grpSpPr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34920" y="485280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374040" y="468000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6"/>
            <a:srcRect l="3110" t="0" r="7992" b="309"/>
            <a:stretch/>
          </p:blipFill>
          <p:spPr>
            <a:xfrm>
              <a:off x="616680" y="485280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"/>
          <p:cNvGrpSpPr/>
          <p:nvPr/>
        </p:nvGrpSpPr>
        <p:grpSpPr>
          <a:xfrm>
            <a:off x="34920" y="3743280"/>
            <a:ext cx="1116000" cy="863280"/>
            <a:chOff x="34920" y="3743280"/>
            <a:chExt cx="1116000" cy="863280"/>
          </a:xfrm>
        </p:grpSpPr>
        <p:pic>
          <p:nvPicPr>
            <p:cNvPr id="24" name="" descr=""/>
            <p:cNvPicPr/>
            <p:nvPr/>
          </p:nvPicPr>
          <p:blipFill>
            <a:blip r:embed="rId17"/>
            <a:stretch/>
          </p:blipFill>
          <p:spPr>
            <a:xfrm>
              <a:off x="34920" y="3916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" descr=""/>
            <p:cNvPicPr/>
            <p:nvPr/>
          </p:nvPicPr>
          <p:blipFill>
            <a:blip r:embed="rId18"/>
            <a:stretch/>
          </p:blipFill>
          <p:spPr>
            <a:xfrm>
              <a:off x="374040" y="3743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" descr=""/>
            <p:cNvPicPr/>
            <p:nvPr/>
          </p:nvPicPr>
          <p:blipFill>
            <a:blip r:embed="rId19"/>
            <a:srcRect l="3110" t="0" r="7992" b="309"/>
            <a:stretch/>
          </p:blipFill>
          <p:spPr>
            <a:xfrm>
              <a:off x="616680" y="3916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" name=""/>
          <p:cNvGrpSpPr/>
          <p:nvPr/>
        </p:nvGrpSpPr>
        <p:grpSpPr>
          <a:xfrm>
            <a:off x="34920" y="5543640"/>
            <a:ext cx="1116000" cy="863280"/>
            <a:chOff x="34920" y="5543640"/>
            <a:chExt cx="1116000" cy="863280"/>
          </a:xfrm>
        </p:grpSpPr>
        <p:pic>
          <p:nvPicPr>
            <p:cNvPr id="28" name="" descr=""/>
            <p:cNvPicPr/>
            <p:nvPr/>
          </p:nvPicPr>
          <p:blipFill>
            <a:blip r:embed="rId20"/>
            <a:stretch/>
          </p:blipFill>
          <p:spPr>
            <a:xfrm>
              <a:off x="34920" y="5716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" descr=""/>
            <p:cNvPicPr/>
            <p:nvPr/>
          </p:nvPicPr>
          <p:blipFill>
            <a:blip r:embed="rId21"/>
            <a:stretch/>
          </p:blipFill>
          <p:spPr>
            <a:xfrm>
              <a:off x="374040" y="5543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" descr=""/>
            <p:cNvPicPr/>
            <p:nvPr/>
          </p:nvPicPr>
          <p:blipFill>
            <a:blip r:embed="rId22"/>
            <a:srcRect l="3110" t="0" r="7992" b="309"/>
            <a:stretch/>
          </p:blipFill>
          <p:spPr>
            <a:xfrm>
              <a:off x="616680" y="5716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" name=""/>
          <p:cNvGrpSpPr/>
          <p:nvPr/>
        </p:nvGrpSpPr>
        <p:grpSpPr>
          <a:xfrm>
            <a:off x="214200" y="6048360"/>
            <a:ext cx="863640" cy="765000"/>
            <a:chOff x="214200" y="6048360"/>
            <a:chExt cx="863640" cy="765000"/>
          </a:xfrm>
        </p:grpSpPr>
        <p:sp>
          <p:nvSpPr>
            <p:cNvPr id="32" name=""/>
            <p:cNvSpPr/>
            <p:nvPr/>
          </p:nvSpPr>
          <p:spPr>
            <a:xfrm>
              <a:off x="214200" y="666072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3040" y="6290640"/>
              <a:ext cx="47160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255600" y="604836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65560" y="6302520"/>
              <a:ext cx="47124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255960" y="6058800"/>
              <a:ext cx="472680" cy="3366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1222200" y="2700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3"/>
    <p:sldLayoutId id="2147483650" r:id="rId24"/>
    <p:sldLayoutId id="2147483651" r:id="rId25"/>
    <p:sldLayoutId id="2147483652" r:id="rId26"/>
    <p:sldLayoutId id="2147483653" r:id="rId27"/>
    <p:sldLayoutId id="2147483654" r:id="rId28"/>
    <p:sldLayoutId id="2147483655" r:id="rId29"/>
    <p:sldLayoutId id="2147483656" r:id="rId30"/>
    <p:sldLayoutId id="2147483657" r:id="rId31"/>
    <p:sldLayoutId id="2147483658" r:id="rId32"/>
    <p:sldLayoutId id="2147483659" r:id="rId33"/>
    <p:sldLayoutId id="2147483660" r:id="rId3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03A1-7FE2-4FDD-9099-D168BEB71868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1546200"/>
            <a:ext cx="1753920" cy="1522440"/>
            <a:chOff x="0" y="1546200"/>
            <a:chExt cx="1753920" cy="15224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18511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33160" y="154620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914400" y="18511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0" y="3068640"/>
            <a:ext cx="1753920" cy="1522440"/>
            <a:chOff x="0" y="3068640"/>
            <a:chExt cx="1753920" cy="1522440"/>
          </a:xfrm>
        </p:grpSpPr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0" y="337356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533160" y="306864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914400" y="337356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0" y="0"/>
            <a:ext cx="1753920" cy="1522440"/>
            <a:chOff x="0" y="0"/>
            <a:chExt cx="1753920" cy="1522440"/>
          </a:xfrm>
        </p:grpSpPr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0" y="3049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533160" y="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914400" y="3049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6165360"/>
            <a:ext cx="865080" cy="692640"/>
            <a:chOff x="468360" y="6165360"/>
            <a:chExt cx="865080" cy="692640"/>
          </a:xfrm>
        </p:grpSpPr>
        <p:sp>
          <p:nvSpPr>
            <p:cNvPr id="93" name=""/>
            <p:cNvSpPr/>
            <p:nvPr/>
          </p:nvSpPr>
          <p:spPr>
            <a:xfrm>
              <a:off x="468360" y="671976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7560" y="638496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10120" y="616500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440" y="639540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10480" y="617580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4581360"/>
            <a:ext cx="1753920" cy="1522440"/>
            <a:chOff x="0" y="4581360"/>
            <a:chExt cx="1753920" cy="1522440"/>
          </a:xfrm>
        </p:grpSpPr>
        <p:pic>
          <p:nvPicPr>
            <p:cNvPr id="99" name="" descr=""/>
            <p:cNvPicPr/>
            <p:nvPr/>
          </p:nvPicPr>
          <p:blipFill>
            <a:blip r:embed="rId11"/>
            <a:stretch/>
          </p:blipFill>
          <p:spPr>
            <a:xfrm>
              <a:off x="0" y="488628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533160" y="458136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914400" y="488628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Soft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15880" y="173952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atuais avanços em pesquisa e o projeto de novas tecnologias para os computadores possibilitam o surgimento d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inta ger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 Dois avanços que configuram um divisor de águas são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que quebrou o paradigma de von Neumann, e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 dos supercondut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Computação – Ev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9920" y="47628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872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9240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87680" y="5257800"/>
            <a:ext cx="685800" cy="762120"/>
          </a:xfrm>
          <a:prstGeom prst="upDownArrow">
            <a:avLst>
              <a:gd name="adj1" fmla="val 50000"/>
              <a:gd name="adj2" fmla="val 22123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1F8F-D4A5-4333-87EF-391DA9E6D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407600" y="173628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s utilitários são programas que preenchem a lacuna entre a funcionalidade de um sistema operacional e as necessidades dos usu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ra muitos usuários, um computador com um sistema operacional e aplicações apenas básicas é inconveniente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ogramas utilitários introduzem ao sistema operacional funcionalidade que ele não poss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dministram 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necem ao usuário ferramentas para organizar os discos, verificar disponibilidade de memória, corrigir falhas de process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orton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8428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Utilitár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538B-159B-4C58-BDCC-A9C5E45A1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88960" y="188604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comuns de util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desfragmentação de arquivo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peed Disk, Compress, Defra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tários antivírus 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rton, McAfe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ctadores de arquivos ou discos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KZIP, ARJ, Stacker, Double Sp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para gerenciamento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x.:PC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oos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3000" y="54612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Utilitári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9608-E1C6-4EC2-873F-246CC439B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7960" y="217440"/>
            <a:ext cx="74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7118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junto de procedimentos humanos que, baseados no computador, têm por objetivo realizar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licativ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junto de programas de computador desenvolvidos para realizar, em combinação com a atividade humana, tarefas ou processos específicos, relacionados com o processamento de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etuam tarefas que sirvam diretamente ao usuá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critos atravé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guagens de Progra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3433-B5BF-4980-9D4F-783FE0F61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66560" y="1825560"/>
            <a:ext cx="766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acordo com as tarefas que execut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faturamento, contas a pagar, folha de pagamento, controle de estoque, controle da produção, contabilidade e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-Cient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álculo de estruturas, simulação, planejamento e controle de projetos, pesquisa operacional, problemas de engenharia, desenvolvimento de projetos, CAD e outros relacionados com atividades científicas ou de engenh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maçã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processos, telemetria, controle de fabricação, CAM e outros relacionados com atividades industr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71600" y="225360"/>
            <a:ext cx="759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7614-E468-430A-8642-0804B7004E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44240" y="177300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acordo com as tarefas que executam (cont...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mação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 de passagens, contas correntes, pontos de venda e outros relacionados com atividades comer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oio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ência à instrução, ensino auxiliado pelo computador e outras atividades relacionadas ao ens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iais e Cient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processamento, comunicações militares, pesquisas espaciais, previsões meteorológicas e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E27D-05A8-4686-A07A-357E913EEF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26960" y="1812960"/>
            <a:ext cx="749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rangem diversas áreas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 (ou editor) de text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ilha eletrôn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 de apresentaçõ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 de Image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dobe Photosho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ção Eletrôn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mátic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thc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genharia e Arquitetur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AutoCAD, 3D Stud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79600" y="212400"/>
            <a:ext cx="73483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Aplicativo 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Apl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FD3B-C162-478B-963D-A1199534C8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1753920"/>
            <a:ext cx="762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s computadores (década de 1940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is níveis de linguagem de progra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de máqui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no qual toda a programação era feita)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ível da lógica digi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s programas eram efetivamente executad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ício da década de 195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déia de se projetar um computador co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ês níve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simplificar o hardware. Esta máquina tinha um programa denominado interpretador armazenado permanentemente, cuja função era executar os programas em linguagem de máquina. O hardware assim poderia ser simplificado: teria apenas que executar um pequeno conjunto de micro-instruções armazenadas, ao invés de todo o programa em linguagem de máquina, o que exigia menos circuitos eletrônicos. A partir daí começam a evoluir as linguagens e as arquiteturas das máquinas, impulsionadas, principalmente, pelo aparecimento de um novo conceito na História da Computação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 Sistemas Operacion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992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E4A5-83ED-43E7-9EFE-E4C56CD167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7960" y="1825560"/>
            <a:ext cx="7467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und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56 - 1963) - impulsionada pela invenção d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s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48) e em 1956 já se produziam computadores com esta tecnologia. Apareceram também os modernos dispositivos, tais como as impressoras, as fitas magnéticas, os discos para armazenamento, etc. Os computadores passaram a ter um desenvolvimento rápido, impulsionados principalmente por dois fatores essenciai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sistemas operacionais e as linguagens de program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ircuitos integrados propiciaram um novo avanço e com eles surgiram os computador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ceir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64 - 197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ecnologias LSI, VLSI e ULSI abrigam milhões de componentes eletrônicos em um pequeno espaço 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iciand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a ger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8564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Considerações Fina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0205-0BC9-4819-B8F9-CA6184E7DB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</dc:creator>
  <dc:description/>
  <dc:language>en-US</dc:language>
  <cp:lastModifiedBy>USE</cp:lastModifiedBy>
  <dcterms:modified xsi:type="dcterms:W3CDTF">2007-09-24T02:02:49Z</dcterms:modified>
  <cp:revision>377</cp:revision>
  <dc:subject/>
  <dc:title>Introdução à Computação</dc:title>
</cp:coreProperties>
</file>