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5.jpeg" ContentType="image/jpeg"/>
  <Override PartName="/ppt/media/image26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FA556-52BE-45A8-82D1-E3893582C1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CFAE7-0282-4BEA-9D1F-6A60978C51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55260-6D2C-4907-ACF4-6F8FF23B7E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CE5F8-2B25-4DBF-9AF5-A6139BB47A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CC5469-11E0-4A8C-8566-4DC521A50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D27990-9358-4474-BB7F-CE1642675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39100E-5C49-4D26-9A52-8F14A3EA4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AFC647-C73A-449A-83AB-418C6E8A6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71FDF9-DDAD-4204-BFAD-FEE73D994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95F3F4-1569-49CE-8169-D5A17C506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396FB4-CA75-44AF-B391-D9F44A50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745D4-2037-4097-A28F-D7E9C07556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703D7D-9C46-42CD-812E-C13C1D0E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2D7C86-42BD-4AEE-95E5-CDDA2EB6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BC7B2E-EA45-4563-B580-2D4ACD705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CC12D5-49DD-4F8A-A272-00FFBCD53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48E104-A2A0-4CAF-9CAB-595673938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5DB5B-E3DF-424D-A7C6-B99ADF17D3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9BD93-DEC4-459C-892F-B775E99458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381E0-9ED3-45A6-8882-6F3B96E6B6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81189-70F1-48D3-BDDC-F918AB8B18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D23C2-4982-4C54-88DD-17EB494037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E7CA3-22B1-4099-9A9E-4570A69C71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03318-5B1B-4743-B8DA-ED706ABDF1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00000" y="1557360"/>
            <a:ext cx="8244000" cy="0"/>
          </a:xfrm>
          <a:prstGeom prst="line">
            <a:avLst/>
          </a:prstGeom>
          <a:ln cap="sq" w="101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02DAA-C16B-47B7-81F2-BE76F9AB4FC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1773360"/>
            <a:ext cx="1143000" cy="134460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3213000"/>
            <a:ext cx="1143000" cy="13446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44280" y="4724280"/>
            <a:ext cx="1143000" cy="1344600"/>
          </a:xfrm>
          <a:prstGeom prst="rect">
            <a:avLst/>
          </a:prstGeom>
          <a:ln w="0">
            <a:noFill/>
          </a:ln>
        </p:spPr>
      </p:pic>
      <p:grpSp>
        <p:nvGrpSpPr>
          <p:cNvPr id="7" name=""/>
          <p:cNvGrpSpPr/>
          <p:nvPr/>
        </p:nvGrpSpPr>
        <p:grpSpPr>
          <a:xfrm>
            <a:off x="250920" y="6093000"/>
            <a:ext cx="863640" cy="764640"/>
            <a:chOff x="250920" y="6093000"/>
            <a:chExt cx="863640" cy="764640"/>
          </a:xfrm>
        </p:grpSpPr>
        <p:sp>
          <p:nvSpPr>
            <p:cNvPr id="8" name=""/>
            <p:cNvSpPr/>
            <p:nvPr/>
          </p:nvSpPr>
          <p:spPr>
            <a:xfrm>
              <a:off x="250920" y="6705000"/>
              <a:ext cx="863640" cy="1526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00"/>
                  </a:solidFill>
                  <a:latin typeface="Humanst521 BT"/>
                </a:rPr>
                <a:t>DSC/CEEI/UFCG</a:t>
              </a: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99760" y="6335280"/>
              <a:ext cx="471600" cy="334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292320" y="6093000"/>
              <a:ext cx="470160" cy="3362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02280" y="6346800"/>
              <a:ext cx="471240" cy="334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flipV="1">
              <a:off x="292680" y="6104160"/>
              <a:ext cx="472680" cy="3362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13" name="" descr=""/>
          <p:cNvPicPr/>
          <p:nvPr/>
        </p:nvPicPr>
        <p:blipFill>
          <a:blip r:embed="rId5"/>
          <a:stretch/>
        </p:blipFill>
        <p:spPr>
          <a:xfrm>
            <a:off x="44280" y="257040"/>
            <a:ext cx="1143000" cy="1371600"/>
          </a:xfrm>
          <a:prstGeom prst="rect">
            <a:avLst/>
          </a:prstGeom>
          <a:ln w="0">
            <a:noFill/>
          </a:ln>
        </p:spPr>
      </p:pic>
      <p:sp>
        <p:nvSpPr>
          <p:cNvPr id="14" name=""/>
          <p:cNvSpPr/>
          <p:nvPr/>
        </p:nvSpPr>
        <p:spPr>
          <a:xfrm>
            <a:off x="1187280" y="0"/>
            <a:ext cx="0" cy="6858000"/>
          </a:xfrm>
          <a:prstGeom prst="line">
            <a:avLst/>
          </a:prstGeom>
          <a:ln cap="sq" w="2844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43000" y="3213000"/>
            <a:ext cx="8001000" cy="0"/>
          </a:xfrm>
          <a:prstGeom prst="line">
            <a:avLst/>
          </a:prstGeom>
          <a:ln cap="sq" w="101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3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46C70-13C4-4C37-99D9-85D7CDE159EE}" type="slidenum"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1989000"/>
            <a:ext cx="1828800" cy="1981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828800" cy="1981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0" y="4005360"/>
            <a:ext cx="1828800" cy="198108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538200" y="6121080"/>
            <a:ext cx="865080" cy="692640"/>
            <a:chOff x="538200" y="6121080"/>
            <a:chExt cx="865080" cy="692640"/>
          </a:xfrm>
        </p:grpSpPr>
        <p:sp>
          <p:nvSpPr>
            <p:cNvPr id="60" name=""/>
            <p:cNvSpPr/>
            <p:nvPr/>
          </p:nvSpPr>
          <p:spPr>
            <a:xfrm>
              <a:off x="538200" y="6675480"/>
              <a:ext cx="865080" cy="1382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00"/>
                  </a:solidFill>
                  <a:latin typeface="Humanst521 BT"/>
                </a:rPr>
                <a:t>DSC/CEEI/UFCG</a:t>
              </a: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7400" y="6340680"/>
              <a:ext cx="472320" cy="3031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579960" y="6120720"/>
              <a:ext cx="470880" cy="3042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90280" y="6351120"/>
              <a:ext cx="471960" cy="3031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580320" y="6131520"/>
              <a:ext cx="473400" cy="3045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1835280" y="0"/>
            <a:ext cx="0" cy="6858000"/>
          </a:xfrm>
          <a:prstGeom prst="line">
            <a:avLst/>
          </a:prstGeom>
          <a:ln cap="sq" w="2844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png"/><Relationship Id="rId9" Type="http://schemas.openxmlformats.org/officeDocument/2006/relationships/image" Target="../media/image10.jpe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0b5b"/>
                </a:solidFill>
                <a:latin typeface="Tahoma"/>
              </a:rPr>
              <a:t>Introdução à Computa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20574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Hardware (Parte I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24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57200"/>
            <a:ext cx="662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250640" y="1555920"/>
            <a:ext cx="7713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municação s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bits são transferidos um a um, através de um único par condutor. Os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byt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a serem transmitidos são serializados ("desmontados" bit a bit) e individualmente transmitidos. Na outra extremidade, os bits são contados e quando formam 8 bits, são remontados, reconstituindo os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byt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origina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trole mais simples e  implementação mais bara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dequada para dispositivos mais lentos: mouse, teclado ou para transmissão à longa distância: mod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65400" y="4869000"/>
            <a:ext cx="5943600" cy="18716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rdware – Entrada e Sa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427A3-4D0A-4197-A895-A8C39B320BA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294920" y="171252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ta S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orma os bytes em uma seqüência de bits, que são transmitidos em uma única linha de comunicação (saída seria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orma também uma seqüência de bits recebido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 um computador podem existir várias portas do tipo seri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DOS/Windows - COM1, COM2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164360" y="5157720"/>
            <a:ext cx="1028880" cy="13716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371600" y="26496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rdware – Entrada e Sa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F4CD2-09C6-4854-A8A1-9064A39B9BC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260000" y="1708200"/>
            <a:ext cx="6248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orta USB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Universal Serial 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ermite a conexão de vários periféricos a uma única porta US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Plug and Pl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úmero máximo de conexões: 127 ligados seqüencialmente em um único conect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lta velocidade de transmissã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esempenho é, em média, dez vezes superior a uma porta serial comum, podendo também suprir a alimentação requerida pelo periféric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odos os periféricos ali ligados utilizarão uma única interrupção e um único endereç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04000" y="3860640"/>
            <a:ext cx="2057400" cy="833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1336680" y="260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rdware – Entrada e Sa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692B2-F52B-4D0D-B4F7-C8AB23CF6E0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218960" y="179244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étodos para transmissão de caracteres através de uma linha de comunicaçã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Transmissão Síncro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tervalo de tempo entre dois caracteres subseqüentes-fix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Transmissão Assíncro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tervalo de tempo entre os caracteres não é fix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ambém é conhecida como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"start-stop"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5830920"/>
            <a:ext cx="7467480" cy="824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axa de eficiência de uma transmissão de dados: relação de número de bits úteis dividido pelo total de bits transmitidos. Método assíncrono: eficiência é menor que a no método síncrono (necessidade dos bits de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tart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 stop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371600" y="19188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rdware – Entrada e Sa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FB6C0-FC7F-4541-BB7A-113C16BF4D0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255320" y="169344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pos de transmissão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1407960" y="24588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rdware – Entrada e Sa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736640" y="2475000"/>
            <a:ext cx="6529320" cy="3978360"/>
            <a:chOff x="1736640" y="2475000"/>
            <a:chExt cx="6529320" cy="3978360"/>
          </a:xfrm>
        </p:grpSpPr>
        <p:graphicFrame>
          <p:nvGraphicFramePr>
            <p:cNvPr id="154" name=""/>
            <p:cNvGraphicFramePr/>
            <p:nvPr/>
          </p:nvGraphicFramePr>
          <p:xfrm>
            <a:off x="1736640" y="2475000"/>
            <a:ext cx="6529320" cy="1063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36640" y="2475000"/>
                      <a:ext cx="6529320" cy="106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6" name=""/>
            <p:cNvSpPr/>
            <p:nvPr/>
          </p:nvSpPr>
          <p:spPr>
            <a:xfrm>
              <a:off x="3726000" y="2478240"/>
              <a:ext cx="247644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ransmissão simplex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aphicFrame>
          <p:nvGraphicFramePr>
            <p:cNvPr id="157" name=""/>
            <p:cNvGraphicFramePr/>
            <p:nvPr/>
          </p:nvGraphicFramePr>
          <p:xfrm>
            <a:off x="1736640" y="3846600"/>
            <a:ext cx="6529320" cy="1101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736640" y="3846600"/>
                      <a:ext cx="6529320" cy="110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9" name=""/>
            <p:cNvSpPr/>
            <p:nvPr/>
          </p:nvSpPr>
          <p:spPr>
            <a:xfrm>
              <a:off x="3763800" y="3868920"/>
              <a:ext cx="24768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Transmissão half-duplex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aphicFrame>
          <p:nvGraphicFramePr>
            <p:cNvPr id="160" name=""/>
            <p:cNvGraphicFramePr/>
            <p:nvPr/>
          </p:nvGraphicFramePr>
          <p:xfrm>
            <a:off x="1736640" y="5370840"/>
            <a:ext cx="6529320" cy="1082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6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736640" y="5370840"/>
                      <a:ext cx="6529320" cy="108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2" name=""/>
            <p:cNvSpPr/>
            <p:nvPr/>
          </p:nvSpPr>
          <p:spPr>
            <a:xfrm>
              <a:off x="3763800" y="5373720"/>
              <a:ext cx="24768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Transmissão full-duplex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9A4BA-CD9B-486E-ADEF-F4BF4558B6E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258920" y="1916280"/>
            <a:ext cx="5113440" cy="43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laca-mãe ou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Mother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laca interna que faz a conexão de compon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ssui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slot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e expansão onde são encaixadas placas de controle de dispositivos, tipo placa de vídeo, de som, modem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326280" y="2494080"/>
            <a:ext cx="2638440" cy="3456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407960" y="26820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8C439-38F4-4EEC-BC5B-1DB959B6955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331640" y="1699920"/>
            <a:ext cx="7543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laca-mãe ou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Mother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140796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627280" y="2349360"/>
            <a:ext cx="5111640" cy="39038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346040" y="6392880"/>
            <a:ext cx="4780080" cy="3373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nte: http://www.infowester.com/motherboard.php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D9138-4D88-4C97-B4E2-DFE8B2B8442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329840" y="1700280"/>
            <a:ext cx="770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laca-mãe ou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Mother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tem 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– local onde o processador deve ser conectado (socke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tem B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- encaixes para a memória Principal. Esse conector varia conforme o tipo (Padrão mais usado atualmente - DDR 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Double Data Rat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, que também recebe a denominação de SDRAM II (termo pouco usado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tem C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- Slots de expansão (permitem a conexão de vários tipos de dispositivos. Placas de vídeo, placas de som, placas de redes, modems, etc, são conectados nesses encaixe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tem C1: PCI (Peripheral Component Interconnec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tem C2: AGP (Accelerated Graphics Po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tem C3: CNR (Communications Network Ris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 o PCI Express (PCI-E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placas-mãe mais antigas apresentavam ainda o slot ISA (Industry Standard Architectur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407960" y="26820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3C3BF-2110-432A-9E11-A08DCBB06B7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329840" y="1628280"/>
            <a:ext cx="770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laca-mãe ou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Mother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tem D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- Plug de alimentação (Existem, atualmente, dois padrões para isso: o ATX e o AT, este último saiu de linha, mas ainda é utilizado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placa-mãe sozinha consegue alimentar o processador, as memórias e a grande maioria dos dispositivos encaixados nos slots. No entanto, HD, unidades de CD e DVD, drive de disquete e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cooler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vem receber conectores individuais de energ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tem 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- Conectores IDE e drive de disquete. Existe também, um tipo de HD que não segue o padrão IDE, mas sim o SATA (Serial AT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tem F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- BIOS e bater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tem F2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- aponta para o chip Flash-ROM e o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tem F1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para a bateria que o aliment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través de uma interface denominada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Setup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também presente na Flash-ROM, é possível alterar configurações de hardware, como velocidade do processador, detecção de discos rígidos, desativação de portas USB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1407960" y="26820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FC29C-4D46-4AD6-8E7E-860EC55AF8B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329840" y="1647360"/>
            <a:ext cx="770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laca-mãe ou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Mother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tem G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- aponta para a parte onde ficam localizadas as entradas para a conexão do mouse (tanto serial, quanto PS/2), teclado, portas USB, porta paralela, além de outros que são disponibilizados conforme o modelo da placa-mã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tem H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- Furos de encaix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tem I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Chipset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- responsável pelo controle de vários itens da placa-mãe, como acesso à memória, barramentos e outr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nte Sul (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South Bridg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 –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ntrole de dispositivos de entrada e saída, como as interfaces IDE ou SATA. Placas-mãe que possuem som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onboard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, podem incluir o controle desse dispositivo também na Ponte Su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nte Norte (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North Bridg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 -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ntrole do FSB (Front Side Bus - velocidade na qual o processador se comunica com a memória e com componentes da placa-mãe), da freqüência de operação da memória, do barramento AGP, et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ste chip realiza um trabalho "mais pesado" e, por isso, geralmente requer um dissipador de calor para não esquentar muit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407960" y="26820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A7354-0C14-43A9-A6A5-38CD2CE2936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rdware – Entrada e Sa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600" y="163620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usuário se comunica com o núcleo do computador (composto por UCP e memória principal) através de dispositivos de entrada e saída (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ispositivos de E/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I/O devices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ambém denominados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eriféric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unções básicas dos dispositivos de E/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comunicação do usuário com o computador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comunicação do computador com o meio ambiente (dispositivos externos a serem monitorados ou controlados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rmazenamento (gravação) de dad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371600" y="62848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mitem a comunicação homem-máquin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03688-6F65-447E-BDDB-897FE80B9B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258560" y="1915920"/>
            <a:ext cx="77058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laca-mãe ou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Mother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lacas-mãe "onboard"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placas-mãe que possuem um ou mais dispositivos de expansão integrad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laca-mãe "offboard"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com nenhum item integrado, ou no máximo, com placa de som ou rede onbo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1407960" y="26820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957E5-57B8-4510-B958-19737246BF2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403280" y="1916280"/>
            <a:ext cx="7129440" cy="43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s de Conectores de um Comput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ectores seri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ector parale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ectores de áu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ector do mouse tipo PS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ector do teclado tipo PS/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ectores US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1407960" y="26820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416600" y="6237360"/>
            <a:ext cx="7032600" cy="3373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nte: http://support.dell.com/support/edocs/systems/ws340/bp/ug/back.htm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A2038-EA82-4F05-89A7-B17FC95278A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258920" y="1699920"/>
            <a:ext cx="7129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s de Conectores de um Comput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-&gt; slot da placa AG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-&gt; slots da placa de expansão PCI (4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-&gt; conectores do painel traseiro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-&gt; interruptor de tensão de 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-&gt; adaptador de 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1407960" y="26820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14244" t="3105" r="18790" b="0"/>
          <a:stretch/>
        </p:blipFill>
        <p:spPr>
          <a:xfrm>
            <a:off x="5796000" y="2276640"/>
            <a:ext cx="2789280" cy="450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00304-020E-4795-BDCD-71BBF168465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258920" y="1699920"/>
            <a:ext cx="763416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s de Conectores de um Comput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-&gt; conector parale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-&gt; m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-&gt; luz de integridade da conexã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-&gt; adaptador de re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-&gt; luz de atividade do víncu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-&gt; en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 -&gt; saída 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-&gt; microf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 -&gt; USB (2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-&gt; tecl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 -&gt; luzes de diagnósti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 -&gt; conector serial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 -&gt; conector serial 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1407960" y="26820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rcRect l="0" t="13981" r="9934" b="10869"/>
          <a:stretch/>
        </p:blipFill>
        <p:spPr>
          <a:xfrm>
            <a:off x="3995640" y="4510080"/>
            <a:ext cx="4464000" cy="223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D33BA-E1EB-447C-B93C-B3CB9B11DDD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35240" y="18072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268360" y="1700280"/>
            <a:ext cx="5715000" cy="4103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89" name=""/>
          <p:cNvSpPr/>
          <p:nvPr/>
        </p:nvSpPr>
        <p:spPr>
          <a:xfrm>
            <a:off x="1258920" y="6048360"/>
            <a:ext cx="78487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Hardware - componentes: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gabinete, placa mãe, processador, memórias, placa de vídeo, placa de som, CD-ROM, cabos, ..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DD7C8-75BF-4D03-8DD2-ABCE33555B0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295280" y="171288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ipos de Disposi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Dispositivos de ENTR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Funçõ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coletar informações e introduzir as informações na máquina, converter informações do homem para a máquina  e recuperar informações dos dispositivos de armazenam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: teclado,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mous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scanne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leitoras óticas, leitoras de cartões magnéticos, câmeras de vídeo, microfones, sensores, transdutores, etc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Dispositivos de SAÍ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Funçõ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exibir ou imprimir os resultados do processamento, ou ainda controlar dispositivos extern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: impressoras, monitores de vídeo,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plotter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atuadores, chaves, etc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rdware – Entrada e Sa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025CE-A3AC-4492-8FDF-54310413989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1447920" y="2209680"/>
            <a:ext cx="7086600" cy="4267080"/>
            <a:chOff x="1447920" y="2209680"/>
            <a:chExt cx="7086600" cy="4267080"/>
          </a:xfrm>
        </p:grpSpPr>
        <p:sp>
          <p:nvSpPr>
            <p:cNvPr id="112" name=""/>
            <p:cNvSpPr/>
            <p:nvPr/>
          </p:nvSpPr>
          <p:spPr>
            <a:xfrm>
              <a:off x="1447920" y="2209680"/>
              <a:ext cx="7086600" cy="42670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113" name="" descr=""/>
            <p:cNvPicPr/>
            <p:nvPr/>
          </p:nvPicPr>
          <p:blipFill>
            <a:blip r:embed="rId1"/>
            <a:stretch/>
          </p:blipFill>
          <p:spPr>
            <a:xfrm>
              <a:off x="6705720" y="2666880"/>
              <a:ext cx="1409760" cy="140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2"/>
            <a:stretch/>
          </p:blipFill>
          <p:spPr>
            <a:xfrm>
              <a:off x="1905120" y="4419360"/>
              <a:ext cx="129528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3"/>
            <a:stretch/>
          </p:blipFill>
          <p:spPr>
            <a:xfrm>
              <a:off x="1905120" y="3124080"/>
              <a:ext cx="144756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4"/>
            <a:stretch/>
          </p:blipFill>
          <p:spPr>
            <a:xfrm>
              <a:off x="2743200" y="236196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5"/>
            <a:stretch/>
          </p:blipFill>
          <p:spPr>
            <a:xfrm>
              <a:off x="3429000" y="3581280"/>
              <a:ext cx="990720" cy="9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6"/>
            <a:stretch/>
          </p:blipFill>
          <p:spPr>
            <a:xfrm>
              <a:off x="5257800" y="3733560"/>
              <a:ext cx="121932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7"/>
            <a:stretch/>
          </p:blipFill>
          <p:spPr>
            <a:xfrm>
              <a:off x="6629400" y="4800600"/>
              <a:ext cx="1447920" cy="144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8"/>
            <a:stretch/>
          </p:blipFill>
          <p:spPr>
            <a:xfrm>
              <a:off x="3429000" y="4952880"/>
              <a:ext cx="825480" cy="99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"/>
          <p:cNvSpPr/>
          <p:nvPr/>
        </p:nvSpPr>
        <p:spPr>
          <a:xfrm>
            <a:off x="1447920" y="160020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mplos de Dispositivos de Entrada e Saíd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260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rdware – Entrada e Sa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9"/>
          <a:stretch/>
        </p:blipFill>
        <p:spPr>
          <a:xfrm>
            <a:off x="4419720" y="2438280"/>
            <a:ext cx="750600" cy="1143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0"/>
          <a:stretch/>
        </p:blipFill>
        <p:spPr>
          <a:xfrm>
            <a:off x="4648320" y="5257800"/>
            <a:ext cx="1630080" cy="1084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388C6-8868-43B0-B1E8-3873D01F8F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250640" y="18288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UCP não se comunica diretamente com cada dispositivo de E/S e sim com "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terfa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, de forma a compatibilizar as diferentes característic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processo de comunicação ("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ocol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) é feito através de transferência de informações de controle, endereços e dados propriamente dit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165400" y="4572000"/>
            <a:ext cx="5638680" cy="2097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147960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rdware – Entrada e Sa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E5B0F-0AFE-4C48-A301-15364F4E72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255320" y="167004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nterfaces de entrada e saí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Função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: compatibilizar as diferentes características de um periférico e da UCP/MP, permitindo um fluxo correto de dados em uma velocidade adequada a ambos os elementos que estão sendo interconectad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nhecidas por diversos nomes, dependendo do fabricante: Interface de E/S = Adaptador de Periférico, Controladora de E/S, Processador de Periférico, Canal de E/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ompatibilização de velocidade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- feita geralmente por programa, usando memórias (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buffers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“)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que armazenam as informações conforme vão chegando da UCP e as libera para o dispositivo à medida que este as pode receb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1407960" y="22212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rdware – Entrada e Sa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276FA-F97B-4492-B370-AFBC99493C0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371600" y="21013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uma forma geral, a comunicação entre o núcleo do computador e os dispositivos de E/S poderia ser classificada em dois grup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cação paral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cação s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1371600" y="196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rdware – Entrada e Sa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A7849-C119-4330-8CDB-F0C6009658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258560" y="159660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municação paral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rupos de bits são transferidos simultaneamente (em geral, byte a byte) através de diversas linhas condutoras dos sina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taxa de transferência de dados ("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throughput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") é al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blema: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skew.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ve ser usada para curtas distânc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dequada para dispositivos mais rápidos ou próximos do núcleo do computador: unidades de disco, CD-ROM, DVD, impressora, scann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438280" y="4745160"/>
            <a:ext cx="5562720" cy="19969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371600" y="260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rdware – Entrada e Sa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7E1C8-3BDE-4AF7-B77A-63E272C4492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294920" y="1636560"/>
            <a:ext cx="7620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ta Parale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orta paralela é um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 comunicação entre o computador e um periférico. Ex: Impressora, Scanner, Câmeras de ví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mbém pode-se conectar dois computadores através da porta parale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 um computador podem existir várias portas do tipo paralel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S/Windows - LPT1, LPT2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659640" y="5084640"/>
            <a:ext cx="1863720" cy="14814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657600" y="5675400"/>
            <a:ext cx="2492280" cy="87948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rdware – Entrada e Sa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9DA02-386D-461A-9115-FE244166AB2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</dc:creator>
  <dc:description/>
  <dc:language>en-US</dc:language>
  <cp:lastModifiedBy>USE</cp:lastModifiedBy>
  <dcterms:modified xsi:type="dcterms:W3CDTF">2007-09-20T03:20:21Z</dcterms:modified>
  <cp:revision>277</cp:revision>
  <dc:subject/>
  <dc:title>Slide sem título </dc:title>
</cp:coreProperties>
</file>