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5E0C-7556-4E71-961B-CD5C4362C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CE3F-615D-4262-BA8C-70B48EA8F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3174-46A5-4EA6-922C-1D3A1DBD9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7CEC-45FB-47CE-A1A7-D9A3377B9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7072D-01B1-4799-92A3-20FFC827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BBA5-2B54-49B6-BAA8-FBD2DF0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8E99C-4165-46B4-95FE-3BE022CB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5E6DC-BC43-4531-96E3-55DE22C4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4538F-B083-46B2-AAE6-80A8F61B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570AF-8DB8-41E2-8CA8-6D0E599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F242-0A2B-4671-B190-28B4486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50A1-E765-4B14-8188-436E04B7A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1CF4-C2F6-4F36-9E2C-26973B5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262E-896C-4A32-8FB7-72706DD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A2C7-D237-4A09-9533-2C2912D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2A5F-B171-4C0B-802C-7DFE8D6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E46E2-E72A-4239-8B60-8B2EB57D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82C4-B913-4D72-BA2B-8918E0D41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4A30-BB27-4320-A3C6-499156D82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BD82-39DD-4541-B81A-49AF48DD5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E745-83F8-4D81-BB42-4918408A6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6C3B-E658-4720-8017-C8CE2A710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83A9-78ED-4EA3-993C-BB31F7871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8DA8-05B0-41AA-9C9B-A86F561E2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9A9-F8B6-4D40-8EBE-35A7020110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1E50-80D8-4E00-9DB7-35083100D091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484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95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3040" y="191628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R/W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de leitura e escrita, de acesso aleatório e voláti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âm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o de circuitos transistorizados (mantém a informação enquanto estiver energizada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o de capacitores, necessit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Evolução: FPM DRAM, EDO DRAM, BEDO DRAM, SDRAM, RD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1CFD-70A3-4622-A304-41E834B675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. Uma vez gravada não pode mais ser alterada.  De acesso aleatório, não é voláti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lenta que a R/W e mais  bar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programada por máscara ("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sk programm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- MROM) em fábrica. Devido ao alto custo da máscara somente se torna econômica em grandes quantidad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5734080"/>
            <a:ext cx="7391520" cy="1066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ROM-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irmwar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ra gravado durante a fabricação do circuito, com o auxílio de um filme fotográfico - máscara. As máscaras apresentam o inconveniente de serem caras e não permitem regravaçã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3F81-F188-41C0-8D52-847F6C1303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1600" y="1872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 geralmente para gravar programas que não se deseja permitir que o usuário possa alterar ou apagar (Ex..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sic Input Output Syst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programas de Memórias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s tip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M, EPROM,  EEPROM e Flas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5661000"/>
            <a:ext cx="69850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strap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oade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ste termo vem de uma analogia com um processo (impossível) que seria uma pessoa se levantar puxando-se pelos cordões de suas próprias bota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3840" y="2728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C0F5-A256-4868-A90C-3C394AE98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M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grammable Read Only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programável com máquinas adequadas (chamadas queimadores de PROM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lmente é comprada "virgem" (sem nada gravado), sendo muito utilizada no processo de testar programas no lugar da ROM, ou sempre que se queira produzir ROM em quantidades peque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ez programada (em fábrica ou não), não pode mais ser alter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2C1E-D13A-4BA3-BD6D-AC8FD2D5F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2076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ROM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rasable Programma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 (com queimadores de PROM) e apagável (com máquinas adequadas, à base de raios ultra-violeta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utilização semelhante à da PROM, para testar programas no lugar da ROM, ou sempre que se queira produzir ROM em quantidades pequenas, com a vantagem de poder ser apagada e reutilizad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3480" y="1913040"/>
            <a:ext cx="1828800" cy="165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B03D-BEDB-4641-9105-1FB0F77C47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EPROM (ou E2PROM)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lectrically Erasable Programmable Read Only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 e eletronicamente alterável.  Também chamada EA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ectrically Alter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OM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ROM apagável - processo eletrônico, sob controle da UCP (equipamento e programas adequados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a, geralmente utilizada em dispositivos aos quais se deseja permitir a alteração, via modem (carga de novas versões de programas à distância ou possibilitar a reprogramação dinâmica de funções específicas de um programa, geralmente relativas a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.ex., reconfiguração de teclado, programação de terminal, etc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281F-E8B8-4F9F-B34A-09D525AD2F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57480" y="1700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mento similar ao da EEPROM – conteúdo total ou parcial da memória pode ser apagado normalmente por um processo de escri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pagamento não pode ser efetuado ao nível de byte como na EEPRO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flash foi imaginado devido à elevada velocidade de apagamento dessas memórias em comparação com as antigas EPROM e EEPRO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al para várias aplicações portát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âmeras digitais, palmtop, assistentes digitais portáteis, aparelhos de música digital ou telefones celulares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31640" y="25236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1D7C-4BD4-4366-BD57-84D0C30BDD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28400" y="195696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MOS - (Complementary Metal Oxide Semiconduct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especial de memória para armazenamento das opções essenciais de configuração d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i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dade de memória instalada, data, ho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mentação via bate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s Macintos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M de parâmetr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5449-D1D0-4FE9-A413-51DABA298C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2000" y="1612800"/>
            <a:ext cx="777240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mei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dos de modo a armazenar informações sob a forma de campos magné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do à natureza eletromecânica de seus componentes e à tecnologia de construção em comparação com memórias de semicondutores, esse tipo é mais barato, permitindo armazenamento de grande quantidade de infor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acesso às informações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üenc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quetes, discos rígidos e fitas magnéticas (de carretel ou de cartuch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181C-2C13-48B9-AFF7-68189CA3B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3040" y="1989000"/>
            <a:ext cx="72392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meio óp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que utilizam um feixe de luz para “marcar” o valor (0 ou 1) de cada dado em sua superfíci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-ROM (leitur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-RW (leitura e escri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9178-4A0D-44F3-ACB4-16D98664A4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ierarquia de Memória - Conceitos Importa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atil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4920" y="260280"/>
            <a:ext cx="75978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DD3E-B653-4B04-9EF8-1E85003EC7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03280" y="1773360"/>
            <a:ext cx="716292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o conceito de tempo de permanência da informação em um dado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ificaçã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ma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: Discos, disque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itó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mporário)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: registradores, memória cache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496A-0783-4EB8-9424-5DE198680D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76360" y="1700280"/>
            <a:ext cx="71629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tante variado em função de diversos fato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ia de fabr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dade de bits em um certo espaço físico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boa unidade de medida de custo é o preço por byte armazenado, em vez do custo total da memória em s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67AC-2E7C-40B4-B938-48CA75EC7B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240" y="191628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quanto tempo a memória gasta para colocar uma informação no barramento de dados após uma determinada posição ter sido endereçad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dos parâmetros que pode medir o desempenho da memóri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omin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empo de acesso para leitura (ou tempo de leitura).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594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FC49-BFC0-4DB1-ACEB-503684536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1628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e do modo como o sistema de memória é construído e da velocidade dos seus circuito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s eletrôn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igual, independentemente da distância física entre o local de um acesso e o local do próximo acess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aleatório (dire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vos eletromecân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s, fitas, 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tempo de acesso varia conforme a distância física entre dois acessos consecutivo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seqüenc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D076-4BAB-41AA-A99D-474DF44B0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dade de informação que pode ser armazenada em uma memória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de medida mais com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y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odem ser usadas outras unidades como células (no caso de memória principal ou cache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tor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o caso de discos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no caso de registradore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endo do tamanho da memória, isto é, de sua capacidade, indica-se o valor numérico total de elementos de forma simplificada, através da inclus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kilo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ega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giga) o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ra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0E3A-57CE-463D-A5E8-E12D1B209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1480" y="18860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atil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s podem ser do tip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át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não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tém a informação armazenada quando a energia elétrica é desligada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cos, Fit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rde a informação armazenada na ausência de energia elétric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gistradores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possível manter a energia em  uma memória originalmente não volátil - uso de bateri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94EB-71DD-4606-899C-70CB31714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3040" y="1916280"/>
            <a:ext cx="73152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nologias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meio magné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meio óp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315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654F-BD4E-49CF-A9E8-58BD1B1950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5280" y="1646280"/>
            <a:ext cx="73152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semicondut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fabricados com circuitos eletrônicos e baseados em semicondut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ápidas e relativamente caras, se comparadas com outros tip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várias tecnologias específicas, cada uma com suas vantagens, desvantagens, velocidade, custo, etc.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gistradores, Memória Principal e Memória Cach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61B7-A2E8-4535-A42C-981612DE58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1747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Memórias Semiconduto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72680" y="2205000"/>
            <a:ext cx="7292520" cy="4591800"/>
            <a:chOff x="1372680" y="2205000"/>
            <a:chExt cx="7292520" cy="4591800"/>
          </a:xfrm>
        </p:grpSpPr>
        <p:sp>
          <p:nvSpPr>
            <p:cNvPr id="122" name=""/>
            <p:cNvSpPr/>
            <p:nvPr/>
          </p:nvSpPr>
          <p:spPr>
            <a:xfrm>
              <a:off x="1372680" y="449100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6040" y="2966760"/>
              <a:ext cx="27212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/E - Leitura/Escr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R/W - Read/Write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M (Somente Leitura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Read Only Memory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7520" y="2509560"/>
              <a:ext cx="865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1040" y="2966760"/>
              <a:ext cx="1424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PM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O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DO 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2760" y="5176800"/>
              <a:ext cx="117144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2585880"/>
              <a:ext cx="228600" cy="4114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2205000"/>
              <a:ext cx="228600" cy="2286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28908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6400" y="5024160"/>
              <a:ext cx="228600" cy="1752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134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9687-25B6-4F93-83A5-7739794C97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7-09-20T01:59:48Z</dcterms:modified>
  <cp:revision>224</cp:revision>
  <dc:subject/>
  <dc:title>Slide sem título </dc:title>
</cp:coreProperties>
</file>