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7E81-C100-4324-8AAE-ADA4950A4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3324-8EB4-4805-A8FC-46350ECAC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5AB-505A-47D0-9AAB-4399CA2F9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06008-5608-4CC7-8B5C-E5B0A59C0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C5699-7008-4F85-BB6F-94E6ABAD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15B79-5E01-4EAB-9EC8-70DE9444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F22C-D29B-4C01-B052-3C38D99B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A7AF1-578C-4C6E-B60B-9D3DD662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F4ADE-A8A0-4F46-A632-1D561F1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71F4F-87B8-4AC7-B49D-97D5EF73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38947-733A-4C60-AE2D-C57DD5AD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C1C-FE8F-40E3-B8EE-D5F5F22D0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79826-4133-4A49-A94C-2E4DEA2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010D6-17E6-4ADB-BA8A-53A1C4B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93DEE-42C3-43BD-8571-7B9A43F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45DF2-3D75-436A-AE51-AEB60046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A11BE-E7B5-4E9A-88F5-FF9CE18A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2CF5-2D12-4F96-A5F3-FE85C4D78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8DD9-AAF8-4602-836B-65B6BA8B9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072B-A1AE-4632-98F0-62E9384D5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9E464-A6C9-44E6-9A4A-C11026469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56F1-3F4D-4660-8829-BF0335B18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2795-46C2-4887-ABD8-244CEC823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6879-A6DC-4A4E-A2ED-51C14A5F0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BF6B-DCCD-40F0-9CFC-B52728C9B882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8008-EAA6-4A29-A166-6D535DEF5FF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773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enor tempo de acesso, baixa capacidade (Ex.: 32 bits, 64 bits), dispositivos voláteis, memória de semicondutores, armazenamento temporário e apresenta o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332000" y="5373720"/>
            <a:ext cx="7489800" cy="977760"/>
            <a:chOff x="1332000" y="5373720"/>
            <a:chExt cx="7489800" cy="977760"/>
          </a:xfrm>
        </p:grpSpPr>
        <p:sp>
          <p:nvSpPr>
            <p:cNvPr id="800" name=""/>
            <p:cNvSpPr/>
            <p:nvPr/>
          </p:nvSpPr>
          <p:spPr>
            <a:xfrm>
              <a:off x="1332000" y="5884920"/>
              <a:ext cx="7489800" cy="4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334880" y="5373720"/>
              <a:ext cx="7471440" cy="499320"/>
              <a:chOff x="1334880" y="5373720"/>
              <a:chExt cx="7471440" cy="499320"/>
            </a:xfrm>
          </p:grpSpPr>
          <p:pic>
            <p:nvPicPr>
              <p:cNvPr id="802" name="" descr=""/>
              <p:cNvPicPr/>
              <p:nvPr/>
            </p:nvPicPr>
            <p:blipFill>
              <a:blip r:embed="rId1"/>
              <a:srcRect l="0" t="0" r="14994" b="89649"/>
              <a:stretch/>
            </p:blipFill>
            <p:spPr>
              <a:xfrm>
                <a:off x="4863960" y="5373720"/>
                <a:ext cx="3942360" cy="4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2"/>
              <a:srcRect l="6467" t="281" r="53869" b="89649"/>
              <a:stretch/>
            </p:blipFill>
            <p:spPr>
              <a:xfrm>
                <a:off x="3395520" y="5373720"/>
                <a:ext cx="1839600" cy="49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3"/>
              <a:srcRect l="0" t="245" r="53869" b="89649"/>
              <a:stretch/>
            </p:blipFill>
            <p:spPr>
              <a:xfrm>
                <a:off x="1334880" y="5377320"/>
                <a:ext cx="2139840" cy="4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5" name=""/>
            <p:cNvSpPr/>
            <p:nvPr/>
          </p:nvSpPr>
          <p:spPr>
            <a:xfrm>
              <a:off x="1673640" y="6193800"/>
              <a:ext cx="3096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62720" y="607500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67160" y="6197760"/>
              <a:ext cx="347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92160" y="6001200"/>
              <a:ext cx="147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1720" y="5888880"/>
              <a:ext cx="72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07040" y="6005160"/>
              <a:ext cx="1516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56F4-C707-4CB4-B0B2-C57E31F8E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352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quitetura Pentium: Exemplos de Registrador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995640" y="981000"/>
            <a:ext cx="4934160" cy="573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32BC-E1F8-4C01-9D4A-531C856A94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58920" y="2203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36680" y="1897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1 a 5 ns (hipotétic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ixa - 8 a 64 bit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de semicondu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13000" y="6218280"/>
            <a:ext cx="755172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r 1 a 5 ns neste instante pode significar um valor já desatualiz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E486-9FEC-4929-825C-66BE37CD54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95280" y="29340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371240" y="1740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de Sistemas de Computação - gargalo de congestionamento na comunicação CPU/M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ção: desenvolvimento de uma técnica que consiste na inclusão de um dispositivo de memória entre CPU e MP - memória CACH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unção - acelerar a velocidade de transferência das informações entre CPU e MP, aumentando o desempenho dos sistem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da para armazenamento de instruções e dados mais freqüentemente acessados do programa em execu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AC9D-204F-4660-8CB7-E569F7B049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95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31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da com tecnologia semelhante à da CPU (possui tempos de acesso compatíveis, resultando numa considerável redução da espera da CPU para receber dados e instruções da cache, ao contrário do que acontece em sistemas sem cach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há diversos tipos de memória cache, utilizados em sistemas de computação moderno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para a Memória Principal (RAM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che para Dis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4503-0CDA-43CD-985A-C0993B40B4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58920" y="298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3352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inseridas em dois (ou três) níveis: Cache L1 (Level 1) - nível 1), Cache L2 e Cache L3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rimária) - interna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xterna ou secundária) -  instalada, em geral, na placa-mãe do computador. Atualmente:localizada no interior da pastilha do processador, separada dest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ck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s próxima do processador, melhor será o desempenho do mesm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xistente em poucos processadores, localizada externamente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09D6-3E10-4047-B92D-7A36C909F6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03280" y="22212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51000" y="166968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 5 a 7 ns (hipotético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eve-se conciliar o compromisso de uma capacidade apreciável com a não-elevação demasiada do preço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KB e 512 KB (cache L1) e 2 MB (cache L2)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eletrônicos de alta velocidade. Em geral, são memórias RAM estáticas 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o custo de fabricação das memórias cache é alto. Memórias cache internas à CPU ainda são mais  caras do que as externas.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7451-3903-486C-9190-4178141B96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ória básica de um sistema de computação desde seus primórdi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dispositivo no qual o programa (e seus dados) que vai ser executado é armazenado para que a CPU vá "buscando" instrução por instrução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03280" y="4869000"/>
            <a:ext cx="7467840" cy="1739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das principais características definidas no projeto de arquitetura do sistema de Von Neumann, o qual se constitui na primeira geração dos computadores, consistia no fato de ser uma máquina "de programa armazenado". O fato de as instruções, uma após a outra, poderem ser imediatamente acessadas pela CPU é que garante o automatismo do sistema e aumenta a velocidade de execução dos program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DBA-E900-4460-9E51-247C53E8B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13287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7 a l5 ns (hipotétic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usualmente, na ordem de até 2 GB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olátil. Há normalmente uma pequena quantidade de memória não volátil fazendo parte da memória principal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m sistemas atuais esta tecnologia produz memória com elementos dinâmicos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1403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A411-2EF3-485E-86FB-E0D9974E77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03280" y="5877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ção da memória principal (MP) de um microcomputador do tipo PC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4920" y="2276640"/>
            <a:ext cx="9144000" cy="3528720"/>
            <a:chOff x="34920" y="2276640"/>
            <a:chExt cx="9144000" cy="3528720"/>
          </a:xfrm>
        </p:grpSpPr>
        <p:grpSp>
          <p:nvGrpSpPr>
            <p:cNvPr id="834" name=""/>
            <p:cNvGrpSpPr/>
            <p:nvPr/>
          </p:nvGrpSpPr>
          <p:grpSpPr>
            <a:xfrm>
              <a:off x="358920" y="2276640"/>
              <a:ext cx="8820000" cy="3528720"/>
              <a:chOff x="358920" y="2276640"/>
              <a:chExt cx="8820000" cy="352872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358920" y="2276640"/>
                <a:ext cx="8820000" cy="3429000"/>
                <a:chOff x="358920" y="2276640"/>
                <a:chExt cx="8820000" cy="3429000"/>
              </a:xfrm>
            </p:grpSpPr>
            <p:pic>
              <p:nvPicPr>
                <p:cNvPr id="836" name="" descr=""/>
                <p:cNvPicPr/>
                <p:nvPr/>
              </p:nvPicPr>
              <p:blipFill>
                <a:blip r:embed="rId1"/>
                <a:srcRect l="4714" t="0" r="-640" b="0"/>
                <a:stretch/>
              </p:blipFill>
              <p:spPr>
                <a:xfrm>
                  <a:off x="358920" y="2276640"/>
                  <a:ext cx="882000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1158840" y="536436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) Nomenclatura corret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78480" y="532620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) Nomenclatura popular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58920" y="5097600"/>
                  <a:ext cx="104760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8920" y="252612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445000" y="5078520"/>
                  <a:ext cx="104724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68680" y="246888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520800" y="3059280"/>
                  <a:ext cx="723600" cy="73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itura/escrit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558960" y="4602600"/>
                  <a:ext cx="72360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606920" y="3802320"/>
                  <a:ext cx="723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569080" y="4621320"/>
                  <a:ext cx="552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550000" y="3078360"/>
                  <a:ext cx="552240" cy="55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6511320" y="252612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6530400" y="26784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6492240" y="44118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1425240" y="44499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1425240" y="53071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1425240" y="51357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1425240" y="42595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425240" y="269748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425240" y="250704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8999640" y="2276640"/>
                <a:ext cx="179280" cy="3528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4920" y="2276640"/>
              <a:ext cx="324000" cy="34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0F64-9F1C-46B7-8AC7-D02A2C1FCA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9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e de um sistema de computação cuja função é armazenar informações que são (ou serão) manipuladas por esse sistema, para que elas (as informações) possam ser prontamente recuperadas, (quando necessári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itual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emória é um “depósito” onde são guardados elementos (informações) para serem usadas quando desejado (recuper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 em um depós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mória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ar um elemento (ou um grup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ção de um el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66E4-240B-4520-BE4D-14C8E2233B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1295280" y="1670040"/>
            <a:ext cx="74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ável, depende de várias circunstâncias (p. ex.: tamanho do programa e sua duração, a quantidade de programas que estão sendo processados juntos, etc.). A transitoriedade com que as informações permanecem armazenadas na MP é, em geral, mais duradoura que na memória cache ou nos registrad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RAM têm um custo mais baixo que o das memórias cache - são vendidos computadores com quantidade apreciável de MP (256 MB, 512 MB, 1 GB, 2 GB) sem que o preço seja inaceitá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1293840" y="23004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B07D-5807-44EC-BBB4-4B15882E35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3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or a capacidade de armazenamento (em Bytes), maior a capacidade de process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memória virtu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o HD como extensão da 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3DCB-75F6-4784-8B57-DDF863E837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– formada por um conjunto de células (posições), cada uma guarda uma inform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– menor unidade endereçável (tamanho padrão usual – 8 bits – 1 byt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s são agrupados em palavras (palavra de 32 bits tem 4 bytes/palavra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das instruções de uma máquina opera sobre palavras. Uma máquina de 32 bits deverá ter registradores e instruções para tratar palavras de 32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54E2-A915-46B8-825F-E84A610AE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34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ereço da célula – número associado à célula, que permite aos programas referenciá-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élulas – 0 a n – 1 endereç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de k bits – pode armazenar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ções de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7834-2B07-4663-850A-C3B54A8F0C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427640" y="3789360"/>
            <a:ext cx="1873080" cy="64764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pacidade da MP em bits é igual ao produto do nº de células pelo total de bits por célu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 = N x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capacidade da memória em bi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é o número de linhas do barrament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 = número de bits de cada célul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CFA7-01A9-40ED-BFA2-12908204E2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memória principal RAM (MP) tem um espaço máximo de endereçamento de 2K. Cada célula pode armazenar 16 bi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total de bits que pode ser armazenado nesta memóri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 cada endereço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4CE9-B3E4-4A80-BD55-836310560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16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total de bits que pode ser armazenado nesta memória (T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anho de cada endereço (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K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 = 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167C-9AAE-485F-8484-30FE782BD2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, cuja memória RAM (MP) tem uma capacidade máxima de armazenamento de 2K palavras de 16 bits cada, possui um MAR e um MD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stes registrador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do maior endereço dessa MP (em decimal e em hexa)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quantidade total de bits que nela pode ser armazena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E6C1-13F0-4FCF-8C19-81D4D4E3E1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1332000" y="177120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1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D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6 bi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or endereço = 2K -1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= 20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xa = 7FF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60C6-FB72-44DA-8008-370DDE26FE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447920" y="170028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da memória secundária, memória auxiliar ou memória de mass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: garantir um armazenamento mais permanente à toda a estrutura de dados e programas do usuário - deve possuir maior capacidade que a memória principa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onstituída por diferentes tipos de dispositivos, alguns diretamente ligados ao sistema para acesso imediato (Ex.: discos rígidos), e outros que podem ser conectados quando desejado (Ex.: disquetes, fitas, CD-ROM etc.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140328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3E09-7ED4-4E59-9C57-358787861C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31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79800" y="1908000"/>
            <a:ext cx="4419720" cy="405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9093" b="0"/>
          <a:stretch/>
        </p:blipFill>
        <p:spPr>
          <a:xfrm>
            <a:off x="1403280" y="2441520"/>
            <a:ext cx="1524240" cy="97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51800" y="2898720"/>
            <a:ext cx="1295280" cy="10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4680" y="3584520"/>
            <a:ext cx="20574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ZEN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SCRIT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3200" y="411804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PER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ITUR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98920" y="44989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70920" y="47275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6099120"/>
            <a:ext cx="7238880" cy="703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mória de um computador quando energizada, conterá sinais elétricos, mesmo que não seja uma informação úti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8A43-97D9-4302-BC3C-BCA24B543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258560" y="18129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, em geral, dispositivos eletromecânicos e não circuitos puramente eletrônicos - possuem tempo de acesso maiores. Tempos de acesso típicos: ordem de 8 a 15 ms (hipotético). Discos do tipo CD-ROM: 120 a 300 ms, fitas magnéticas - ordem de segun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a bastante dependendo do tipo de dispositivo utilizado. Discos rígidos – ordem de 500 GB, CD-ROM - ordem de 700 MB, fitas magnéticas (a capacidade depende do comprimento da fita e da densidade de grav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133344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526B-8E9E-4A02-B25E-DA44EE5800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257120" y="16700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ão voláte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ste parâmetro possui uma variedade imensa de tipos, visto que, para cada dispositivo entre os já mencionados (discos, disquetes, fitas, discos ópticos, CD-ROM), há diferentes tecnologias de fabric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com caráter permanente ou, pelo menos, de longo período de armazenamen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stante vari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1331640" y="22212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937A-8264-4CA9-AECA-B47A875629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1328760" y="1724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Memória em uso nos 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24640" y="294336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ador (Cache L1 e Registradores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24640" y="4924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 L2 (separado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title"/>
          </p:nvPr>
        </p:nvSpPr>
        <p:spPr>
          <a:xfrm>
            <a:off x="1403280" y="123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557360" y="2391120"/>
            <a:ext cx="6595200" cy="4133520"/>
            <a:chOff x="1557360" y="2391120"/>
            <a:chExt cx="6595200" cy="4133520"/>
          </a:xfrm>
        </p:grpSpPr>
        <p:sp>
          <p:nvSpPr>
            <p:cNvPr id="889" name=""/>
            <p:cNvSpPr/>
            <p:nvPr/>
          </p:nvSpPr>
          <p:spPr>
            <a:xfrm>
              <a:off x="1565280" y="2932200"/>
              <a:ext cx="1376280" cy="359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49480" y="2932200"/>
              <a:ext cx="1420920" cy="35924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60680" y="2932200"/>
              <a:ext cx="1482840" cy="35924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8880" y="2932200"/>
              <a:ext cx="1392480" cy="3592440"/>
            </a:xfrm>
            <a:prstGeom prst="rect">
              <a:avLst/>
            </a:prstGeom>
            <a:solidFill>
              <a:srgbClr val="9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3" name="" descr=""/>
            <p:cNvPicPr/>
            <p:nvPr/>
          </p:nvPicPr>
          <p:blipFill>
            <a:blip r:embed="rId1"/>
            <a:stretch/>
          </p:blipFill>
          <p:spPr>
            <a:xfrm>
              <a:off x="1557360" y="2949480"/>
              <a:ext cx="563868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2300040" y="5865840"/>
              <a:ext cx="4092840" cy="95400"/>
            </a:xfrm>
            <a:prstGeom prst="leftRightArrow">
              <a:avLst>
                <a:gd name="adj1" fmla="val 64287"/>
                <a:gd name="adj2" fmla="val 224838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6440400" y="585000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rápid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1608120" y="5853240"/>
              <a:ext cx="644400" cy="12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len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rot="951000">
              <a:off x="5128560" y="3789360"/>
              <a:ext cx="2724120" cy="730440"/>
            </a:xfrm>
            <a:custGeom>
              <a:avLst/>
              <a:gdLst>
                <a:gd name="textAreaLeft" fmla="*/ 585000 w 2724120"/>
                <a:gd name="textAreaRight" fmla="*/ 1988640 w 2724120"/>
                <a:gd name="textAreaTop" fmla="*/ 97560 h 730440"/>
                <a:gd name="textAreaBottom" fmla="*/ 632880 h 73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20980200">
              <a:off x="6155640" y="2562120"/>
              <a:ext cx="1960560" cy="576360"/>
            </a:xfrm>
            <a:custGeom>
              <a:avLst/>
              <a:gdLst>
                <a:gd name="textAreaLeft" fmla="*/ 421200 w 1960560"/>
                <a:gd name="textAreaRight" fmla="*/ 1431360 w 196056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eeb00b"/>
                </a:gs>
                <a:gs pos="50000">
                  <a:srgbClr val="ffff99"/>
                </a:gs>
                <a:gs pos="100000">
                  <a:srgbClr val="eeb00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47720" y="30193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princip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33320" y="401004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secundári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19120" y="61437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633320" y="60674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bara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19120" y="63723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1633320" y="62960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6510240" y="60674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car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510240" y="62960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66BB-E0E0-4587-BE25-CB943FF152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 a ser manipulad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rmazena a informação na forma de bit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 de informação a ser armazenada, recuperada ou transferid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upo de n bits  (n = 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EREÇ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código de identificação da localização das células (informaçõe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T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informações de outro componente do sistema de computação para a memória (CP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óri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TUR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bits da memória para a CPU, disc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EBDC-4C54-4299-9800-B72756DC2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091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de computação não é possível construir e utilizar apenas um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certas atividades, por exemplo, é fundamental que a transferência de informações seja a mais rápida possí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de um computad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istema - construída de vários componentes (vários tipos diferentes de memória) interligados e integrados, com o objetivo de armazenar e recuperar informaçõ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931B-94A3-45C0-8BCE-66BF82F9B7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1640" y="28080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7960" y="195696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e construção de vários tipos de memóri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dade das UCP ( &gt; tempo de acesso da memóri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armazen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8360" y="454824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46400" y="561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7E08-5C27-48A0-A65B-990DB1059E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5400" y="16160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23080" y="46641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6440" y="38257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2760" y="2987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5440" y="2301840"/>
            <a:ext cx="3886200" cy="3718080"/>
          </a:xfrm>
          <a:prstGeom prst="triangle">
            <a:avLst>
              <a:gd name="adj" fmla="val 5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2760" y="5162400"/>
            <a:ext cx="29145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9080" y="5591160"/>
            <a:ext cx="3303720" cy="0"/>
          </a:xfrm>
          <a:prstGeom prst="line">
            <a:avLst/>
          </a:prstGeom>
          <a:ln w="1260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5800" y="5654520"/>
            <a:ext cx="21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89560" y="523404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76760" y="4375080"/>
            <a:ext cx="2203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0720" y="3517920"/>
            <a:ext cx="12952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44760" y="3063960"/>
            <a:ext cx="1676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02320" y="3978360"/>
            <a:ext cx="129528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135480" y="4892760"/>
            <a:ext cx="685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503760" y="5730840"/>
            <a:ext cx="2286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7000" y="2606760"/>
            <a:ext cx="228600" cy="3200400"/>
          </a:xfrm>
          <a:prstGeom prst="upDownArrow">
            <a:avLst>
              <a:gd name="adj1" fmla="val 50000"/>
              <a:gd name="adj2" fmla="val 278704"/>
            </a:avLst>
          </a:prstGeom>
          <a:solidFill>
            <a:srgbClr val="ff33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80716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baixo Velocidade baixa Capacidade eleva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5240" y="161604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alto  Velocidade alta    Baixa capacida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63320" y="550224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F826-1131-42B7-A951-DC751180C0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06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730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- Elemen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73091" t="0" r="0" b="62446"/>
          <a:stretch/>
        </p:blipFill>
        <p:spPr>
          <a:xfrm>
            <a:off x="7162920" y="2481120"/>
            <a:ext cx="1515960" cy="1154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46024" t="22121" r="22874" b="39137"/>
          <a:stretch/>
        </p:blipFill>
        <p:spPr>
          <a:xfrm>
            <a:off x="7010280" y="4092480"/>
            <a:ext cx="1752840" cy="11908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835280" y="5166720"/>
            <a:ext cx="1736280" cy="1493640"/>
            <a:chOff x="1835280" y="5166720"/>
            <a:chExt cx="1736280" cy="1493640"/>
          </a:xfrm>
        </p:grpSpPr>
        <p:grpSp>
          <p:nvGrpSpPr>
            <p:cNvPr id="150" name=""/>
            <p:cNvGrpSpPr/>
            <p:nvPr/>
          </p:nvGrpSpPr>
          <p:grpSpPr>
            <a:xfrm>
              <a:off x="1835280" y="5166720"/>
              <a:ext cx="1736280" cy="1493640"/>
              <a:chOff x="1835280" y="5166720"/>
              <a:chExt cx="1736280" cy="1493640"/>
            </a:xfrm>
          </p:grpSpPr>
          <p:sp>
            <p:nvSpPr>
              <p:cNvPr id="151" name=""/>
              <p:cNvSpPr/>
              <p:nvPr/>
            </p:nvSpPr>
            <p:spPr>
              <a:xfrm>
                <a:off x="1835280" y="5166720"/>
                <a:ext cx="1736280" cy="14936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38520" y="5257080"/>
                <a:ext cx="1726200" cy="140292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1480" y="5587200"/>
                <a:ext cx="9720" cy="7596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21160" y="5598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84440" y="56523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44120" y="57103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03800" y="57646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63480" y="5823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23160" y="58809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82840" y="59389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39280" y="59968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08680" y="605844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5200" y="610560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41720" y="615276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8240" y="620352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4400" y="62506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0920" y="629784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3840" y="6348600"/>
                <a:ext cx="40320" cy="1047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70360" y="6395760"/>
                <a:ext cx="36720" cy="108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33280" y="6446520"/>
                <a:ext cx="39960" cy="1087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99800" y="64972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6400" y="6548040"/>
                <a:ext cx="26640" cy="903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62720" y="658404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4256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22760" y="6602400"/>
                <a:ext cx="19800" cy="579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0260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38520" y="65700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8040" y="654084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17560" y="65116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57440" y="64828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96600" y="6453720"/>
                <a:ext cx="6048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36480" y="642456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76000" y="639216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15520" y="63666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55040" y="63378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97800" y="630864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0920" y="627984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83680" y="625428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26440" y="622548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65960" y="6199920"/>
                <a:ext cx="66960" cy="831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2320" y="61707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55440" y="61419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41760" y="613476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35280" y="612036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35280" y="5199120"/>
                <a:ext cx="1736280" cy="14065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7360" y="5536440"/>
                <a:ext cx="972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45760" y="5543640"/>
                <a:ext cx="208080" cy="35532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32440" y="5877360"/>
                <a:ext cx="13320" cy="3960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5520" y="5837400"/>
                <a:ext cx="20160" cy="10476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95360" y="5841000"/>
                <a:ext cx="26640" cy="1267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5200" y="5837400"/>
                <a:ext cx="29880" cy="13032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38480" y="5823000"/>
                <a:ext cx="46800" cy="1411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71160" y="5717880"/>
                <a:ext cx="73800" cy="22824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14720" y="5608800"/>
                <a:ext cx="6480" cy="1558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04640" y="5580000"/>
                <a:ext cx="16560" cy="1594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1320" y="5554440"/>
                <a:ext cx="23400" cy="15588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7920" y="552924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0920" y="5507280"/>
                <a:ext cx="36720" cy="1522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07440" y="5489280"/>
                <a:ext cx="39960" cy="14868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77200" y="5478480"/>
                <a:ext cx="36720" cy="1411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0200" y="5467320"/>
                <a:ext cx="33480" cy="1411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36880" y="5456520"/>
                <a:ext cx="16560" cy="1411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30040" y="5442120"/>
                <a:ext cx="10080" cy="144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26800" y="5427720"/>
                <a:ext cx="6480" cy="145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28440" y="52826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18360" y="5279040"/>
                <a:ext cx="9720" cy="6516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15120" y="5271480"/>
                <a:ext cx="3240" cy="687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15120" y="5264640"/>
                <a:ext cx="360" cy="687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7960" y="5344200"/>
                <a:ext cx="221400" cy="1083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74800" y="5351400"/>
                <a:ext cx="214920" cy="975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74800" y="5391360"/>
                <a:ext cx="305280" cy="1555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7960" y="5391360"/>
                <a:ext cx="305280" cy="16272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44560" y="55400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32440" y="5880960"/>
                <a:ext cx="19800" cy="72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6240" y="6515280"/>
                <a:ext cx="16560" cy="687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36080" y="6530040"/>
                <a:ext cx="23400" cy="612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15920" y="6537240"/>
                <a:ext cx="23400" cy="57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95760" y="653364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32480" y="5514480"/>
                <a:ext cx="446400" cy="5619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48600" y="6076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41760" y="606204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26400" y="5224680"/>
                <a:ext cx="208080" cy="29700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26400" y="550368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09480" y="55144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89320" y="5518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6000" y="55144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45800" y="605844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52640" y="604044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29240" y="607320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29240" y="6084000"/>
                <a:ext cx="6480" cy="615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65520" y="6482880"/>
                <a:ext cx="3240" cy="579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5160" y="6087600"/>
                <a:ext cx="933480" cy="50004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22360" y="586980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2360" y="585540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60680" y="555804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9560" y="5554440"/>
                <a:ext cx="685080" cy="10188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01800" y="5202720"/>
                <a:ext cx="772560" cy="3733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57040" y="5340600"/>
                <a:ext cx="6480" cy="687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53800" y="53478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46960" y="5351400"/>
                <a:ext cx="9720" cy="687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688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26800" y="5362200"/>
                <a:ext cx="9720" cy="6156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47360" y="55328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50600" y="554724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4960" y="5202720"/>
                <a:ext cx="6480" cy="795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84880" y="5213520"/>
                <a:ext cx="13320" cy="75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796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47800" y="52282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3448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39720" y="5489280"/>
                <a:ext cx="1008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41760" y="5166720"/>
                <a:ext cx="1716120" cy="137052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15120" y="5242680"/>
                <a:ext cx="248400" cy="11952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33280" y="5340600"/>
                <a:ext cx="527040" cy="50400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30840" y="53406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13920" y="534060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97360" y="5340600"/>
                <a:ext cx="19800" cy="14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7280" y="53478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36880" y="5355000"/>
                <a:ext cx="56880" cy="651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33280" y="541692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33280" y="54277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33280" y="5434920"/>
                <a:ext cx="16560" cy="21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40120" y="544212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53800" y="5449320"/>
                <a:ext cx="36720" cy="28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83680" y="54640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13920" y="5474880"/>
                <a:ext cx="39960" cy="32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47400" y="549288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78000" y="551448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7800" y="5543640"/>
                <a:ext cx="26640" cy="360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14720" y="5572800"/>
                <a:ext cx="19800" cy="360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1560" y="5605200"/>
                <a:ext cx="13320" cy="32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14720" y="5637960"/>
                <a:ext cx="19800" cy="32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97800" y="5666760"/>
                <a:ext cx="26640" cy="32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81240" y="569592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81240" y="5717880"/>
                <a:ext cx="73800" cy="104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44960" y="58082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85280" y="582300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05440" y="582660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19120" y="5823000"/>
                <a:ext cx="20160" cy="18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32440" y="5811840"/>
                <a:ext cx="1980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42520" y="5532840"/>
                <a:ext cx="211320" cy="2937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44120" y="552564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47360" y="551844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40520" y="55072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30440" y="55000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44160" y="5344200"/>
                <a:ext cx="389520" cy="1627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43360" y="5351400"/>
                <a:ext cx="503640" cy="474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78000" y="5522040"/>
                <a:ext cx="23400" cy="11952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7440" y="557640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33280" y="5583600"/>
                <a:ext cx="80280" cy="831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96560" y="5536440"/>
                <a:ext cx="39960" cy="1123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99800" y="5456520"/>
                <a:ext cx="201240" cy="144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7840" y="5471280"/>
                <a:ext cx="43560" cy="50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0520" y="5456520"/>
                <a:ext cx="73800" cy="252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23200" y="5456520"/>
                <a:ext cx="66960" cy="32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99800" y="5482080"/>
                <a:ext cx="29880" cy="543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9800" y="5529240"/>
                <a:ext cx="43560" cy="54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36880" y="5569200"/>
                <a:ext cx="77040" cy="32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13920" y="5561640"/>
                <a:ext cx="70200" cy="396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74400" y="5522040"/>
                <a:ext cx="26640" cy="543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13120" y="5467320"/>
                <a:ext cx="174600" cy="11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3120" y="5467320"/>
                <a:ext cx="174600" cy="12312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36880" y="5482080"/>
                <a:ext cx="127440" cy="90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7120" y="5503680"/>
                <a:ext cx="70560" cy="50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70360" y="550728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3600" y="5510880"/>
                <a:ext cx="53640" cy="360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80440" y="5514480"/>
                <a:ext cx="40320" cy="28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760" y="538056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0600" y="5387760"/>
                <a:ext cx="63720" cy="435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3840" y="538776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07440" y="5387760"/>
                <a:ext cx="53640" cy="396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10680" y="539136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0760" y="539496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23160" y="551448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9640" y="5518440"/>
                <a:ext cx="63720" cy="468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33240" y="55220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33240" y="5522040"/>
                <a:ext cx="56880" cy="360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36480" y="5522040"/>
                <a:ext cx="50040" cy="32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43320" y="552204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49800" y="55220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53400" y="552204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48200" y="5743080"/>
                <a:ext cx="80280" cy="615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55040" y="575028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58640" y="5753880"/>
                <a:ext cx="60120" cy="435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61880" y="5753880"/>
                <a:ext cx="56880" cy="43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8720" y="575748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78440" y="576108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61880" y="5768280"/>
                <a:ext cx="56880" cy="14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61880" y="576828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74360" y="5514480"/>
                <a:ext cx="66960" cy="46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80840" y="55184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84440" y="551844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87680" y="552204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490920" y="55220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01000" y="5525640"/>
                <a:ext cx="29880" cy="21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87680" y="5532840"/>
                <a:ext cx="46800" cy="10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87680" y="5532840"/>
                <a:ext cx="46800" cy="720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45760" y="583380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249360" y="5837400"/>
              <a:ext cx="60120" cy="43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52600" y="583740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6200" y="5841000"/>
              <a:ext cx="50040" cy="360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62680" y="5841000"/>
              <a:ext cx="39960" cy="32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69520" y="5844600"/>
              <a:ext cx="33480" cy="252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56200" y="585180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56200" y="5855400"/>
              <a:ext cx="50040" cy="720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1160" y="5173920"/>
              <a:ext cx="63720" cy="43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8000" y="5177520"/>
              <a:ext cx="53640" cy="360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517752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4840" y="5181120"/>
              <a:ext cx="43560" cy="28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8080" y="518112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44920" y="5184720"/>
              <a:ext cx="3024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920" y="5460120"/>
              <a:ext cx="66960" cy="46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9520" y="5464080"/>
              <a:ext cx="56880" cy="396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72760" y="5467680"/>
              <a:ext cx="50040" cy="32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76000" y="546768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79600" y="546768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89680" y="5471280"/>
              <a:ext cx="2988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72760" y="547848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76000" y="548208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62280" y="6022440"/>
              <a:ext cx="70200" cy="543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5520" y="6026040"/>
              <a:ext cx="60120" cy="46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69120" y="602964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72360" y="6029640"/>
              <a:ext cx="50040" cy="39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5600" y="603324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5680" y="603684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72360" y="6044040"/>
              <a:ext cx="50040" cy="14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72360" y="604404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9280" y="6461280"/>
              <a:ext cx="73800" cy="615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5760" y="6464880"/>
              <a:ext cx="63720" cy="507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99360" y="6468480"/>
              <a:ext cx="56880" cy="468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2600" y="6468480"/>
              <a:ext cx="50040" cy="43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05840" y="6472080"/>
              <a:ext cx="46800" cy="396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6280" y="6475680"/>
              <a:ext cx="36720" cy="28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9360" y="6486480"/>
              <a:ext cx="56880" cy="10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9360" y="6486480"/>
              <a:ext cx="5364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07440" y="560556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07440" y="55908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440" y="557640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07440" y="55656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07440" y="55508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7440" y="55364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07440" y="55256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7440" y="55112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10280" y="5717880"/>
              <a:ext cx="77040" cy="32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0280" y="5692320"/>
              <a:ext cx="77040" cy="46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7440" y="5525640"/>
              <a:ext cx="433080" cy="20664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7440" y="5511240"/>
              <a:ext cx="429480" cy="2098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440" y="567072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5677920"/>
              <a:ext cx="29880" cy="180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7760" y="5681520"/>
              <a:ext cx="16560" cy="10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09480" y="5721480"/>
              <a:ext cx="419760" cy="31536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9720" y="5746680"/>
              <a:ext cx="359280" cy="2678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82440" y="58266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9200" y="5837400"/>
              <a:ext cx="6480" cy="759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5600" y="585180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69120" y="58629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62280" y="58737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52200" y="5884560"/>
              <a:ext cx="972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212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32040" y="5906520"/>
              <a:ext cx="1008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8720" y="59137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540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91720" y="5931720"/>
              <a:ext cx="13320" cy="651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751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61480" y="59389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492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8000" y="59461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11080" y="59497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4520" y="59461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80840" y="5946120"/>
              <a:ext cx="13320" cy="6156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6428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473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4040" y="59317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2036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07040" y="59173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93720" y="59065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8364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76800" y="5888160"/>
              <a:ext cx="9720" cy="687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70320" y="58773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3480" y="58665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59880" y="5851800"/>
              <a:ext cx="3240" cy="7596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56640" y="58410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53400" y="58302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53400" y="5699880"/>
              <a:ext cx="332280" cy="24984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717880"/>
              <a:ext cx="77040" cy="104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0520" y="5823000"/>
              <a:ext cx="80280" cy="1087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1160" y="571068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67520" y="582300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21160" y="5710680"/>
              <a:ext cx="26640" cy="11232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0920" y="5823000"/>
              <a:ext cx="29880" cy="1159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01000" y="5710680"/>
              <a:ext cx="23400" cy="112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4680" y="5823000"/>
              <a:ext cx="23400" cy="1159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77600" y="5710680"/>
              <a:ext cx="43560" cy="112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21160" y="5823000"/>
              <a:ext cx="43560" cy="1159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0960" y="5714280"/>
              <a:ext cx="70200" cy="1087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1160" y="5823000"/>
              <a:ext cx="66960" cy="1087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27200" y="572148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21160" y="582300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0560" y="5735880"/>
              <a:ext cx="120600" cy="867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21160" y="5823000"/>
              <a:ext cx="117360" cy="90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0400" y="575388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21160" y="582300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66720" y="5783040"/>
              <a:ext cx="154440" cy="396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21160" y="5823000"/>
              <a:ext cx="150840" cy="435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6720" y="5815800"/>
              <a:ext cx="154440" cy="3600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21160" y="5793840"/>
              <a:ext cx="150840" cy="360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73560" y="5823000"/>
              <a:ext cx="147600" cy="615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1160" y="5765040"/>
              <a:ext cx="147600" cy="579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90120" y="5823000"/>
              <a:ext cx="130680" cy="831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21160" y="5739480"/>
              <a:ext cx="127440" cy="83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13880" y="5823000"/>
              <a:ext cx="107280" cy="9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21160" y="5725080"/>
              <a:ext cx="104040" cy="975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00560" y="5725080"/>
              <a:ext cx="238320" cy="177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3880" y="5735880"/>
              <a:ext cx="211320" cy="1558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47360" y="5757840"/>
              <a:ext cx="144360" cy="112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57440" y="5765040"/>
              <a:ext cx="123840" cy="93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67520" y="5783040"/>
              <a:ext cx="104040" cy="795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55800" y="5351760"/>
              <a:ext cx="134280" cy="612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60160" y="5501160"/>
            <a:ext cx="2327040" cy="1349280"/>
            <a:chOff x="5960160" y="5501160"/>
            <a:chExt cx="2327040" cy="1349280"/>
          </a:xfrm>
        </p:grpSpPr>
        <p:sp>
          <p:nvSpPr>
            <p:cNvPr id="474" name=""/>
            <p:cNvSpPr/>
            <p:nvPr/>
          </p:nvSpPr>
          <p:spPr>
            <a:xfrm rot="20689200">
              <a:off x="6029280" y="57927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0689200">
              <a:off x="6027840" y="57873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0689200">
              <a:off x="6024240" y="577440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89200">
              <a:off x="6023880" y="5774400"/>
              <a:ext cx="2193120" cy="78156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89200">
              <a:off x="6121080" y="5804280"/>
              <a:ext cx="1954800" cy="6984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89200">
              <a:off x="6167160" y="5821200"/>
              <a:ext cx="1854000" cy="66096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0689200">
              <a:off x="7945560" y="56516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89200">
              <a:off x="7926480" y="5664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689200">
              <a:off x="7910280" y="56750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0689200">
              <a:off x="7895160" y="568728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0689200">
              <a:off x="7879680" y="569736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689200">
              <a:off x="7863840" y="5709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89200">
              <a:off x="7844760" y="572040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89200">
              <a:off x="7829640" y="57330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689200">
              <a:off x="7813440" y="574308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689200">
              <a:off x="7794720" y="57564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689200">
              <a:off x="7779600" y="576864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0689200">
              <a:off x="7760520" y="577908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689200">
              <a:off x="7744680" y="579204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689200">
              <a:off x="7725960" y="580536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0689200">
              <a:off x="7710120" y="581508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689200">
              <a:off x="7691400" y="582840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0689200">
              <a:off x="7672320" y="584172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89200">
              <a:off x="7656840" y="585468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689200">
              <a:off x="7637760" y="5865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689200">
              <a:off x="7619040" y="5878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0689200">
              <a:off x="7599960" y="5892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0689200">
              <a:off x="7581240" y="5905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689200">
              <a:off x="7566120" y="591840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89200">
              <a:off x="7547040" y="5929200"/>
              <a:ext cx="118800" cy="478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689200">
              <a:off x="7528320" y="594216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689200">
              <a:off x="7509600" y="59554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689200">
              <a:off x="7490880" y="59688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689200">
              <a:off x="7472160" y="598248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89200">
              <a:off x="7449480" y="59968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89200">
              <a:off x="7431120" y="6010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89200">
              <a:off x="7412040" y="602352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89200">
              <a:off x="7393320" y="6037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89200">
              <a:off x="7371360" y="60505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89200">
              <a:off x="7352640" y="60645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89200">
              <a:off x="7333920" y="607824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89200">
              <a:off x="7311960" y="609480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0689200">
              <a:off x="7289640" y="6108840"/>
              <a:ext cx="126000" cy="4788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89200">
              <a:off x="7270920" y="612288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89200">
              <a:off x="7248960" y="61369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89200">
              <a:off x="7230240" y="61509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89200">
              <a:off x="7208280" y="616428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89200">
              <a:off x="7186320" y="618156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89200">
              <a:off x="7167960" y="61948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89200">
              <a:off x="7145640" y="62092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89200">
              <a:off x="7124400" y="62262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89200">
              <a:off x="7102080" y="624024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89200">
              <a:off x="7079760" y="625500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89200">
              <a:off x="7057800" y="627156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89200">
              <a:off x="7036200" y="6286680"/>
              <a:ext cx="122400" cy="558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89200">
              <a:off x="7014240" y="63036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89200">
              <a:off x="6989040" y="631836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89200">
              <a:off x="6967440" y="633528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89200">
              <a:off x="6944760" y="634968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89200">
              <a:off x="6923160" y="63669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89200">
              <a:off x="6897960" y="63820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89200">
              <a:off x="6876000" y="63993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89200">
              <a:off x="6850800" y="6414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89200">
              <a:off x="6825600" y="6432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89200">
              <a:off x="6804000" y="6448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89200">
              <a:off x="6778800" y="6466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89200">
              <a:off x="6753600" y="648216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89200">
              <a:off x="6728400" y="649980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89200">
              <a:off x="6703560" y="6517080"/>
              <a:ext cx="129600" cy="615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89200">
              <a:off x="6678360" y="6535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89200">
              <a:off x="6653160" y="6553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89200">
              <a:off x="6627960" y="657072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89200">
              <a:off x="6603120" y="658944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89200">
              <a:off x="7568640" y="5613480"/>
              <a:ext cx="349560" cy="1443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89200">
              <a:off x="7554960" y="5603040"/>
              <a:ext cx="375120" cy="1472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89200">
              <a:off x="7556040" y="5595840"/>
              <a:ext cx="360720" cy="1414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89200">
              <a:off x="7558560" y="5596920"/>
              <a:ext cx="345960" cy="133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89200">
              <a:off x="7561440" y="5597640"/>
              <a:ext cx="335160" cy="1256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89200">
              <a:off x="7562880" y="56970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89200">
              <a:off x="7569720" y="5695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89200">
              <a:off x="7578000" y="56980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89200">
              <a:off x="7585560" y="5698800"/>
              <a:ext cx="2124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89200">
              <a:off x="7597440" y="5700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89200">
              <a:off x="7604640" y="569952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89200">
              <a:off x="7616520" y="570204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89200">
              <a:off x="7620480" y="570312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89200">
              <a:off x="7632360" y="57052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89200">
              <a:off x="7639200" y="57034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89200">
              <a:off x="7667280" y="5709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89200">
              <a:off x="7674120" y="57078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89200">
              <a:off x="7705440" y="571356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89200">
              <a:off x="7709400" y="5715000"/>
              <a:ext cx="2160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89200">
              <a:off x="7721280" y="57146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89200">
              <a:off x="7728120" y="5715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89200">
              <a:off x="7740360" y="571788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89200">
              <a:off x="7747920" y="571896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89200">
              <a:off x="7756200" y="57189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89200">
              <a:off x="7763400" y="57196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89200">
              <a:off x="7775280" y="5722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89200">
              <a:off x="7782480" y="572364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89200">
              <a:off x="7419240" y="5708520"/>
              <a:ext cx="357120" cy="1472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89200">
              <a:off x="7401960" y="569628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89200">
              <a:off x="7403400" y="5691600"/>
              <a:ext cx="371160" cy="14436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89200">
              <a:off x="7409160" y="5689440"/>
              <a:ext cx="353160" cy="1389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89200">
              <a:off x="7412040" y="5690520"/>
              <a:ext cx="342720" cy="1310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89200">
              <a:off x="7409880" y="5793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89200">
              <a:off x="7417440" y="5794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89200">
              <a:off x="7428960" y="5796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89200">
              <a:off x="7436160" y="57945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89200">
              <a:off x="7448400" y="5797080"/>
              <a:ext cx="1800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89200">
              <a:off x="7452000" y="57988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89200">
              <a:off x="7464240" y="580104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89200">
              <a:off x="7471440" y="58017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89200">
              <a:off x="7482960" y="5801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89200">
              <a:off x="7490520" y="5802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89200">
              <a:off x="7518240" y="58082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689200">
              <a:off x="7525080" y="58064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89200">
              <a:off x="7556760" y="5812200"/>
              <a:ext cx="1764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89200">
              <a:off x="7561080" y="58136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89200">
              <a:off x="7572240" y="5813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89200">
              <a:off x="7579800" y="58140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89200">
              <a:off x="7591680" y="581652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89200">
              <a:off x="7599240" y="5817240"/>
              <a:ext cx="1800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689200">
              <a:off x="7607880" y="58204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89200">
              <a:off x="7615080" y="5820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89200">
              <a:off x="7626600" y="58208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89200">
              <a:off x="7634160" y="58212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689200">
              <a:off x="7263720" y="5808240"/>
              <a:ext cx="363960" cy="1522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89200">
              <a:off x="7246800" y="5795280"/>
              <a:ext cx="393120" cy="157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689200">
              <a:off x="7251120" y="5788080"/>
              <a:ext cx="374760" cy="15228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89200">
              <a:off x="7253640" y="5788800"/>
              <a:ext cx="360720" cy="1418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689200">
              <a:off x="7255800" y="5787000"/>
              <a:ext cx="349560" cy="1364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89200">
              <a:off x="7254000" y="58939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689200">
              <a:off x="7261560" y="58946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89200">
              <a:off x="7273800" y="5897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689200">
              <a:off x="7280640" y="58953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89200">
              <a:off x="7292520" y="5897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689200">
              <a:off x="7299720" y="58982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0689200">
              <a:off x="7308360" y="5901480"/>
              <a:ext cx="2124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0689200">
              <a:off x="7315560" y="5902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89200">
              <a:off x="7327800" y="5904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0689200">
              <a:off x="7335360" y="59054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0689200">
              <a:off x="7362720" y="59090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689200">
              <a:off x="7369920" y="5909400"/>
              <a:ext cx="25200" cy="34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0689200">
              <a:off x="7401960" y="5915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689200">
              <a:off x="7408800" y="59130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0689200">
              <a:off x="7420680" y="59155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0689200">
              <a:off x="7428240" y="5915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689200">
              <a:off x="7436880" y="5919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689200">
              <a:off x="7444080" y="5919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89200">
              <a:off x="7456320" y="5922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89200">
              <a:off x="7463160" y="59205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89200">
              <a:off x="7475400" y="5922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689200">
              <a:off x="7482600" y="592380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89200">
              <a:off x="7101720" y="5909040"/>
              <a:ext cx="375120" cy="15768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89200">
              <a:off x="7087680" y="5895360"/>
              <a:ext cx="400320" cy="16308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689200">
              <a:off x="7088400" y="5888880"/>
              <a:ext cx="385920" cy="155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689200">
              <a:off x="7094520" y="5886720"/>
              <a:ext cx="367920" cy="149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689200">
              <a:off x="7097040" y="5887800"/>
              <a:ext cx="356760" cy="1414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89200">
              <a:off x="7095600" y="59979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689200">
              <a:off x="7102800" y="59986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89200">
              <a:off x="7114680" y="5998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689200">
              <a:off x="7121880" y="59990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689200">
              <a:off x="7130520" y="60019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689200">
              <a:off x="7138080" y="600264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689200">
              <a:off x="7149960" y="60055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89200">
              <a:off x="7157520" y="60062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689200">
              <a:off x="7169400" y="60087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689200">
              <a:off x="7176600" y="6009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689200">
              <a:off x="7204320" y="601308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689200">
              <a:off x="7211520" y="60138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0689200">
              <a:off x="7243920" y="60192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0689200">
              <a:off x="7251120" y="601992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689200">
              <a:off x="7262640" y="6022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689200">
              <a:off x="7269840" y="60202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689200">
              <a:off x="7281720" y="60228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689200">
              <a:off x="7285680" y="602388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89200">
              <a:off x="7297920" y="6026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689200">
              <a:off x="7305120" y="6027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89200">
              <a:off x="7317360" y="60292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689200">
              <a:off x="7324920" y="6030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689200">
              <a:off x="6936120" y="6014160"/>
              <a:ext cx="382320" cy="16020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689200">
              <a:off x="6922800" y="600048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689200">
              <a:off x="6923160" y="599112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689200">
              <a:off x="6928920" y="5991120"/>
              <a:ext cx="378720" cy="15228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689200">
              <a:off x="6934680" y="5988960"/>
              <a:ext cx="364320" cy="1468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689200">
              <a:off x="6930360" y="610416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689200">
              <a:off x="6937560" y="6104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89200">
              <a:off x="6949800" y="61070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89200">
              <a:off x="6957000" y="61077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689200">
              <a:off x="6969240" y="6109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689200">
              <a:off x="6976080" y="61081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689200">
              <a:off x="6985080" y="611064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0689200">
              <a:off x="6992280" y="6111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689200">
              <a:off x="7004520" y="611460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0689200">
              <a:off x="7011720" y="61153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689200">
              <a:off x="7043040" y="6120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689200">
              <a:off x="7050240" y="6121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689200">
              <a:off x="7078320" y="612684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689200">
              <a:off x="7085880" y="61279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0689200">
              <a:off x="7098120" y="61300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689200">
              <a:off x="7105320" y="61311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689200">
              <a:off x="7117920" y="6133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689200">
              <a:off x="7124760" y="6134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689200">
              <a:off x="7137360" y="613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689200">
              <a:off x="7144200" y="61347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689200">
              <a:off x="7156080" y="6136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689200">
              <a:off x="7163640" y="61380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689200">
              <a:off x="6765120" y="6123600"/>
              <a:ext cx="389160" cy="1659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689200">
              <a:off x="6750360" y="6107040"/>
              <a:ext cx="418320" cy="17388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89200">
              <a:off x="6754680" y="609732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689200">
              <a:off x="6756840" y="6097680"/>
              <a:ext cx="389160" cy="15768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89200">
              <a:off x="6763320" y="6098040"/>
              <a:ext cx="374760" cy="1497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689200">
              <a:off x="6758640" y="621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689200">
              <a:off x="6766200" y="62143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689200">
              <a:off x="6778440" y="62175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689200">
              <a:off x="6785640" y="62175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689200">
              <a:off x="6797520" y="62204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689200">
              <a:off x="6805080" y="62211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689200">
              <a:off x="6816960" y="62233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689200">
              <a:off x="6824160" y="62244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689200">
              <a:off x="6836400" y="622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689200">
              <a:off x="6843600" y="6227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689200">
              <a:off x="6871680" y="62326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689200">
              <a:off x="6879240" y="62341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689200">
              <a:off x="6910920" y="6239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689200">
              <a:off x="6918120" y="62377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689200">
              <a:off x="6930000" y="62402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689200">
              <a:off x="6937560" y="62406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689200">
              <a:off x="6949440" y="6243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689200">
              <a:off x="6957000" y="62438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689200">
              <a:off x="6969240" y="624636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689200">
              <a:off x="6976440" y="6246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89200">
              <a:off x="6985080" y="6249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689200">
              <a:off x="6995880" y="62499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689200">
              <a:off x="6590160" y="6233760"/>
              <a:ext cx="396360" cy="17100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689200">
              <a:off x="6572880" y="6217560"/>
              <a:ext cx="429120" cy="1818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89200">
              <a:off x="6576480" y="6207480"/>
              <a:ext cx="41436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689200">
              <a:off x="6582600" y="6210720"/>
              <a:ext cx="396360" cy="16020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689200">
              <a:off x="6588000" y="620820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689200">
              <a:off x="6580440" y="63288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689200">
              <a:off x="6591240" y="63266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689200">
              <a:off x="6599880" y="6331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689200">
              <a:off x="6611040" y="6332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689200">
              <a:off x="6619680" y="6334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689200">
              <a:off x="6626880" y="63352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689200">
              <a:off x="6639120" y="6337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689200">
              <a:off x="6646320" y="6338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689200">
              <a:off x="6658560" y="6340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689200">
              <a:off x="6666120" y="63417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689200">
              <a:off x="6697440" y="6346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689200">
              <a:off x="6705000" y="63475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689200">
              <a:off x="6736320" y="6352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689200">
              <a:off x="6744240" y="63536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689200">
              <a:off x="6756120" y="635688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689200">
              <a:off x="6764040" y="63565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689200">
              <a:off x="6775920" y="635940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689200">
              <a:off x="6783480" y="6360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689200">
              <a:off x="6795360" y="636228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689200">
              <a:off x="6802920" y="63633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689200">
              <a:off x="6815160" y="6365880"/>
              <a:ext cx="2124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689200">
              <a:off x="6822360" y="63662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689200">
              <a:off x="6405480" y="6349320"/>
              <a:ext cx="407520" cy="17640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689200">
              <a:off x="6391800" y="6332400"/>
              <a:ext cx="436320" cy="1872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689200">
              <a:off x="6395040" y="6321960"/>
              <a:ext cx="421920" cy="17928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689200">
              <a:off x="6397200" y="632340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689200">
              <a:off x="6403680" y="632088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689200">
              <a:off x="6399000" y="64443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689200">
              <a:off x="6406560" y="64454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689200">
              <a:off x="6418800" y="6447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689200">
              <a:off x="6426000" y="64483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689200">
              <a:off x="6438600" y="64530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689200">
              <a:off x="6446160" y="6453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689200">
              <a:off x="6458400" y="6456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689200">
              <a:off x="6465960" y="6456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689200">
              <a:off x="6478200" y="6459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689200">
              <a:off x="6485400" y="64602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89200">
              <a:off x="6517080" y="6465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689200">
              <a:off x="6524280" y="64659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689200">
              <a:off x="6556680" y="64738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689200">
              <a:off x="6563880" y="6474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689200">
              <a:off x="6576120" y="6477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0689200">
              <a:off x="6583680" y="64778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689200">
              <a:off x="6595560" y="64800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0689200">
              <a:off x="6603120" y="648072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0689200">
              <a:off x="6615360" y="6483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0689200">
              <a:off x="6622560" y="648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0689200">
              <a:off x="6635160" y="6486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0689200">
              <a:off x="6642000" y="64864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0689200">
              <a:off x="6214680" y="6468480"/>
              <a:ext cx="418320" cy="18468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0689200">
              <a:off x="6201000" y="6452280"/>
              <a:ext cx="447120" cy="19260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0689200">
              <a:off x="6204240" y="6441840"/>
              <a:ext cx="432720" cy="18432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0689200">
              <a:off x="6210000" y="6442560"/>
              <a:ext cx="41472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0689200">
              <a:off x="6215760" y="644004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689200">
              <a:off x="6208560" y="65685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689200">
              <a:off x="6215760" y="6568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689200">
              <a:off x="6228000" y="65714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689200">
              <a:off x="6235920" y="65721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689200">
              <a:off x="6247800" y="657432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0689200">
              <a:off x="6255360" y="65754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20689200">
              <a:off x="6267600" y="65800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0689200">
              <a:off x="6278760" y="65804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0689200">
              <a:off x="6287400" y="65829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689200">
              <a:off x="6298200" y="658368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0689200">
              <a:off x="6327000" y="6591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689200">
              <a:off x="6337800" y="659232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689200">
              <a:off x="6369480" y="65966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689200">
              <a:off x="6377040" y="65973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689200">
              <a:off x="6389280" y="6599880"/>
              <a:ext cx="25200" cy="48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689200">
              <a:off x="6396840" y="6600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689200">
              <a:off x="6409080" y="66052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689200">
              <a:off x="6416640" y="660636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689200">
              <a:off x="6428880" y="66085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689200">
              <a:off x="6436080" y="6609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689200">
              <a:off x="6448680" y="661176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689200">
              <a:off x="6455880" y="6612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flipV="1">
            <a:off x="4572000" y="3184560"/>
            <a:ext cx="2438280" cy="4507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635280"/>
            <a:ext cx="2362320" cy="100008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572000" y="2796840"/>
            <a:ext cx="2438280" cy="3049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04960" y="4854600"/>
            <a:ext cx="685800" cy="5335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29200" y="4092480"/>
            <a:ext cx="1627200" cy="198144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06445-16E8-42FE-8926-6341DF0A58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superiores da pirâmide de memória, por possuírem a maior velocidade de transferência dentro do sistema (menor tempo de acesso), menor capacidade de armazenamento e maior cus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s rápidas usadas em execução de instruções dentro do processador (objetivo: minimizar os acessos às memórias externas ao processador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4330-667B-426A-A571-D4B9EEE9F9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 </cp:lastModifiedBy>
  <dcterms:modified xsi:type="dcterms:W3CDTF">2009-07-08T00:24:58Z</dcterms:modified>
  <cp:revision>234</cp:revision>
  <dc:subject/>
  <dc:title>Slide sem título </dc:title>
</cp:coreProperties>
</file>