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1A74-3D1F-4952-BE55-DC5120686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FBB1-1B3D-47CD-98DE-615BBBC5E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81FC-AC99-4774-BD34-FDCDDC2E5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F581-2DB0-4D11-BD43-06A7B69CD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53937-9EAA-467A-A552-D6E32BE2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5C13F-7E62-4C6A-9989-959522C8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B3B0-6040-45B6-9A66-13FC9074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85A8B-4416-4173-B643-AA88F7A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6BA36-65B0-4CAC-83B1-E2BC05DA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9771-89A2-4CFE-B4EF-10555A60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00166-CEB7-4A66-A35D-89B81162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99CC-5F4C-4F38-87B4-9D1E2CCD1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41C0B-FCFF-48F9-A066-ABD01A0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89DCA-8CB8-4B0F-A955-6E2C57FF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3C5B9-A3B0-426B-85BC-873A89A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53DDF-6B40-4895-82D1-DDBB8F5D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83148-58B4-4255-A3BA-E6D432C8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FFAE-AB8F-47BF-93E0-CF45FF24E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BBBB-4E60-4CCF-926C-E553F631F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899E-6A35-44C1-9500-280DDF9A6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7046-E7DE-41D1-BB6A-EC3318BE0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6037-3A4F-40B0-AE68-FCF968EBE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5F95-A7B8-4274-AEDF-8EC9F3D7A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DC41-B55F-42B3-8300-A3FFCBFD9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8ED9-DB7B-46F4-903F-B6C67A3A6ED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7000"/>
            <a:ext cx="1219320" cy="6885000"/>
            <a:chOff x="0" y="-27000"/>
            <a:chExt cx="1219320" cy="6885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219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219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179280" y="5877000"/>
            <a:ext cx="863640" cy="907560"/>
            <a:chOff x="179280" y="587700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79280" y="660348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28120" y="616464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220680" y="587700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0640" y="61783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221040" y="588960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4B5-5AE4-4A12-9D15-E2D6CBA4D7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324000" y="5950080"/>
            <a:ext cx="863280" cy="907560"/>
            <a:chOff x="324000" y="5950080"/>
            <a:chExt cx="863280" cy="907560"/>
          </a:xfrm>
        </p:grpSpPr>
        <p:sp>
          <p:nvSpPr>
            <p:cNvPr id="66" name=""/>
            <p:cNvSpPr/>
            <p:nvPr/>
          </p:nvSpPr>
          <p:spPr>
            <a:xfrm>
              <a:off x="324000" y="6676560"/>
              <a:ext cx="86328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2480" y="62377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364680" y="5950080"/>
              <a:ext cx="46980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5360" y="6251400"/>
              <a:ext cx="47088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65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16002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ceitos Básicos de Eletrôn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24000" y="5950080"/>
            <a:ext cx="863280" cy="907560"/>
            <a:chOff x="324000" y="5950080"/>
            <a:chExt cx="863280" cy="907560"/>
          </a:xfrm>
        </p:grpSpPr>
        <p:sp>
          <p:nvSpPr>
            <p:cNvPr id="119" name=""/>
            <p:cNvSpPr/>
            <p:nvPr/>
          </p:nvSpPr>
          <p:spPr>
            <a:xfrm>
              <a:off x="324000" y="6676560"/>
              <a:ext cx="86328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2480" y="62377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64680" y="5950080"/>
              <a:ext cx="46980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5360" y="6251400"/>
              <a:ext cx="47088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65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70120" y="1111320"/>
            <a:ext cx="6438960" cy="4572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771640" y="5805360"/>
          <a:ext cx="586764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805360"/>
                    <a:ext cx="58676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116000" y="26510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 em VHD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714400" y="1206360"/>
            <a:ext cx="6343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-- O nome externo do arquivo: ORGATE.VH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BRARY IEE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SE IEEE.STD_LOGIC_1164.AL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NTITY orgate 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RT (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B1, PB2   :  IN      STD_LOGIC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ED            :  OUT  STD_LOGIC 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ND orgat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RCHITECTURE a OF orgate 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ED &lt;= NOT ( NOT PB1 OR NOT PB2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ND a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7480" y="44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F956-E8EB-41BA-9D38-AC8C95A696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7480" y="2115720"/>
            <a:ext cx="763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Compilação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Simulação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Ver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4000" y="2548080"/>
          <a:ext cx="881064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548080"/>
                    <a:ext cx="881064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831960" y="169704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1440" y="184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8240" y="1565280"/>
            <a:ext cx="78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um Projeto com o Max+Plus 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89160" y="1774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B6BF-F7C5-462B-8B59-FB951F053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226692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 uma nova idéia em filosofia de computação, na qual algum agente de hardware de propósito geral é configurado para realizar uma tarefa específica, mas pode ser reconfigurado sob demanda para realizar outras tarefas especí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considerada um tipo de implementação (modelo ou paradigma) de solução intermediária, dentre as tradicionais soluções em hardware (hardware fixo - HF) e em software (hardware programável - HP+SW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6093000"/>
            <a:ext cx="7048440" cy="707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nte: REConfigurable Computing Definition. Disponível em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acm.uiuc.edu/sigarch/projects/reconf/report_1.html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6200" y="161460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utação Reconfigurável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574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0C67-2CD5-4A93-A686-C78B30B6EA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18960" y="2173320"/>
            <a:ext cx="75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esse tipo de computação pretende-se alcançar ou aproximar-se do desempenho das soluções implementadas em hardware fixo e da flexibilidade das soluções implementadas em software e hardware program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m do desempenho e da flexibilidade pode-se destacar outros fatores de motivação importantes com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, custo, generalidade, tolerância à falh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76200" y="173520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utação Reconfiguráve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57480" y="363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6832-BA97-453C-96AF-C369FD53F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3040" y="1812960"/>
            <a:ext cx="759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as gerações, de tecnologia de hardware, para projetos digit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 número de chips contendo portas bás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e 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nço tecnoló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tos mais complex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e circuitos de alta densidade, que em geral incluem dispositivos como controladores, contadores, registradores e decodificador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envolvimento de alternativas para obter flexibilidade em uma implementaçã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e módulos programáveis (utilizam portas básicas e permitem assim a implementaçã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igit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Estes módulos tem uma estrutura padrão e são personalizados para uma função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574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6D12-86A5-462C-A839-0AF7290FE4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9960" y="1676520"/>
            <a:ext cx="8477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752480"/>
            <a:ext cx="740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 tipos e classes de dispositivos programáveis (configuráveis) com capacidade de implementar funções lógic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LA (Programmable Logic Arra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grammable Array Logi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,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PLD'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mplex Programmable Logic Devic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PG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sk Programmable Gate Arra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PG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574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1F3B-5320-45DF-9AD8-1E49F047E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18960" y="179496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lta capacidade e a versatilidade dos dispositivos programáveis (Ex.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azem destes uma alternativa considerável a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IC'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Specific Integrated Circui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Integrados para Aplicações Específ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projeto de sistemas digitais (desde circuitos combinacionais simples até circuitos seqüenciais complexos, p.ex.: microprocessador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800360" cy="16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371600" y="5338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que fabrica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PG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XILINX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E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is vendidas), AT&amp;T, ACTEL, dentre outr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309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149F-F462-4184-A228-4301A9717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0660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612792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 de uma estrutura interna de um FPG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11200" y="1936800"/>
          <a:ext cx="73900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36800"/>
                    <a:ext cx="7390080" cy="4103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70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D1FE-1BBB-4318-B909-8E1AEB8EB3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76200" y="63453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 Estrutura do FPGA FLEX 10KE - Alt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04800" y="617400"/>
            <a:ext cx="7219800" cy="5695920"/>
            <a:chOff x="1504800" y="617400"/>
            <a:chExt cx="7219800" cy="56959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504800" y="617400"/>
              <a:ext cx="7219800" cy="569592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1504800" y="645840"/>
              <a:ext cx="6285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22F4-1097-4A43-8190-44253B767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78000" y="63831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 Estrutura do FPGA FLEX 10KE - Alt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430280" y="333360"/>
            <a:ext cx="7462800" cy="5913360"/>
            <a:chOff x="1430280" y="333360"/>
            <a:chExt cx="7462800" cy="5913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430280" y="333360"/>
              <a:ext cx="7462800" cy="591336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1430280" y="357120"/>
              <a:ext cx="60984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1F40-63B0-4A93-9E6D-FDBBBD63C3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58560" y="1628280"/>
            <a:ext cx="7677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 usual de Programação de FPGA: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DL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Description Language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linguagens de alto nível, semelhantes à linguagem C e PASCAL, que, a partir de instruções com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sei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finem o comportamento desejado para o circuito. Exemplo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y High Speed Integrated Circui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escritos nessas linguagens são compilados usando-se uma ferramenta que pode gerar os bits de configuração para um dispositivo específico. Exemplos de ambientes (ferramentas) para projeto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x+Plus I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Quartus 3.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6087960"/>
            <a:ext cx="78850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stem também ferramentas que, a partir da captura do esquemático, geram os bits de configuração de um dispositivo reconfiguráve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384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89E4-BC4F-47B3-A46F-FAACB27B21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55960" y="2246400"/>
            <a:ext cx="6019560" cy="4572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*********** ALU ***************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 = h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end  =  ena ?    a  :   0 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bend  =  enb ?    b  :   0 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invd = inva ? ~aend : aend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b = f==0 ?  ainvd &amp; bend 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==1 ? ~bend 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==2 ? ainvd | bend 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invd + bend + inc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37040" y="1636560"/>
            <a:ext cx="34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em Verilo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E5EA-4C18-49C6-98E6-53107EC30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cp:lastPrinted>2003-02-17T02:27:11Z</cp:lastPrinted>
  <dcterms:modified xsi:type="dcterms:W3CDTF">2007-10-31T13:47:15Z</dcterms:modified>
  <cp:revision>1256</cp:revision>
  <dc:subject/>
  <dc:title>Introdução à Computação</dc:title>
</cp:coreProperties>
</file>