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7.wmf" ContentType="image/x-wmf"/>
  <Override PartName="/ppt/media/image16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5.png" ContentType="image/png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775C-9F49-49A1-9015-1957B2C2A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E72C-E26D-4834-8329-7080C7135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698C-2362-4753-BFC8-CC9C51F10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EAE57-4732-4E27-9437-4A03B0DC8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FA8C5-595C-47F6-8484-583B39A0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2E714-FB2C-47B8-8053-4773BD6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8C129-0FA4-4C2B-9FEE-248C5831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E140-642C-4E9A-B262-C037A67B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97FFA-24BB-4FE8-8990-31F00C5C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E88EF-7196-437D-95D3-13838723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7625B-ACD2-4F44-8665-4F18937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F5FE-7925-4AA3-99CA-C56788A6E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AD5E-D353-4970-8419-94C1EC7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E440-654A-4BF1-BBCD-6AA4868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20566-2AC4-440A-AADA-9062B29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2F26C-A7AF-4B41-BE91-391AC31E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73B5E-1E52-4C9A-B1D5-7C7FBC43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3B99-8015-4C98-956D-43F54FA01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A15D-8AF9-47C7-B920-B6BB1FE78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5803-62A3-4285-A31C-29F844157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4F1A-922E-45C5-9E78-2903645D0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7041-4292-4017-8798-D9DD3E8A9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E565-840D-4EB6-AA4F-D8F1B5E83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D94B-52EC-4C1D-975C-DDDDCE409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166F-C837-4FDE-AE8A-4C6A98203E5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7000"/>
            <a:ext cx="1219320" cy="6885000"/>
            <a:chOff x="0" y="-27000"/>
            <a:chExt cx="1219320" cy="6885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219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219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2193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219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179280" y="5877000"/>
            <a:ext cx="863640" cy="907560"/>
            <a:chOff x="179280" y="587700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79280" y="660348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28120" y="616464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220680" y="587700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0640" y="61783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221040" y="588960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B639-FB41-4FC5-90CB-8DDD97C257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-27000"/>
            <a:ext cx="1618920" cy="6885000"/>
            <a:chOff x="0" y="-27000"/>
            <a:chExt cx="1618920" cy="688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16189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421000"/>
              <a:ext cx="1618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0" y="350028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0" y="4581360"/>
              <a:ext cx="1618920" cy="11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0" y="5734080"/>
              <a:ext cx="16189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324000" y="5950080"/>
            <a:ext cx="863280" cy="907560"/>
            <a:chOff x="324000" y="5950080"/>
            <a:chExt cx="863280" cy="907560"/>
          </a:xfrm>
        </p:grpSpPr>
        <p:sp>
          <p:nvSpPr>
            <p:cNvPr id="66" name=""/>
            <p:cNvSpPr/>
            <p:nvPr/>
          </p:nvSpPr>
          <p:spPr>
            <a:xfrm>
              <a:off x="324000" y="6676560"/>
              <a:ext cx="86328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2480" y="623772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364680" y="5950080"/>
              <a:ext cx="46980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5360" y="6251400"/>
              <a:ext cx="47088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657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1628280"/>
            <a:ext cx="6934320" cy="21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4290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Conceitos Básicos de Eletrônica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450440" y="17128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ndo-se os blocos do meio somador e do somador completo em série, pode-se, então, obter somadores de vários bit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ador de 2 números de m bits (m=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27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4840" y="6284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combinacional de média escala de integração (MSI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4508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55720" y="3465360"/>
            <a:ext cx="6858000" cy="2712960"/>
            <a:chOff x="1755720" y="3465360"/>
            <a:chExt cx="6858000" cy="2712960"/>
          </a:xfrm>
        </p:grpSpPr>
        <p:pic>
          <p:nvPicPr>
            <p:cNvPr id="166" name="somadorcompleobn+1" descr=""/>
            <p:cNvPicPr/>
            <p:nvPr/>
          </p:nvPicPr>
          <p:blipFill>
            <a:blip r:embed="rId1"/>
            <a:stretch/>
          </p:blipFill>
          <p:spPr>
            <a:xfrm>
              <a:off x="1755720" y="3465360"/>
              <a:ext cx="6858000" cy="2712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794200" y="5065560"/>
                  <a:ext cx="30492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3813120" y="5065560"/>
                  <a:ext cx="30456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1908000" y="5065560"/>
                  <a:ext cx="30492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3000" y="5065560"/>
                  <a:ext cx="30492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2517480" y="4303440"/>
                  <a:ext cx="27000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381200" y="4303440"/>
                  <a:ext cx="27000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6403680" y="4303440"/>
                  <a:ext cx="27000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E63A-4811-4311-903C-B27654B797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9600" y="236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400720" cy="4727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2622600" y="641664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A de 1 b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6021360"/>
            <a:ext cx="1295280" cy="43200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D56F-D4C3-46EA-A0D0-0049EC8D20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32000" y="1555920"/>
            <a:ext cx="74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 duas palavras que lhe são entregues na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933720"/>
            <a:ext cx="26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Comparador de 4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0" y="2803680"/>
            <a:ext cx="3892680" cy="37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0796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41D6-3E38-4BAF-893D-C461358011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371240" y="174096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itos combinacionais (MSI) que possue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nhas de entrada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nhas de saí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configuração de bits que aparece na entrada haverá uma e somente uma linha de saída ativa, definida conforme o padrão de bit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371600" y="2174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CC76-C302-4B33-BA6B-3E10B10CAE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419640" y="399960"/>
            <a:ext cx="5545080" cy="605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1285920" y="2424240"/>
            <a:ext cx="213372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odificador  3x8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B6E4-2D6D-4AD1-B03D-E82FDFE27B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160800" y="2421000"/>
          <a:ext cx="4155840" cy="26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0" y="2421000"/>
                    <a:ext cx="4155840" cy="2697120"/>
                  </a:xfrm>
                  <a:prstGeom prst="rect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407960" y="170028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Decodificador 3 x 8, com linha habilita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enabl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00320" y="5373720"/>
            <a:ext cx="7735680" cy="1099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 de aplicaçã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Decodificação de instruções  em uma UCP (Unidade Central de Processamento), servindo o código de operação como entrada do decodificador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7600" y="176040"/>
            <a:ext cx="78505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C439-46C6-427E-9829-25D7186096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11200" y="155736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ficador 2 x 4, usado na codificação de  endereç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5240" y="591984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 de aplicação: Decodificação de endereços para acesso à memória principal (RAM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5367240"/>
            <a:ext cx="79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de 1Kbyte usando 4 pastilhas de memória RAM de 256 x 8 bi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11200" y="2928960"/>
            <a:ext cx="7620120" cy="2289240"/>
            <a:chOff x="1411200" y="2928960"/>
            <a:chExt cx="7620120" cy="22892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1411200" y="2928960"/>
              <a:ext cx="7620120" cy="22892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6" name=""/>
            <p:cNvSpPr/>
            <p:nvPr/>
          </p:nvSpPr>
          <p:spPr>
            <a:xfrm>
              <a:off x="2892600" y="3781440"/>
              <a:ext cx="6188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9080" y="3614760"/>
              <a:ext cx="88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9880" y="3597120"/>
              <a:ext cx="60948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AM 256x8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185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FE52-C539-4FE5-B4BC-EF404464F6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55320" y="167004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ficad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x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sado na codificaçã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de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composta de 1Kbyte, organizada em 4 pastilhas de memória RAM de 256 x 8 bits c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endereço de memória é um número com 10 bits e, no caso, os 10 bits são divididos em du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 bits menos significativ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endereço do byte desejado de uma das 4 pastilh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bits mais significativ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mais à esquerda) – indicam a qual das 4 pastilhas se está referin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codificador 2 x 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tua na última parte, isto é, para indicar, pela sua única saída válida, qual a pastilha que está sendo localiz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407960" y="22212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F05D-67DE-46DD-A029-74FF9B8190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407960" y="18601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es – outr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ma grande parte dos sistemas digitais trabalha com níveis lógicos representando informações que, portanto, devem se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odific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vido à grande diversidade de informações e ao desenvolvimento da eletrônica digital, vários códigos foram criados (Código Gray, Código 2 em 5, Código em Anel, Código para acionament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, etc.) e, conseqüentemente, vários circuitos se fizeram necessários para a codificação e decodificação destas inform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40796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859B-3EFA-4AB1-8448-FDE70EDCBB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8920" y="163656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: Decodificador BCD - Display de 7 segment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335240" y="2322360"/>
            <a:ext cx="7315200" cy="4419360"/>
            <a:chOff x="1335240" y="2322360"/>
            <a:chExt cx="7315200" cy="4419360"/>
          </a:xfrm>
        </p:grpSpPr>
        <p:sp>
          <p:nvSpPr>
            <p:cNvPr id="206" name=""/>
            <p:cNvSpPr/>
            <p:nvPr/>
          </p:nvSpPr>
          <p:spPr>
            <a:xfrm>
              <a:off x="1335240" y="2322360"/>
              <a:ext cx="7315200" cy="4419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2783160" y="2550960"/>
            <a:ext cx="4267080" cy="685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83160" y="2550960"/>
                      <a:ext cx="42670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09" name="tab2" descr=""/>
            <p:cNvPicPr/>
            <p:nvPr/>
          </p:nvPicPr>
          <p:blipFill>
            <a:blip r:embed="rId3">
              <a:lum contrast="18000"/>
            </a:blip>
            <a:srcRect l="0" t="0" r="0" b="84502"/>
            <a:stretch/>
          </p:blipFill>
          <p:spPr>
            <a:xfrm>
              <a:off x="1945080" y="5675040"/>
              <a:ext cx="539100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7050240" y="3693960"/>
              <a:ext cx="125748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1716480" y="3389040"/>
              <a:ext cx="5398920" cy="22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112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44F0-8A06-4D03-A583-1CD46F102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202896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Exemplos de circuitos combinacionais usados no projeto de computado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a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plexadores/Demultiplex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dor/Verificador de P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71600" y="27612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E76F-0273-436E-8953-1C53239ACD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4925880" y="266760"/>
            <a:ext cx="4038480" cy="6347880"/>
            <a:chOff x="4925880" y="266760"/>
            <a:chExt cx="4038480" cy="6347880"/>
          </a:xfrm>
        </p:grpSpPr>
        <p:sp>
          <p:nvSpPr>
            <p:cNvPr id="214" name=""/>
            <p:cNvSpPr/>
            <p:nvPr/>
          </p:nvSpPr>
          <p:spPr>
            <a:xfrm>
              <a:off x="4925880" y="266760"/>
              <a:ext cx="4038480" cy="6324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rcRect l="0" t="0" r="23188" b="0"/>
            <a:stretch/>
          </p:blipFill>
          <p:spPr>
            <a:xfrm>
              <a:off x="4925880" y="317160"/>
              <a:ext cx="4038480" cy="629748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</p:grpSp>
      <p:sp>
        <p:nvSpPr>
          <p:cNvPr id="216" name=""/>
          <p:cNvSpPr/>
          <p:nvPr/>
        </p:nvSpPr>
        <p:spPr>
          <a:xfrm>
            <a:off x="925560" y="1371600"/>
            <a:ext cx="3924360" cy="459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23680" t="0" r="22670" b="0"/>
          <a:stretch/>
        </p:blipFill>
        <p:spPr>
          <a:xfrm>
            <a:off x="1001880" y="1523880"/>
            <a:ext cx="3951000" cy="459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54400" y="266760"/>
            <a:ext cx="26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ela-verdade e circuito lóg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44600" y="6172200"/>
            <a:ext cx="337176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.: A=w, B=x, C=y, D=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449440" y="15235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2741-115C-45A9-9B58-42D7C1E25B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186920" y="16606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ultiplexadores (MUX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circuitos combinacionais que têm a finalidade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leciona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través d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riáveis de sele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 su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ntra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conectando-a eletronicamente a su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única saí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 com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ntradas de dados, uma saída de dados e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adas de controle para efetuar a seleção de uma das entradas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004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mux1" descr=""/>
          <p:cNvPicPr/>
          <p:nvPr/>
        </p:nvPicPr>
        <p:blipFill>
          <a:blip r:embed="rId1"/>
          <a:stretch/>
        </p:blipFill>
        <p:spPr>
          <a:xfrm>
            <a:off x="3203640" y="4403880"/>
            <a:ext cx="4079880" cy="2330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339920" y="288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6B49-924A-466F-829E-575AABDD87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68520" y="3648240"/>
            <a:ext cx="7315200" cy="259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339560" y="1743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 de aplic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eleção de informações digitais para um determinado circuito; Seleção de informações digitais para serem transmitidas a um outro sistema digital; Serialização de informações de vários bits; Implementação de expressões boole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8880" y="6315120"/>
            <a:ext cx="518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X 2:1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498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mux2-1" descr=""/>
          <p:cNvPicPr/>
          <p:nvPr/>
        </p:nvPicPr>
        <p:blipFill>
          <a:blip r:embed="rId1"/>
          <a:stretch/>
        </p:blipFill>
        <p:spPr>
          <a:xfrm>
            <a:off x="4844880" y="4105440"/>
            <a:ext cx="381024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1873080" y="4181400"/>
          <a:ext cx="2667240" cy="1514520"/>
        </p:xfrm>
        <a:graphic>
          <a:graphicData uri="http://schemas.openxmlformats.org/drawingml/2006/table">
            <a:tbl>
              <a:tblPr/>
              <a:tblGrid>
                <a:gridCol w="1371600"/>
                <a:gridCol w="129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ável de seleçã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492200" y="218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A64D-2FEF-432A-892E-BD303E08F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95600" y="2279520"/>
            <a:ext cx="2762280" cy="1847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25760" y="2076480"/>
          <a:ext cx="3306600" cy="22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076480"/>
                    <a:ext cx="33066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657440" y="4965840"/>
            <a:ext cx="3143160" cy="1695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plicação de MUX na Construção de Circuitos Combina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576440" y="4276800"/>
          <a:ext cx="8388360" cy="26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276800"/>
                    <a:ext cx="83883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5435640" y="1844640"/>
          <a:ext cx="3398760" cy="4719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844640"/>
                    <a:ext cx="33987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886040" y="1631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ela-verda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19480" y="4260960"/>
            <a:ext cx="0" cy="2400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2050920"/>
            <a:ext cx="0" cy="2095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9A87-DD7F-40EB-887E-D10079C11FA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331640" y="168228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multiplexadores (DEMUX)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têm a finalidade 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leciona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través d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ariáveis de sele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qual de sua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aíd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eve receber a informação presente em su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única entrad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oteia o sinal presente em sua única linha de entrada para uma de suas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saídas, dependendo dos valores em suas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linhas de contro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demux1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4199040" cy="21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3320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C002-CE0E-4841-8839-3F465C3F67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479600" y="3689280"/>
            <a:ext cx="7315200" cy="2667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02920" y="1708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xemplos de aplic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eleção de circuitos que devem receber uma determinada informação digital; Conversão de informação serial em paralela; Recepção e demultiplexação de informações de forma compatível com o sistema de multiplex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70320" y="635652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UX 1:2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013120" y="4222800"/>
          <a:ext cx="3429000" cy="1569960"/>
        </p:xfrm>
        <a:graphic>
          <a:graphicData uri="http://schemas.openxmlformats.org/drawingml/2006/table">
            <a:tbl>
              <a:tblPr/>
              <a:tblGrid>
                <a:gridCol w="1371600"/>
                <a:gridCol w="914400"/>
                <a:gridCol w="1143000"/>
              </a:tblGrid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ável de seleçã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is de Saíd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465360" y="28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" name="demux1-2" descr=""/>
          <p:cNvPicPr/>
          <p:nvPr/>
        </p:nvPicPr>
        <p:blipFill>
          <a:blip r:embed="rId1"/>
          <a:srcRect l="0" t="0" r="13222" b="0"/>
          <a:stretch/>
        </p:blipFill>
        <p:spPr>
          <a:xfrm>
            <a:off x="5823000" y="3841920"/>
            <a:ext cx="2819520" cy="2392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8C24-E740-40A1-A6C1-101018A545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685880" y="4908600"/>
            <a:ext cx="7010280" cy="137160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380600" y="1784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dor/verificador de Par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ste n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créscimo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um bit à informação (de tamanho pré-definido) chamado </a:t>
            </a: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it de paridade (Bp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Seu valor depen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 número de bits em “1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a informação original e 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ipo de par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m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canismo de segurança de dados binários de simples  implementação, muito utilizado no armazenamento de informação e na comunicação entre siste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74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914480" y="5060880"/>
            <a:ext cx="6553080" cy="1084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45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9534-E362-41E9-A1B6-DA0FB90E33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92200" y="260280"/>
            <a:ext cx="73152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3600" y="1708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Aritméticos da 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ra somar dois números, soma-se os algarismos dos números, coluna a coluna, transportando o "vai um" para a próxima coluna, quando for o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çã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oma em complemento  (A - B = A + ( - B)) - No computador, a subtração é feita através de uma soma em comple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ode ser obtida de duas formas: por somas sucessivas (por exemplo, A + A = 2A) e pela movimentação de bits (para a esquerd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mesmas propriedades da multiplicação, aplicadas no sentido contrá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F6AA-0AA8-45E8-86C6-913584E8E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446800" y="4459320"/>
            <a:ext cx="312408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32000" y="1487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adores Biná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99080" y="4764240"/>
                <a:ext cx="274500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979960" y="5602320"/>
            <a:ext cx="24386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5080" y="4611600"/>
            <a:ext cx="457200" cy="1676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7960" y="4240080"/>
            <a:ext cx="4267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Somadores  genéricos: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io somado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half add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ador comple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full add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1560" y="4611600"/>
            <a:ext cx="533520" cy="1676520"/>
          </a:xfrm>
          <a:prstGeom prst="ellipse">
            <a:avLst/>
          </a:prstGeom>
          <a:noFill/>
          <a:ln cap="sq"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7960" y="1792440"/>
            <a:ext cx="7543800" cy="8859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computador pode realizar todas as operações aritméticas usando apenas somas!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07960" y="115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5560" y="35449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de dois números (A e B) de n b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1365-0039-477E-87D7-81509CF5CE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58560" y="174096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ipos de somadores genér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io Som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alf add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 - não tem “vem um”, utilizado na soma de números de apenas 1 bit ou quando a parcela do número é a de menor orde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ador Comple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ull add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 - considera o “vem um” da parcela anterior, utilizado para somar todas as parcelas do número com exceção das de menor ord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35240" y="2174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5C69-9BCE-46C5-8970-93F706D1AB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3880" y="4657680"/>
            <a:ext cx="6858000" cy="1828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13000" y="1762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ircuito Meio Somado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alf Ad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A DOIS BITS (sem levar em conta bit de car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- os dois bits a serem somados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ída - a soma dos bits e o bit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rry ou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"vai um")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19720" y="397188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  e 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51480" y="4886280"/>
                <a:ext cx="29401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 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70200" y="4809960"/>
            <a:ext cx="3429000" cy="1714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413000" y="314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13AB-6B09-49FD-A37C-4A3E74A380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03280" y="25509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Lógico do Meio Somad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4920" y="30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31880" y="5446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Bloco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88000" y="5222880"/>
            <a:ext cx="2666880" cy="1519200"/>
            <a:chOff x="4788000" y="5222880"/>
            <a:chExt cx="2666880" cy="1519200"/>
          </a:xfrm>
        </p:grpSpPr>
        <p:pic>
          <p:nvPicPr>
            <p:cNvPr id="138" name="meiosomadorbloco" descr=""/>
            <p:cNvPicPr/>
            <p:nvPr/>
          </p:nvPicPr>
          <p:blipFill>
            <a:blip r:embed="rId1"/>
            <a:stretch/>
          </p:blipFill>
          <p:spPr>
            <a:xfrm>
              <a:off x="4788000" y="5222880"/>
              <a:ext cx="2666880" cy="1519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6388200" y="6213600"/>
                  <a:ext cx="30456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26496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46480" y="1712880"/>
            <a:ext cx="4168800" cy="33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424C-1421-4199-AFC5-F667561DD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32000" y="4222800"/>
            <a:ext cx="7543800" cy="2590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167004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Circuito Somador Completo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ull Ad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MA DOIS BITS (considerando na soma o bit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ry i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que veio da soma anteri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ntrada - 2 bits a serem somados e o bit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ry i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aída - a soma dos bits e o bit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arry ou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440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00480" y="366696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   e   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3688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522760" y="4581360"/>
                <a:ext cx="289116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⊕</m:t>
                        </m:r>
                        <m:r>
                          <m:rPr>
                            <m:lit/>
                            <m:nor/>
                          </m:rPr>
                          <m:t xml:space="preserve">Ci                    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 C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 Ci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36560" y="4281480"/>
            <a:ext cx="3657600" cy="2532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407960" y="23796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800" y="5114880"/>
            <a:ext cx="30668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6858-60F0-496E-8D02-83CB6B444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84280" y="23986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Lógico do Somador Comple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5446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Bloco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59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31960" y="266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79760" y="5218200"/>
            <a:ext cx="2743200" cy="1569960"/>
            <a:chOff x="4379760" y="5218200"/>
            <a:chExt cx="2743200" cy="1569960"/>
          </a:xfrm>
        </p:grpSpPr>
        <p:pic>
          <p:nvPicPr>
            <p:cNvPr id="156" name="somadorcompletobloco" descr=""/>
            <p:cNvPicPr/>
            <p:nvPr/>
          </p:nvPicPr>
          <p:blipFill>
            <a:blip r:embed="rId1"/>
            <a:stretch/>
          </p:blipFill>
          <p:spPr>
            <a:xfrm>
              <a:off x="4379760" y="5218200"/>
              <a:ext cx="2743200" cy="1569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979960" y="6284880"/>
                  <a:ext cx="304560" cy="2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217840" y="6361200"/>
                  <a:ext cx="27000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796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Aplicações de Circuitos Combinaciona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227480" y="1636560"/>
            <a:ext cx="3733920" cy="339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06F1-9819-4B7B-AA16-001839AD6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USE</cp:lastModifiedBy>
  <cp:lastPrinted>2003-02-24T01:53:22Z</cp:lastPrinted>
  <dcterms:modified xsi:type="dcterms:W3CDTF">2008-03-10T22:50:40Z</dcterms:modified>
  <cp:revision>1201</cp:revision>
  <dc:subject/>
  <dc:title>Introdução à Computação</dc:title>
</cp:coreProperties>
</file>