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3ED3-5AFA-4022-82C2-82C39401B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4239-5FB8-43E8-91CB-3B6D41773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72A0-ADEE-4C57-979E-50A8DB33B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9973-609E-4AC9-B6CD-F5901025C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771A3-544E-4C02-B513-92991292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D3B58-3A7A-4234-B432-58CAEF5E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DD162-73A9-4446-94F0-4342CC96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68374-F156-4C48-B293-5855BC2F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8DD51-F23A-4E2E-91C0-51B5D946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D180C-2484-424B-B61A-635DF980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CD236-0E2E-42DD-BAE0-497587A0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1D66-34D5-481A-8E4A-5F7A1B54B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6C6AC-F9B4-4390-9D95-45E4B46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EB3CB-D6F2-4039-8DAC-07A7AE5D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E960D-40B0-4ECB-9FB1-40243696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7258F-F431-4D96-93C4-D1F04041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626B4-6463-449F-893F-81CCAC8D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B20E-7DD5-49B5-8FF5-7A749352B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38F1-FD4C-4E91-A3FA-30946D994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3E50-4127-4172-84FA-63E3F0340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C6B9-674A-43D2-BBB5-4AF22D542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A935-EAAA-40ED-AABF-21F390A1C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7F04-D3A7-45B7-8AFE-441FE746F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0EFE-C49C-4843-9C91-5A583FB4F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DFC3-3D1C-40BB-848E-0EDAABA1B34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-27000"/>
            <a:ext cx="1219320" cy="6885000"/>
            <a:chOff x="0" y="-27000"/>
            <a:chExt cx="1219320" cy="6885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1219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1219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0" y="2421000"/>
              <a:ext cx="12193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0" y="3500280"/>
              <a:ext cx="12193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0" y="4581360"/>
              <a:ext cx="12193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0" y="5734080"/>
              <a:ext cx="12193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252360" y="5877000"/>
            <a:ext cx="863640" cy="907560"/>
            <a:chOff x="252360" y="5877000"/>
            <a:chExt cx="863640" cy="907560"/>
          </a:xfrm>
        </p:grpSpPr>
        <p:sp>
          <p:nvSpPr>
            <p:cNvPr id="12" name=""/>
            <p:cNvSpPr/>
            <p:nvPr/>
          </p:nvSpPr>
          <p:spPr>
            <a:xfrm>
              <a:off x="252360" y="660348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1200" y="616464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293760" y="587700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03720" y="617832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294120" y="588960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31B8-8A62-42F2-A55B-3B5F696E927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-27000"/>
            <a:ext cx="1618920" cy="6885000"/>
            <a:chOff x="0" y="-27000"/>
            <a:chExt cx="1618920" cy="68850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2421000"/>
              <a:ext cx="1618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0" y="350028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0" y="458136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0" y="5734080"/>
              <a:ext cx="16189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395280" y="5950080"/>
            <a:ext cx="863640" cy="907560"/>
            <a:chOff x="395280" y="5950080"/>
            <a:chExt cx="863640" cy="907560"/>
          </a:xfrm>
        </p:grpSpPr>
        <p:sp>
          <p:nvSpPr>
            <p:cNvPr id="66" name=""/>
            <p:cNvSpPr/>
            <p:nvPr/>
          </p:nvSpPr>
          <p:spPr>
            <a:xfrm>
              <a:off x="39528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4412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43704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664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740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16002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57040" y="34290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onceitos Básicos de Eletrônic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073480" y="2724120"/>
            <a:ext cx="3505320" cy="990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26360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du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Fun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A DE PRODU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DUTO DE SO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oma de produ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OR d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initerm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levam a saída para “1” (método mais utiliza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duto de somas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ND d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xiterm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levam a saída para “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492200" y="28548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Tabela-Verdade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Expressão Lógic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302080" y="2724120"/>
                <a:ext cx="2597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149800" y="3181320"/>
                <a:ext cx="3311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4F87-5010-4F10-A75E-5EDC2164C0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9320" y="1860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Miniterm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funçã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as variáveis de ent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ariável de entrada é “1”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função AND dir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ariável de entrada é “0”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função AND negada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tomando o exemplo (Alarm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4299120"/>
            <a:ext cx="739116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451400"/>
          <a:ext cx="4038480" cy="2249280"/>
        </p:xfrm>
        <a:graphic>
          <a:graphicData uri="http://schemas.openxmlformats.org/drawingml/2006/table">
            <a:tbl>
              <a:tblPr/>
              <a:tblGrid>
                <a:gridCol w="761760"/>
                <a:gridCol w="838440"/>
                <a:gridCol w="761760"/>
                <a:gridCol w="167652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termo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91120" y="4908600"/>
                <a:ext cx="1114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191120" y="5365800"/>
                <a:ext cx="1114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191120" y="5823000"/>
                <a:ext cx="11412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389480" y="6280200"/>
                <a:ext cx="869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019920" y="4984920"/>
                <a:ext cx="2554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447560" y="2599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Tabela-Verdade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Expressão Lógic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19DE-81D8-444F-A5F5-BE0D08969A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49880" y="2846520"/>
            <a:ext cx="2743200" cy="609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272960" y="1703160"/>
            <a:ext cx="7391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tido de forma direta, a partir da expressão lógic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omando o exemplo (Alar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501560" y="25524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xpressão Lógica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Circuito Lógic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226200" y="2922480"/>
                <a:ext cx="25909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 flipV="1">
            <a:off x="6454800" y="543708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30520" y="3684600"/>
            <a:ext cx="6476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59120" y="3913200"/>
            <a:ext cx="5790960" cy="2590920"/>
            <a:chOff x="1959120" y="3913200"/>
            <a:chExt cx="5790960" cy="2590920"/>
          </a:xfrm>
        </p:grpSpPr>
        <p:sp>
          <p:nvSpPr>
            <p:cNvPr id="216" name=""/>
            <p:cNvSpPr/>
            <p:nvPr/>
          </p:nvSpPr>
          <p:spPr>
            <a:xfrm>
              <a:off x="1959120" y="3913200"/>
              <a:ext cx="5790960" cy="2590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3679920" y="4218120"/>
              <a:ext cx="132696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3679920" y="4956120"/>
              <a:ext cx="13269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3679920" y="5756400"/>
              <a:ext cx="132696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2841480" y="4280040"/>
              <a:ext cx="41292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2841480" y="4525920"/>
              <a:ext cx="41292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260880" y="4402080"/>
              <a:ext cx="679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91040" y="4648320"/>
              <a:ext cx="749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30720" y="4402080"/>
              <a:ext cx="0" cy="739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330360" y="514188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701800" y="5388120"/>
              <a:ext cx="1238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701800" y="4647960"/>
              <a:ext cx="0" cy="739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492280" y="4648320"/>
              <a:ext cx="457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492280" y="4402080"/>
              <a:ext cx="457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62120" y="4402080"/>
              <a:ext cx="0" cy="1540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562120" y="5942160"/>
              <a:ext cx="1378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70400" y="4648320"/>
              <a:ext cx="0" cy="15397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70040" y="6188040"/>
              <a:ext cx="469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78280" y="5264280"/>
              <a:ext cx="1416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8280" y="4525920"/>
              <a:ext cx="927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78280" y="6064200"/>
              <a:ext cx="927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05640" y="5447880"/>
              <a:ext cx="0" cy="61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05640" y="4525920"/>
              <a:ext cx="0" cy="61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05640" y="5448240"/>
              <a:ext cx="749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05640" y="5141880"/>
              <a:ext cx="749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6"/>
            <a:stretch/>
          </p:blipFill>
          <p:spPr>
            <a:xfrm>
              <a:off x="6124680" y="4772160"/>
              <a:ext cx="139680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124680" y="5202360"/>
              <a:ext cx="2095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4680" y="5264280"/>
              <a:ext cx="279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11400" y="4141800"/>
              <a:ext cx="457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92880" y="4827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9B37-8C25-4AC8-B187-A551A3673A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219320" y="1860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circuito obtido NÃO É o mais simp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mplificaçã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udo das Regras Básicas da Álgebra de Bo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368928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eeb00b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447560" y="2599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xpressão Lógica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 Circuito Lógic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131B-0980-4FEC-9694-7D1A78243F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9880" y="1606680"/>
            <a:ext cx="4343400" cy="5181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234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Álgebra de Boole </a:t>
            </a:r>
            <a:r>
              <a:rPr b="1" lang="pt-BR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 Simplificação de Circuitos 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305424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Básicas da Álgebra de Boo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86200" y="1758960"/>
            <a:ext cx="4240080" cy="5126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500720" y="358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869000" y="6315120"/>
                <a:ext cx="225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858000" y="6330960"/>
                <a:ext cx="225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88CE-D7BC-4F90-ADCF-B35D22156F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429000" y="87480"/>
            <a:ext cx="5105520" cy="60195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267804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ras Básicas da Álgebra de Boo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657600" y="239760"/>
          <a:ext cx="4648320" cy="333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39760"/>
                    <a:ext cx="4648320" cy="33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505320" y="3363840"/>
          <a:ext cx="4952880" cy="288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63840"/>
                    <a:ext cx="495288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19320" y="6093000"/>
            <a:ext cx="7543800" cy="764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implificação também pode ser feita rapidamente utilizando-se o Mapa de Veitch-Karnaugh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91F5-2734-491F-8886-8D8DB0372C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84280" y="3260880"/>
            <a:ext cx="7315200" cy="259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25568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ha a expressão lógica simplificada e o circuito lógico correspondente para o exemplo do Ala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407960" y="212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Álgebra de Boole </a:t>
            </a:r>
            <a:r>
              <a:rPr b="1" lang="pt-BR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 Simplificação de Circuitos 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865160" y="3413160"/>
                <a:ext cx="2286000" cy="22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789200" y="5241960"/>
            <a:ext cx="1066680" cy="457200"/>
          </a:xfrm>
          <a:prstGeom prst="rect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608360" y="3946680"/>
            <a:ext cx="3886200" cy="1315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885080" y="425124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51560" y="4251240"/>
            <a:ext cx="5335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75600" y="41752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=A.B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56480" y="4175280"/>
            <a:ext cx="380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4CFA-4010-45A5-ABF4-6B5E4834FA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19920" y="1965240"/>
            <a:ext cx="2743200" cy="4343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212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Álgebra de Boole </a:t>
            </a:r>
            <a:r>
              <a:rPr b="1" lang="pt-BR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 Simplificação de Circuitos 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18960" y="21178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rcíc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uponha que um circuito digital é descrito pela tabela ao lad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ha o que se pe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ão lógica correspond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o lógico correspond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ão lógica simplifica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o lógico correspondente à expressão simplific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172200" y="2117880"/>
          <a:ext cx="2438280" cy="40636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480"/>
                <a:gridCol w="609840"/>
              </a:tblGrid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88D5-D9EB-467A-8B89-8DDE821158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239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979640" y="2781360"/>
          <a:ext cx="6175440" cy="32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81360"/>
                    <a:ext cx="6175440" cy="32414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1378440" y="1535040"/>
            <a:ext cx="492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e de Bombeamento de Águ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206856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desenho a seguir mostra um processo simples para encher uma caixa d´água de um rio próxim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8920" y="60404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2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sensores de nível alto (H) e de nível baixo (L) são utilizados para determinar o acionamento da bomba (B) e do alarme (A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5E78-8833-483C-969B-F3C6F8DA76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64280" y="1784520"/>
            <a:ext cx="65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abela-Verdade    e     Expressões Lógic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2546280"/>
            <a:ext cx="6400800" cy="3810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828800" y="2546280"/>
          <a:ext cx="6019920" cy="27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46280"/>
                    <a:ext cx="601992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666880" y="5365800"/>
                <a:ext cx="182880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867280" y="5289480"/>
                <a:ext cx="20811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4876920" y="5518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FC40-8596-404F-BD58-86B463267B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560" y="16160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Álgebra de Boole é empregada no projeto de circuitos digitais, pa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nális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 é um método prático e econômico de descrever as funções de um circuito digital e, consequentemente, seu funciona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oje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ao identificar a função a ser realizada por um circuito, a álgebra de Boole pode ser aplicada para simplificar sua descrição e, assim, também sua implement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35240" y="244080"/>
            <a:ext cx="54100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Circuitos Digitais - Álgebra de Boo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5445000"/>
            <a:ext cx="7634160" cy="1191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antagem de se utilizar a álgebra de Boole como fundamento é que se pode efetuar, inicialmente, toda a análise matemática do problema lógico antes da construção do circuito digital. Ela serve como suporte para a construção de um sistema digita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A9A7-F561-4CCD-AE5D-C600E2CF20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371240" y="1712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o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648320" y="1941480"/>
          <a:ext cx="368460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41480"/>
                    <a:ext cx="3684600" cy="1368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600200" y="3846600"/>
          <a:ext cx="696744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46600"/>
                    <a:ext cx="6967440" cy="2781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6BB8-D735-4035-8DBC-C7D771EADA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371240" y="15606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o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648320" y="1789200"/>
          <a:ext cx="320040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9200"/>
                    <a:ext cx="3200400" cy="1593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666880" y="3693960"/>
          <a:ext cx="525312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693960"/>
                    <a:ext cx="5253120" cy="31338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6555-8436-4A48-9E73-46EACE0091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332000" y="208440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rcíci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A figura ao lado mostra de forma esquemática a conexão de 4 computadores de uma determinada empresa a uma única impressora. Esta conexão é feita através de u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ito de contr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922560" y="1932120"/>
          <a:ext cx="498024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2560" y="1932120"/>
                    <a:ext cx="4980240" cy="452124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407960" y="179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7805-9E38-480B-A1D6-2E805CA7C2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371240" y="199080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a expressão que descreve o funcionamento 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ito de contr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etermine também o circuito lógico e a montagem correspondentes à expressão simplificada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m ser obedecidas às seguintes priori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dor do setor administrativo (ADM) – 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or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dor do setor pessoal (PES) – 2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or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dor do setor de engenharia (ENG) – 3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or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dor do setor de vendas (VEN) – 4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or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1371600" y="161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s de Aplicação de         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D254-5C4E-4CE8-8B60-634CC270F3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60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ircuitos digitais podem ser classificados 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s Combi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s Seqü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18960" y="28548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ção dos Circuitos Digi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F4E1-0C1F-411B-8302-2AE5D5F2B7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95280" y="188604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CIONA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a saída é função dos valores de entrada correntes; esses circuitos não têm capacidade de armazena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s de funções que pode realizar em um computad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perações matemáticas e controle do fluxo dos sin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218960" y="2091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ção dos Circuitos Digi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981080" y="3257640"/>
          <a:ext cx="601992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57640"/>
                    <a:ext cx="6019920" cy="1814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0A3E-968C-48EB-BEC8-D92D3060B3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18960" y="167004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QÜENCIA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a saída é função dos valores de entrada correntes e dos valores de entrada no instante anterior; é usado para a construção de circuitos de memória (elemento básico: "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 de função que pode realizar em um computad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rmazenament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63640" y="2997360"/>
          <a:ext cx="4191120" cy="28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97360"/>
                    <a:ext cx="4191120" cy="28605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400800" y="2889360"/>
            <a:ext cx="2438280" cy="2438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riosidade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IP em inglês pode significar “atirar ao alto” e FLOP pode significar “queda repentina”. Assim, o dispositivo sendo biestável (possui dois estados lógicos estáveis) pode ser levado ao alto (FLIP), ou ser forçado a voltar repentinamente ao estado baixo (FLOP)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18960" y="1458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ção dos Circuitos Digi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D80C-2505-47C7-A2DD-D08B70E62F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246240"/>
            <a:ext cx="79246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Projeto de um </a:t>
            </a:r>
            <a:br>
              <a:rPr sz="3400"/>
            </a:b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Circuito Combinaci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3141360"/>
            <a:ext cx="75438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Seqüência de operaçõ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terminar todas as variáveis de entra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terminar todas as variáveis de saí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partir da combinação das variáveis de entrada, montar a tabela-verdade para cada saí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ter, a partir da tabela-verdade, 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pressão boolean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cada saí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plementar, a partir da expressão booleana, o circuito combinacional correspond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71600" y="1846440"/>
            <a:ext cx="7575480" cy="822240"/>
            <a:chOff x="1371600" y="1846440"/>
            <a:chExt cx="7575480" cy="822240"/>
          </a:xfrm>
        </p:grpSpPr>
        <p:sp>
          <p:nvSpPr>
            <p:cNvPr id="128" name=""/>
            <p:cNvSpPr/>
            <p:nvPr/>
          </p:nvSpPr>
          <p:spPr>
            <a:xfrm>
              <a:off x="1371600" y="1846440"/>
              <a:ext cx="151776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00120" y="1981800"/>
              <a:ext cx="1260720" cy="5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0200" y="213228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TUAÇÃ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9400" y="1846440"/>
              <a:ext cx="151920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080" y="1846440"/>
              <a:ext cx="151776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27880" y="1846440"/>
              <a:ext cx="1519200" cy="82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17920" y="1981800"/>
              <a:ext cx="1262160" cy="5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77840" y="2050200"/>
              <a:ext cx="876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BELA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19160" y="2272320"/>
              <a:ext cx="99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RDADE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38960" y="1981800"/>
              <a:ext cx="1384200" cy="5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0920" y="2132280"/>
              <a:ext cx="126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RESSÃ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56400" y="1981800"/>
              <a:ext cx="1262160" cy="5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55840" y="21412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IRCUI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886120" y="2180160"/>
              <a:ext cx="502920" cy="148320"/>
              <a:chOff x="2886120" y="2180160"/>
              <a:chExt cx="502920" cy="148320"/>
            </a:xfrm>
          </p:grpSpPr>
          <p:sp>
            <p:nvSpPr>
              <p:cNvPr id="142" name=""/>
              <p:cNvSpPr/>
              <p:nvPr/>
            </p:nvSpPr>
            <p:spPr>
              <a:xfrm>
                <a:off x="2886120" y="2252520"/>
                <a:ext cx="371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520" y="2180160"/>
                <a:ext cx="137520" cy="148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905360" y="2180160"/>
              <a:ext cx="504360" cy="148320"/>
              <a:chOff x="4905360" y="2180160"/>
              <a:chExt cx="504360" cy="148320"/>
            </a:xfrm>
          </p:grpSpPr>
          <p:sp>
            <p:nvSpPr>
              <p:cNvPr id="145" name=""/>
              <p:cNvSpPr/>
              <p:nvPr/>
            </p:nvSpPr>
            <p:spPr>
              <a:xfrm>
                <a:off x="4905360" y="2252520"/>
                <a:ext cx="37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71480" y="2180160"/>
                <a:ext cx="138240" cy="148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923160" y="2180160"/>
              <a:ext cx="504360" cy="148320"/>
              <a:chOff x="6923160" y="2180160"/>
              <a:chExt cx="504360" cy="148320"/>
            </a:xfrm>
          </p:grpSpPr>
          <p:sp>
            <p:nvSpPr>
              <p:cNvPr id="148" name=""/>
              <p:cNvSpPr/>
              <p:nvPr/>
            </p:nvSpPr>
            <p:spPr>
              <a:xfrm>
                <a:off x="6923160" y="2252520"/>
                <a:ext cx="37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89280" y="2180160"/>
                <a:ext cx="138240" cy="148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32C9-EFFA-46A6-AAF5-813BDA5489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19320" y="181296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e um sistema de segurança de uma loja em um shoppin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á um sensor de contato que, ligado,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, indica que a porta está fechad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sensor infravermelho que, ligado, indica que não há pessoas ou coisas se movendo no interior da loj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á, também, um alarme que é acionado quando um dos dois sensores é desligado. Isto é, basta um único sensor ser desativado para soar o alar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termine a expressão lógica e o circuito correspondentes deste sist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18960" y="2124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Projeto de um </a:t>
            </a:r>
            <a:br>
              <a:rPr sz="3400"/>
            </a:b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Circuito Combinaci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9D36-E896-403B-9F44-40EC66C6C3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32000" y="171288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Tabela-Ver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"sensor de contato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= "sensor infravermelho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= “alarm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56280" y="2398680"/>
            <a:ext cx="1904760" cy="2590920"/>
            <a:chOff x="6056280" y="2398680"/>
            <a:chExt cx="1904760" cy="2590920"/>
          </a:xfrm>
        </p:grpSpPr>
        <p:sp>
          <p:nvSpPr>
            <p:cNvPr id="154" name=""/>
            <p:cNvSpPr/>
            <p:nvPr/>
          </p:nvSpPr>
          <p:spPr>
            <a:xfrm>
              <a:off x="6056280" y="2398680"/>
              <a:ext cx="1904760" cy="2590920"/>
            </a:xfrm>
            <a:prstGeom prst="rect">
              <a:avLst/>
            </a:prstGeom>
            <a:solidFill>
              <a:srgbClr val="ffffff"/>
            </a:solidFill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207120" y="2523960"/>
              <a:ext cx="1603080" cy="2338560"/>
              <a:chOff x="6207120" y="2523960"/>
              <a:chExt cx="1603080" cy="2338560"/>
            </a:xfrm>
          </p:grpSpPr>
          <p:sp>
            <p:nvSpPr>
              <p:cNvPr id="156" name=""/>
              <p:cNvSpPr/>
              <p:nvPr/>
            </p:nvSpPr>
            <p:spPr>
              <a:xfrm>
                <a:off x="7309440" y="4419720"/>
                <a:ext cx="50076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07880" y="4419720"/>
                <a:ext cx="60120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207120" y="4419720"/>
                <a:ext cx="500760" cy="44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309440" y="3914280"/>
                <a:ext cx="5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07880" y="3914280"/>
                <a:ext cx="601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07120" y="3914280"/>
                <a:ext cx="5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09440" y="3408840"/>
                <a:ext cx="5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07880" y="3408840"/>
                <a:ext cx="601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07120" y="3408840"/>
                <a:ext cx="5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309440" y="2987640"/>
                <a:ext cx="5007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7880" y="2987640"/>
                <a:ext cx="60120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07120" y="2987640"/>
                <a:ext cx="5007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09440" y="2523960"/>
                <a:ext cx="500760" cy="4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707880" y="2523960"/>
                <a:ext cx="601200" cy="4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207120" y="2523960"/>
                <a:ext cx="500760" cy="46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207120" y="252396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07120" y="298764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07120" y="340884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07120" y="391428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07120" y="441972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07120" y="4862520"/>
                <a:ext cx="16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07120" y="2523960"/>
                <a:ext cx="0" cy="463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707880" y="2523960"/>
                <a:ext cx="0" cy="233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09440" y="2523960"/>
                <a:ext cx="0" cy="233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10200" y="2523960"/>
                <a:ext cx="0" cy="463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07120" y="2987640"/>
                <a:ext cx="0" cy="421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10200" y="2987640"/>
                <a:ext cx="0" cy="421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07120" y="3408840"/>
                <a:ext cx="0" cy="50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810200" y="3408840"/>
                <a:ext cx="0" cy="50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207120" y="3914280"/>
                <a:ext cx="0" cy="50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0200" y="3914280"/>
                <a:ext cx="0" cy="505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07120" y="4419720"/>
                <a:ext cx="0" cy="442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10200" y="4419720"/>
                <a:ext cx="0" cy="442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1560600" y="5827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o obter a expressão lógica e o circuito correspondent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20000">
            <a:off x="1937160" y="4612320"/>
            <a:ext cx="1760400" cy="533520"/>
          </a:xfrm>
          <a:custGeom>
            <a:avLst/>
            <a:gdLst>
              <a:gd name="textAreaLeft" fmla="*/ 275040 w 1760400"/>
              <a:gd name="textAreaRight" fmla="*/ 1540440 w 1760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7940400">
            <a:off x="4345920" y="4825800"/>
            <a:ext cx="1828800" cy="45396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3400 h 453960"/>
              <a:gd name="textAreaBottom" fmla="*/ 340560 h 453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255320" y="18864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Projeto de um </a:t>
            </a:r>
            <a:br>
              <a:rPr sz="3400"/>
            </a:b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Circuito Combinaci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B4F0A-3B1A-40D8-9E7B-CFCCCFA5FD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326960" y="1956960"/>
            <a:ext cx="739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 circuito lógico executa uma expressão booleana, formado pela interligação das portas lóg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pressão lóg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screve uma função ou uma operação a ser concretizada por um sistema lógico (circuito eletrônico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etc), de forma a resolver um determinado proble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á visto como ob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pressões a partir da tabela-verdade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ircuitos a partir de expressõ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326960" y="28080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Projeto de um </a:t>
            </a:r>
            <a:br>
              <a:rPr sz="3400"/>
            </a:br>
            <a:r>
              <a:rPr b="1" lang="pt-BR" sz="3400" spc="-1" strike="noStrike">
                <a:solidFill>
                  <a:srgbClr val="000000"/>
                </a:solidFill>
                <a:latin typeface="Tahoma"/>
              </a:rPr>
              <a:t>Circuito Combinaci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DDC9-4F0B-45EB-B0DE-661D1FD932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cp:lastPrinted>2003-02-17T02:27:11Z</cp:lastPrinted>
  <dcterms:modified xsi:type="dcterms:W3CDTF">2007-10-17T13:42:59Z</dcterms:modified>
  <cp:revision>1102</cp:revision>
  <dc:subject/>
  <dc:title>Introdução à Computação</dc:title>
</cp:coreProperties>
</file>