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8C70-783F-41FB-8070-706AE03B0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E249D-91A9-4EA5-9346-BF0CE34C3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07961-F3FE-475C-9143-9A857FDD5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021E-FF6C-4841-8B64-E9E1191C5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21CB6-70A1-4969-B062-E7E9730A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22942-2A00-4C91-A101-1D0D6E01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EEE5E-14BF-4608-AD6B-FE30143E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3598D-F586-4D3E-83EB-BFFBF964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68736-EF32-4DB4-ADAD-7F2CAF8A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BB58B-DD24-4903-A6B9-BC382139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E807D-4467-4AB7-B33E-D5F2E7B0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23A04-4206-4D01-A7A8-3F8B16563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93CE5-1FE5-40E5-BC7D-6AFC39B9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CE30E-201F-4650-95FC-DF285AF4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092FC-9BED-4180-B394-16F0B9D2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A281C-23C0-4D65-A77A-5A282B84F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ABFCE-B07C-4245-A46F-5E41B005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22D0E-2E66-49FA-BE76-A3DA734D1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CDFE-1B10-470A-AF67-574D09160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E3B32-3D00-49C9-9C73-34566FCDE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2BE1F-9957-4925-8648-01D055ECB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51A77-9601-4A76-B220-6C1FCED42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DA53F-C831-4DC7-AD19-1F094DE5B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3F343-9B02-4179-8499-A6AA1F59D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4120-FD5B-41B6-9474-4BBA597DFFD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20600" y="5950080"/>
            <a:ext cx="863640" cy="907560"/>
            <a:chOff x="120600" y="5950080"/>
            <a:chExt cx="863640" cy="907560"/>
          </a:xfrm>
        </p:grpSpPr>
        <p:sp>
          <p:nvSpPr>
            <p:cNvPr id="4" name=""/>
            <p:cNvSpPr/>
            <p:nvPr/>
          </p:nvSpPr>
          <p:spPr>
            <a:xfrm>
              <a:off x="120600" y="667656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69440" y="623772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flipV="1">
              <a:off x="162000" y="595008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71960" y="625140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16236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0"/>
            <a:ext cx="1143000" cy="6857640"/>
            <a:chOff x="0" y="0"/>
            <a:chExt cx="1143000" cy="6857640"/>
          </a:xfrm>
        </p:grpSpPr>
        <p:grpSp>
          <p:nvGrpSpPr>
            <p:cNvPr id="11" name=""/>
            <p:cNvGrpSpPr/>
            <p:nvPr/>
          </p:nvGrpSpPr>
          <p:grpSpPr>
            <a:xfrm>
              <a:off x="0" y="0"/>
              <a:ext cx="1143000" cy="3428640"/>
              <a:chOff x="0" y="0"/>
              <a:chExt cx="1143000" cy="3428640"/>
            </a:xfrm>
          </p:grpSpPr>
          <p:pic>
            <p:nvPicPr>
              <p:cNvPr id="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143000" cy="162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12080"/>
                <a:ext cx="1143000" cy="181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" name=""/>
            <p:cNvGrpSpPr/>
            <p:nvPr/>
          </p:nvGrpSpPr>
          <p:grpSpPr>
            <a:xfrm>
              <a:off x="0" y="3429000"/>
              <a:ext cx="1143000" cy="3428640"/>
              <a:chOff x="0" y="3429000"/>
              <a:chExt cx="1143000" cy="3428640"/>
            </a:xfrm>
          </p:grpSpPr>
          <p:pic>
            <p:nvPicPr>
              <p:cNvPr id="1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29000"/>
                <a:ext cx="1143000" cy="162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5041080"/>
                <a:ext cx="1143000" cy="1816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5654-3EB7-46DE-9FBE-1CB6FC13ECB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68360" y="5950080"/>
            <a:ext cx="863640" cy="907560"/>
            <a:chOff x="468360" y="5950080"/>
            <a:chExt cx="863640" cy="907560"/>
          </a:xfrm>
        </p:grpSpPr>
        <p:sp>
          <p:nvSpPr>
            <p:cNvPr id="58" name=""/>
            <p:cNvSpPr/>
            <p:nvPr/>
          </p:nvSpPr>
          <p:spPr>
            <a:xfrm>
              <a:off x="468360" y="667656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17200" y="623772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510120" y="595008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19720" y="625140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51048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0"/>
            <a:ext cx="1691640" cy="6857640"/>
            <a:chOff x="0" y="0"/>
            <a:chExt cx="1691640" cy="6857640"/>
          </a:xfrm>
        </p:grpSpPr>
        <p:grpSp>
          <p:nvGrpSpPr>
            <p:cNvPr id="65" name=""/>
            <p:cNvGrpSpPr/>
            <p:nvPr/>
          </p:nvGrpSpPr>
          <p:grpSpPr>
            <a:xfrm>
              <a:off x="0" y="0"/>
              <a:ext cx="1691640" cy="3428640"/>
              <a:chOff x="0" y="0"/>
              <a:chExt cx="1691640" cy="3428640"/>
            </a:xfrm>
          </p:grpSpPr>
          <p:pic>
            <p:nvPicPr>
              <p:cNvPr id="6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691640" cy="162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12080"/>
                <a:ext cx="1691640" cy="181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" name=""/>
            <p:cNvGrpSpPr/>
            <p:nvPr/>
          </p:nvGrpSpPr>
          <p:grpSpPr>
            <a:xfrm>
              <a:off x="0" y="3429000"/>
              <a:ext cx="1691640" cy="3428640"/>
              <a:chOff x="0" y="3429000"/>
              <a:chExt cx="1691640" cy="3428640"/>
            </a:xfrm>
          </p:grpSpPr>
          <p:pic>
            <p:nvPicPr>
              <p:cNvPr id="6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29000"/>
                <a:ext cx="1691640" cy="162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5041080"/>
                <a:ext cx="1691640" cy="1816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1" name=""/>
          <p:cNvGrpSpPr/>
          <p:nvPr/>
        </p:nvGrpSpPr>
        <p:grpSpPr>
          <a:xfrm>
            <a:off x="395280" y="5834160"/>
            <a:ext cx="863640" cy="907560"/>
            <a:chOff x="395280" y="5834160"/>
            <a:chExt cx="863640" cy="907560"/>
          </a:xfrm>
        </p:grpSpPr>
        <p:sp>
          <p:nvSpPr>
            <p:cNvPr id="72" name=""/>
            <p:cNvSpPr/>
            <p:nvPr/>
          </p:nvSpPr>
          <p:spPr>
            <a:xfrm>
              <a:off x="395280" y="656064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44120" y="612180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437040" y="583416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6640" y="613548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37400" y="584676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152388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057040" y="3429000"/>
            <a:ext cx="6705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Parte III - Adic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279440" y="1886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mo da operação de subtração em BCD (A-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tração é dividida em 3 p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omplementar cada dígito do subtrae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Após o complemento fazer a soma de mais 1.         (A + Bc + 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Nos dígitos em que não houver "vai um" deve-se somar 10, a fim de corrigi-lo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258560" y="2854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B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37884-62F0-41FE-97A3-572571F6EB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09680" y="2374920"/>
            <a:ext cx="6248520" cy="4343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alize a subtração 7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6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m BC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245124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    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111  01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1  10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          +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00  11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10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00  100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0b5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00b5b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200b5b"/>
                </a:solidFill>
                <a:latin typeface="Arial"/>
              </a:rPr>
              <a:t>0       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4508640"/>
            <a:ext cx="2057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5651640"/>
            <a:ext cx="2057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350720" y="240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B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4508640"/>
            <a:ext cx="6098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56447-A8B8-4A39-AC8B-BC5507F210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371600" y="2292480"/>
            <a:ext cx="73915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face da complexidade dos processos e a pouca utilidade prática em computação, não serão apresentados detalhes nem exemplos de métodos para realização de operações de multiplicação e divisão com valores representados em B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492880"/>
            <a:ext cx="6858000" cy="734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e-se efetuar a multiplicação através de sucessivas somas  e a divisão através de sucessivas subtrações (processo lento!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350720" y="2347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B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C0A7-D786-4F36-A5BE-5EBF0B5398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279440" y="195696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algoritmos da aritmética em BCD são os mesmos que os correspondentes à aritmética em decimal, à qual sempre estivemos acostum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exemplo, na soma em BCD, soma-se os algarismos individualmente, em decimal; quando a soma ultrapassa dez, "vai um" para o dígito de maior ordem (a próxima "casa"), e assim por dia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258560" y="3567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B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C50A-F802-471C-B992-1103D4E9FD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407600" y="2028960"/>
            <a:ext cx="7239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mo da operação de adição em BCD (A+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mpor os números A e B em grupos de 4 bits, cada grupo representando um dos algarismos decimais dos núm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  Somar os novos números A e B (aritmética binária), como se fossem valores binários puros (bit a bi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  Se o resultado da soma dos quatro primeiros algarismos for igual ou menor que 1001 (9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ele está correto. Retornar ao item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387080" y="2757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B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F46FD-872B-4C52-99E7-2FD5210DEF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87280" y="181296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mo da operação de adição em BCD (A+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  Se o resultado for superior a 1001 e menor (ou igual) que 1111, soma-se 0110 (6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àquele valor;  o novo resultado é o algarismo desejado; o “vai 1” após o último bit ‘a esquerda é ainda acrescentado à soma da parcela seguinte. Retornar ao item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  Se o resultado for superior a 1111, somar 0110 ao resultado; o “vai 1” obtido com essa última soma é transferido para a parcela seguinte. Retornar ao item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   O processo acaba após a adição do último grupo de 4 bits (algarismo decimal mais significativ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242720" y="2887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B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50F0-8EC1-45C2-ACE2-F2F6C8E557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09680" y="2695680"/>
            <a:ext cx="4267440" cy="3657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371600" y="18568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icionar A=7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 B=6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m BC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3000240"/>
            <a:ext cx="4572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111  01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110  010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01  100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1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  0011 100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200b5b"/>
                </a:solidFill>
                <a:latin typeface="Arial"/>
              </a:rPr>
              <a:t>1     3       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067280"/>
            <a:ext cx="2057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5133960"/>
            <a:ext cx="2057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350720" y="333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B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667EB-2E02-43B6-8DD9-D7C8D18AB1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3880" y="2165400"/>
            <a:ext cx="7162920" cy="4572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371600" y="1631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icionar A=17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 B= 498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2165400"/>
            <a:ext cx="6553440" cy="46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001 0111 0011 01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173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100 1001 1000 010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498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671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1 (1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´1 1011          (2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1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 0000   0001 100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101  01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110  0111  0001 100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200" spc="-1" strike="noStrike">
                <a:solidFill>
                  <a:srgbClr val="200b5b"/>
                </a:solidFill>
                <a:latin typeface="Arial"/>
              </a:rPr>
              <a:t>6        7       1      9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286000" y="3079800"/>
            <a:ext cx="4800600" cy="2743200"/>
            <a:chOff x="2286000" y="3079800"/>
            <a:chExt cx="4800600" cy="2743200"/>
          </a:xfrm>
        </p:grpSpPr>
        <p:sp>
          <p:nvSpPr>
            <p:cNvPr id="133" name=""/>
            <p:cNvSpPr/>
            <p:nvPr/>
          </p:nvSpPr>
          <p:spPr>
            <a:xfrm>
              <a:off x="2286000" y="3156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95880" y="3079800"/>
              <a:ext cx="990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6000" y="4832640"/>
              <a:ext cx="2666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86000" y="5823000"/>
              <a:ext cx="2666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rot="16111800">
            <a:off x="2589120" y="6048360"/>
            <a:ext cx="76320" cy="533520"/>
          </a:xfrm>
          <a:custGeom>
            <a:avLst/>
            <a:gdLst>
              <a:gd name="textAreaLeft" fmla="*/ 48960 w 76320"/>
              <a:gd name="textAreaRight" fmla="*/ 76320 w 763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111800">
            <a:off x="3276360" y="6051600"/>
            <a:ext cx="76320" cy="533160"/>
          </a:xfrm>
          <a:custGeom>
            <a:avLst/>
            <a:gdLst>
              <a:gd name="textAreaLeft" fmla="*/ 48960 w 76320"/>
              <a:gd name="textAreaRight" fmla="*/ 76320 w 7632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111800">
            <a:off x="3962160" y="6051600"/>
            <a:ext cx="76320" cy="533160"/>
          </a:xfrm>
          <a:custGeom>
            <a:avLst/>
            <a:gdLst>
              <a:gd name="textAreaLeft" fmla="*/ 48960 w 76320"/>
              <a:gd name="textAreaRight" fmla="*/ 76320 w 7632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6111800">
            <a:off x="4647960" y="6051600"/>
            <a:ext cx="76320" cy="533160"/>
          </a:xfrm>
          <a:custGeom>
            <a:avLst/>
            <a:gdLst>
              <a:gd name="textAreaLeft" fmla="*/ 48960 w 76320"/>
              <a:gd name="textAreaRight" fmla="*/ 76320 w 7632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350720" y="259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B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4375080"/>
            <a:ext cx="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45DC-B35D-4E06-BFA5-E34C51F96C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294920" y="1752120"/>
            <a:ext cx="72392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6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ição Ráp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a-se 6 a todos os dígitos da parcela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guir somam-se as parcelas levando em conta o "vai 1" normalm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s dígitos em que não houver "vai 1" para a casa seguinte, soma-se dez, sendo que os    "vai 1“ desta última operação serão desprez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5943600"/>
            <a:ext cx="7429680" cy="642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antagem deste método é que ao se corrigir os dígitos não é necessário transportar o "vai um", ele é simplesmente abandonad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B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9B45-D930-46F8-B150-D4AD768090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371600" y="155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icionar A=17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 B= 498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523880" y="2003400"/>
            <a:ext cx="7162920" cy="4910400"/>
            <a:chOff x="1523880" y="2003400"/>
            <a:chExt cx="7162920" cy="4910400"/>
          </a:xfrm>
        </p:grpSpPr>
        <p:sp>
          <p:nvSpPr>
            <p:cNvPr id="148" name=""/>
            <p:cNvSpPr/>
            <p:nvPr/>
          </p:nvSpPr>
          <p:spPr>
            <a:xfrm>
              <a:off x="1523880" y="2003400"/>
              <a:ext cx="7162920" cy="4881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23880" y="2003400"/>
              <a:ext cx="6553440" cy="49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001 0111 0011 010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110 0110 0110 011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+ 6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111 1101 1001 1010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       1    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111 1101 1001 101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(A+6)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100 1001 1000 0101              + B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100 0111 0001 1111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10                    101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(+10)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        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110  0111  0001 100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US" sz="2200" spc="-1" strike="noStrike">
                  <a:solidFill>
                    <a:srgbClr val="200b5b"/>
                  </a:solidFill>
                  <a:latin typeface="Arial"/>
                </a:rPr>
                <a:t>6      7       1      9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362320" y="2917800"/>
              <a:ext cx="4419360" cy="2819160"/>
              <a:chOff x="2362320" y="2917800"/>
              <a:chExt cx="4419360" cy="2819160"/>
            </a:xfrm>
          </p:grpSpPr>
          <p:sp>
            <p:nvSpPr>
              <p:cNvPr id="151" name=""/>
              <p:cNvSpPr/>
              <p:nvPr/>
            </p:nvSpPr>
            <p:spPr>
              <a:xfrm>
                <a:off x="2362320" y="2993760"/>
                <a:ext cx="27432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791320" y="2917800"/>
                <a:ext cx="9903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362320" y="4746600"/>
                <a:ext cx="26668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438280" y="5736960"/>
                <a:ext cx="26672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350720" y="2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B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516BE-588A-4D9C-9C07-5197BDB4E5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219320" y="1886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ção de subtração em aritmética 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operação de subtração de números representados na forma decimal é pouco simples e prática, devido ao fato de não ser possível converter de modo rápido os números negativos para sua representação de comple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350720" y="2854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B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329C8-C7AE-4996-8757-B3560BA3EB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. Fechine</dc:creator>
  <dc:description/>
  <dc:language>en-US</dc:language>
  <cp:lastModifiedBy>Alberto Lima</cp:lastModifiedBy>
  <dcterms:modified xsi:type="dcterms:W3CDTF">2007-10-01T11:55:12Z</dcterms:modified>
  <cp:revision>810</cp:revision>
  <dc:subject/>
  <dc:title>Introdução à Computação</dc:title>
</cp:coreProperties>
</file>