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B3D1-312F-4672-AA3D-45222C2B3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0BB08-C144-4D7B-9B1B-382C761AF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3672-08B3-49B0-8E00-ECD6B39D60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243C-E02E-4FE4-99AB-2042AD77B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19856-3E86-4F4C-B727-1686E6CA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D73EB-1C8F-46E1-9F63-15F4D2C6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731E4-467E-4FD4-913A-894FA9B0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184FF-CB53-480A-A549-F3B3FBB4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8DCC0-A809-4ADA-9B1D-1857517D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40646-A1E5-4684-B2EB-25A97C44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83DFB-DF8A-4BB9-9815-B28B4363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0b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508D-6893-466B-B276-CFE29659C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D90D0-48C7-4C1F-9641-CF6436B4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1AD60-DD50-4258-8ADD-10AE53C0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D42CA-FB5E-482C-914E-DB571518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ACB1F-96F3-409A-84DB-9BA77D60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DEAC0-FA29-4242-9257-1352DBB8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9D2A-BEA2-463D-B940-C4D1187D2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FF26-AA72-42FC-A4EC-B7C1010F8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87F2-E9B2-4AC1-A9E7-C4442E54A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00b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776C-3690-4086-B667-B9ABBB0A3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F633-61B1-43C7-97F3-FFBB33F9D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3B1D-0ED2-4216-A76C-1693879D1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7FDE-87F3-4EE2-A6B4-67D8363CE1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BA38-0158-46BB-8568-91B51F5EF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1143000" cy="6857640"/>
            <a:chOff x="0" y="0"/>
            <a:chExt cx="1143000" cy="6857640"/>
          </a:xfrm>
        </p:grpSpPr>
        <p:grpSp>
          <p:nvGrpSpPr>
            <p:cNvPr id="5" name=""/>
            <p:cNvGrpSpPr/>
            <p:nvPr/>
          </p:nvGrpSpPr>
          <p:grpSpPr>
            <a:xfrm>
              <a:off x="0" y="0"/>
              <a:ext cx="1143000" cy="3428640"/>
              <a:chOff x="0" y="0"/>
              <a:chExt cx="1143000" cy="3428640"/>
            </a:xfrm>
          </p:grpSpPr>
          <p:pic>
            <p:nvPicPr>
              <p:cNvPr id="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"/>
            <p:cNvGrpSpPr/>
            <p:nvPr/>
          </p:nvGrpSpPr>
          <p:grpSpPr>
            <a:xfrm>
              <a:off x="0" y="3429000"/>
              <a:ext cx="1143000" cy="3428640"/>
              <a:chOff x="0" y="3429000"/>
              <a:chExt cx="1143000" cy="3428640"/>
            </a:xfrm>
          </p:grpSpPr>
          <p:pic>
            <p:nvPicPr>
              <p:cNvPr id="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14300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14300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" name=""/>
          <p:cNvGrpSpPr/>
          <p:nvPr/>
        </p:nvGrpSpPr>
        <p:grpSpPr>
          <a:xfrm>
            <a:off x="120600" y="5950080"/>
            <a:ext cx="863640" cy="907560"/>
            <a:chOff x="120600" y="5950080"/>
            <a:chExt cx="863640" cy="907560"/>
          </a:xfrm>
        </p:grpSpPr>
        <p:sp>
          <p:nvSpPr>
            <p:cNvPr id="12" name=""/>
            <p:cNvSpPr/>
            <p:nvPr/>
          </p:nvSpPr>
          <p:spPr>
            <a:xfrm>
              <a:off x="12060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6944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 flipV="1">
              <a:off x="16200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7196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>
              <a:off x="16236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0b5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D071-6669-4A78-9197-53E87083C40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1691640" cy="6857640"/>
            <a:chOff x="0" y="0"/>
            <a:chExt cx="1691640" cy="685764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1691640" cy="3428640"/>
              <a:chOff x="0" y="0"/>
              <a:chExt cx="1691640" cy="3428640"/>
            </a:xfrm>
          </p:grpSpPr>
          <p:pic>
            <p:nvPicPr>
              <p:cNvPr id="6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612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0" y="3429000"/>
              <a:ext cx="1691640" cy="3428640"/>
              <a:chOff x="0" y="3429000"/>
              <a:chExt cx="1691640" cy="3428640"/>
            </a:xfrm>
          </p:grpSpPr>
          <p:pic>
            <p:nvPicPr>
              <p:cNvPr id="6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9000"/>
                <a:ext cx="1691640" cy="1626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041080"/>
                <a:ext cx="1691640" cy="181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65" name=""/>
          <p:cNvGrpSpPr/>
          <p:nvPr/>
        </p:nvGrpSpPr>
        <p:grpSpPr>
          <a:xfrm>
            <a:off x="468360" y="5950080"/>
            <a:ext cx="863640" cy="907560"/>
            <a:chOff x="468360" y="5950080"/>
            <a:chExt cx="863640" cy="907560"/>
          </a:xfrm>
        </p:grpSpPr>
        <p:sp>
          <p:nvSpPr>
            <p:cNvPr id="66" name=""/>
            <p:cNvSpPr/>
            <p:nvPr/>
          </p:nvSpPr>
          <p:spPr>
            <a:xfrm>
              <a:off x="46836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720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1012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972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51048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0b5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057040" y="33523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2800" spc="-1" strike="noStrike">
              <a:solidFill>
                <a:srgbClr val="200b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2800" spc="-1" strike="noStrike">
              <a:solidFill>
                <a:srgbClr val="200b5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0b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200b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400" spc="-1" strike="noStrike">
              <a:solidFill>
                <a:srgbClr val="200b5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00b5b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200b5b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00b5b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1890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371240" y="21013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eb00b"/>
                </a:solidFill>
                <a:latin typeface="Arial"/>
              </a:rPr>
              <a:t>Aritmética em Sinal e Magnit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eb00b"/>
                </a:solidFill>
                <a:latin typeface="Arial"/>
              </a:rPr>
              <a:t>Aritmética em Complemento de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itmética em Ponto Flutu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ritmética em BCD (informação adi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50720" y="272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9599-E61D-4B43-8C89-71DF6B2E8B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50720" y="2934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74096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para operação aritmética de ad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Symbol" charset="2"/>
              <a:buChar char="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m-se os sinais dos números e efetua-se uma comparação entre e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bos os números têm o mesmo sinal, somam-se as magnitudes; o sinal do resultado é o mesmo das parc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s números têm sinais difer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identifica-se a maior das magnitudes e registra-se o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seu sin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subtrai-se a magnitude menor da maior (apenas 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magnitude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) sinal do resultado é igual ao sinal da maior magnitu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316B-7453-4DBF-BA74-74E91D5651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71240" y="188604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lize as operações aritméticas a seguir (em sinal e magnitude). Considere a palavra de dados com 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(+1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+12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(+18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-1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(-2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+1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(-1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(-9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) (+1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(+19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(-1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(-19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B3AE-D4C9-487B-AE80-3FB904825E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24160" y="285120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424160" y="1555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(+13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+12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(+18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-11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(-21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+10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(-1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-9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28720" y="28512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00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4920" y="2851200"/>
            <a:ext cx="26672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43520" y="28512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1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52760" y="391788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67560" y="384192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43120" y="2774880"/>
            <a:ext cx="30492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57920" y="2774880"/>
            <a:ext cx="30492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24160" y="521352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8720" y="52135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1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0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14920" y="5213520"/>
            <a:ext cx="266724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43520" y="52135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1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52760" y="628020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67560" y="620388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43120" y="5137200"/>
            <a:ext cx="30492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57920" y="5060880"/>
            <a:ext cx="30492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F6AFD-D7D9-4430-B931-5E9E1EAEA8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71600" y="3279600"/>
            <a:ext cx="2666880" cy="2057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371600" y="16034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(+1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+19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(-1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-19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37368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10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3279600"/>
            <a:ext cx="2666880" cy="20574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373680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6     100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480384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472752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660840"/>
            <a:ext cx="30456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3660840"/>
            <a:ext cx="30456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36640" y="3700440"/>
            <a:ext cx="3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2822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i 1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3203640"/>
            <a:ext cx="0" cy="533160"/>
          </a:xfrm>
          <a:prstGeom prst="line">
            <a:avLst/>
          </a:prstGeom>
          <a:ln cap="sq"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641920"/>
            <a:ext cx="7543800" cy="116748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ouro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- existência de um “vai 1” para o bit de sin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ixa de representação de valores para 6 bits (em sinal e magnitude) 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31 a + 31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803840"/>
            <a:ext cx="1447920" cy="5331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4879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2822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i 1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3203640"/>
            <a:ext cx="0" cy="533160"/>
          </a:xfrm>
          <a:prstGeom prst="line">
            <a:avLst/>
          </a:prstGeom>
          <a:ln cap="sq"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350720" y="307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0A9F-3DF0-434C-A54B-80265298DA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21932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btração (Minuendo - Subtraendo = Resultad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para operação aritmética de subt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roca-se o sinal do subtra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rocede-se como no algoritmo da ad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F603-377F-4057-9CAB-9D0A64BA8E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447920" y="188604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lize as operações aritméticas a seguir (em sinal e magnitude). Considere a palavra de dados com 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(-18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+12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(-2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-14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(+2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+31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(+19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(-25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3B02-E649-4216-BE3C-580AC36059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283536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371600" y="15393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(-18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+12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(-2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-14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(+2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+31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(+19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-25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76520" y="283536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11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283536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283536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1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390204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382572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759040"/>
            <a:ext cx="30456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759040"/>
            <a:ext cx="30456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519732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1973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1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5197320"/>
            <a:ext cx="2666880" cy="16002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5197320"/>
            <a:ext cx="2286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4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626436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618804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5121360"/>
            <a:ext cx="30456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5045040"/>
            <a:ext cx="30456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5298000">
            <a:off x="2982600" y="1757160"/>
            <a:ext cx="358920" cy="838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09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298000">
            <a:off x="7097760" y="1680840"/>
            <a:ext cx="358560" cy="838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1000" y="192096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5298000">
            <a:off x="3134880" y="4195440"/>
            <a:ext cx="358560" cy="838440"/>
          </a:xfrm>
          <a:custGeom>
            <a:avLst/>
            <a:gdLst>
              <a:gd name="textAreaLeft" fmla="*/ 228960 w 358560"/>
              <a:gd name="textAreaRight" fmla="*/ 358560 w 3585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4511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298000">
            <a:off x="7174080" y="4195440"/>
            <a:ext cx="358560" cy="838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45115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64166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67080" y="50450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i 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5121360"/>
            <a:ext cx="1905120" cy="75960"/>
          </a:xfrm>
          <a:prstGeom prst="line">
            <a:avLst/>
          </a:prstGeom>
          <a:ln cap="sq"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350720" y="2440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86400" y="6568920"/>
            <a:ext cx="1295280" cy="52560"/>
          </a:xfrm>
          <a:prstGeom prst="line">
            <a:avLst/>
          </a:prstGeom>
          <a:ln cap="sq"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CE65-1F21-4FBE-9386-CE6EC73765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219320" y="1956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blema encontrado pelos fabricantes de computadores na implementação 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idade Lógica e Aritmética) que efetuasse operações aritméticas com valores representados em sinal e magnitude residiu, principalmente, em dois fatore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locid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necessidade de construção de dois elementos, um para efetuar somas e outro para efetuar subtração (dois componentes eletrônico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d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ocasionada pela perda de tempo gasto na manipulação dos sinais, de modo a determinar o tipo de operação e o sinal do resul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350720" y="356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06F9-6F91-4CD2-BEF7-B883411006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219320" y="2246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o inconvenien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pla representação para o zero , o que requer um circuito lógico específico para evitar erros de má interpre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s modernos não empregam aritmética em sinal e magnitude, a qual foi definitivamente substituída pe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mética em complemento de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 caso de representação 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to fix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350720" y="2646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Sinal e Magnit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04222-79BF-490F-8381-17EBC55909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728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ção de algar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guagem hum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inal (= ou -) é um símbolo de forma diversa daquela utilizada para os algarismos que representam o valor do número (0, 1, 2, ..5,  ..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inal é colocado separado da magnitude (+31), não fazendo parte dos cálculos em si, mas tão-somente servindo par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r o sinal do resultado e o tipo da operação a ser realizada efe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s de compu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sinal é um símbolo de forma idêntica à dos algarismos representativos do seu valor (é um bit igual aos dem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bit de sinal está incorporado aos bits da magnitude, formando um único núm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350720" y="188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A30E2-0B13-49C9-98A7-B700B3C6AB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371600" y="1670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goritmo para operação aritmética de adi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. Somar os dois números, bit a bit, inclusive o bit de s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. Desprezar o último “vai 1” (para fora do número), se hou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. Se, simultaneamente, ocorrer “vai 1” para o bit de sinal e “vai 1” para fora do número, ou se ambos não ocorrerem, o resultado está corre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4. Se ocorrer apenas um dos  dois “vai 1” (ou para o bit de sinal ou para fora), o resultado está incorreto. Ocorreu um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omente pode ocorrer se ambos os números tiverem o mesmo sinal (seja positivo ou ambos negativos) e, nesse caso, se o sinal do resultado for oposto ao dos núm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350720" y="2980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7EF6-5FB2-43F4-B612-5C9984D2BD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371240" y="18129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 para operação aritmética de subt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Complementar a 2 o subtraendo, independentemente se é um valor positivo ou nega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Somar os números, utilizando o algoritmo da adição já mostrado anterior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350720" y="288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F1CB-6BA6-430E-8518-B7697F1D71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27944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mindo, é importante lembrar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perações de adição e subtração são normalmente realizadas como ad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perações de subtração são realizadas como soma de complemento (minuendo mais o complemento do subtraen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 resultado encontrado é 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posi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valor decimal correspondente da magnitude é obtido por pura conversão de base 2 para base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 resultado encontrado é u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or nega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-se primeiro converter esse valor para representação de sinal e magnitude (consistirá em trocar o valor dos bits da magnitude e somar 1 ao resultado) e, em seguida, converter a magnitude de base 2 para base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902B-013C-409F-A2E7-AC830F8FD5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371240" y="1956960"/>
            <a:ext cx="7162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lize as operações aritméticas a seguir (em complemento de 2). Considere a palavra de dados com 6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(+1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+15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(+2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 (+2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(+15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-13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(+20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+17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) (-24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-15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(-24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(+15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350720" y="2808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FBBC-8D3E-413C-8EB3-5DDF09161F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2851200"/>
            <a:ext cx="2666880" cy="23623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371600" y="1555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(+13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+15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(+23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+20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300348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10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460368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155600">
            <a:off x="2744640" y="2620440"/>
            <a:ext cx="60948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442120"/>
            <a:ext cx="3276720" cy="131364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ado corre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ão houve “vai 1” nem para o bit de sinal nem para fora do númer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2927520"/>
            <a:ext cx="2666880" cy="23619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7280" y="307980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1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4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01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468000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155600">
            <a:off x="6859440" y="2696760"/>
            <a:ext cx="60948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65800"/>
            <a:ext cx="4191120" cy="14724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ltado incorre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houve “vai 1” apenas para o bit de sin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aixa de representação para 6 bits (-32 a 3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A47B-9A1E-44BE-A801-FB478B5124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7920" y="2906640"/>
            <a:ext cx="2666880" cy="23623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371600" y="1611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(+15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(-13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) (+20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+17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305928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10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465948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155600">
            <a:off x="2744280" y="2676600"/>
            <a:ext cx="60984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5649840"/>
            <a:ext cx="4724280" cy="100872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ados corre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 houve “vai 1” para o bit de sinal e para fora do número; este é desprezad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982960"/>
            <a:ext cx="2666880" cy="23623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67280" y="313524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1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001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473544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155600">
            <a:off x="6859440" y="2752200"/>
            <a:ext cx="60948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982960"/>
            <a:ext cx="228600" cy="762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135240"/>
            <a:ext cx="228600" cy="609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350720" y="3157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1AE3-E131-4547-A96B-860777CB86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2851200"/>
            <a:ext cx="2666880" cy="23623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71600" y="1555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) (-24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-15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) (-24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(+15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300348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11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11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4603680"/>
            <a:ext cx="22096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155600">
            <a:off x="2744640" y="2620440"/>
            <a:ext cx="609480" cy="12189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5442120"/>
            <a:ext cx="3352680" cy="131364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ado corre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ão houve “vai 1” para o bit de sinal nem para fora do númer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851200"/>
            <a:ext cx="2667240" cy="236232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3003480"/>
            <a:ext cx="228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3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11001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4603680"/>
            <a:ext cx="2210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6155600">
            <a:off x="6935400" y="2620440"/>
            <a:ext cx="609480" cy="12193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2880" y="5365800"/>
            <a:ext cx="4191120" cy="1472400"/>
          </a:xfrm>
          <a:prstGeom prst="rect">
            <a:avLst/>
          </a:prstGeom>
          <a:noFill/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sultado incorre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houve “vai 1” apenas para fora do númer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aixa de representação para 6 bits (-32 a 3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350720" y="259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3DC3-20CB-4E10-934E-C17FB858281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371600" y="1704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ritmética em complemento de 2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quer apenas um compon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ad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para somar dois números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 compon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realize a operaçã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lement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lgoritmo básico refere-se, então, à soma dos números, considerando-se que os números negativos estejam representados em complemento de 2; ele acusa, também, se o resultado ultrapassar a quantidade de bits representáveis na ULA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overflow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1350720" y="333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Complemento d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950080"/>
            <a:ext cx="6858000" cy="73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-se efetuar a multiplicação através de sucessivas somas  e a divisão através de sucessivas subtrações (processo lento!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BC21-F274-4CCF-89DE-989E2CEEB4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371240" y="174096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ltiplicação em computadores pode ser feita por um artifíci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multiplicar um núme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asta som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z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 exemplo, 4 x 3 = 4 + 4 +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vis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mbém pode ser feita por subtrações sucessiva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que concluímo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ção aritmética pode ser realizada em computadores apenas através de somas (diretas ou em complemento)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1371600" y="29340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Operações aritméticas – </a:t>
            </a:r>
            <a:br>
              <a:rPr sz="3600"/>
            </a:b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Sistema 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268E-F134-4857-B675-3BDD7F3946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371600" y="18525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ção de números em ponto flutuante (notação científ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– mantissa (ou significa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 base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- expoen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operações aritméticas devem ser realizadas considerando o produto; as mantissas e os expoentes devem ser manipulados separad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 fazer a operação dos expoentes, verificar qual a sua represent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1350720" y="4042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0FB3-3B7A-4F8D-BE2F-4633F18EA00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Operações aritméticas – </a:t>
            </a:r>
            <a:br>
              <a:rPr sz="3600"/>
            </a:b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Sistema 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Ad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Subt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Multipl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Div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4800600"/>
            <a:ext cx="73915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s operações aritméticas nos sistemas binário, octal, decimal e hexadecimal obedecem a regras similar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9155-A2F0-4C21-B1B4-75E870242F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258920" y="167004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ição e Sub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ão operações mais complexas em ponto flutuante do que em aritmética de ponto fixo, devido 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dade de alinhamento da vírg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onto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cioná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314360" y="2980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35240" y="2432160"/>
            <a:ext cx="70102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+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-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)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5B047-C950-4C63-880C-C7D875BA351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371600" y="202896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usual de ajuste da igualdade dos expoentes:o sistema efetua a subtração entre os valores dos expoentes. Em seguida, a mantissa de menor valor é dividida (deslocamento à direita -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hift righ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pelo valor da base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diferenç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operação de soma ou subtração das mantissas é uma simples operação em ponto fixo; o resultado da operação deve ser norma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1350720" y="275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BFCC-1965-49B5-BC41-29E3DBEC57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125568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lize a operação aritmética 25,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) + 3,7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), em ponto flutuante, utilizando 32 bi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,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10000011 10011000000000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1001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11001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7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10000000 111000000000000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,11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111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000111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+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,1110101 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,2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9,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110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10000011 11010100000000000000000 (IEEE 7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387080" y="2854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7415E-50D4-4DE3-B394-CCBF783035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125892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icação e Di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perações de multiplicação e divisão com números representados em ponto flutuante também requerem a manipulação separada da mantissa e do expoente, não havendo porém a necessidade da operação de alinhamento da vírgula (que é uma operação demorad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x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(e1+e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/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x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e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(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(e1-e2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1314360" y="2887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ritmética em Ponto flutu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9AEE-85CF-4370-90E8-66ECFA069B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371600" y="188604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ferença de formas de representação e respectivos algoritmos de realização de operações matemáticas é bastante útil, pois cada uma tem uma aplicação na qual é mais vantajosa que a ou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e ao programador a escolha da forma a ser utilizada pelo sistema, podendo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plícit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o programador  define as variáveis e constantes em seu progra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ícit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o programador deixa que o compilador faça sua própria escolh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1349280" y="2854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CFB2-0B26-4C1D-B2E2-BCB550AEF3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371240" y="18860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quer dos métodos utilizados para representar números em computador (sinal e magnitude, complemento de 2, ponto flutuante, BCD) requer atenção do programador pelo fato de  que algumas operações realizadas podem redundar em erro no resultado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quantidade finita e limitada de algarismos utilizada nas máqui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úmeros inteiros são menos problemáticos - o programador pode criar uma faixa menor e mais definida de valores em seu programa, porém, com números reais (fracionários), o problema se torna muito maior à medida que é possível criar infinitos valores entre qualquer faixa de val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349280" y="2854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82BA-ED7D-4BC5-9523-4C3735B0B1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295280" y="202896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temente de nossos cálculos usando papel e lápis, cujo único limite é o tamanho do papel, em computação precisa-se ter atenção aos limites impostos pela quantidade máxima de bits dos valores representados e dos diversos componentes da máquina (registradores, barramento, etc.) 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is limites afetam a precisão dos result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1349280" y="2757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D618-0758-49BF-94B4-49E730BB23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49280" y="31068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 Informação e sua Repres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3000" y="16066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dro resumo dos tipos primitivos de d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ntendidos pelo hardware do computad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5880" y="27352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 e magnitu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mento de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1447920" y="2521080"/>
            <a:ext cx="5029200" cy="2684520"/>
            <a:chOff x="1447920" y="2521080"/>
            <a:chExt cx="5029200" cy="2684520"/>
          </a:xfrm>
        </p:grpSpPr>
        <p:sp>
          <p:nvSpPr>
            <p:cNvPr id="290" name=""/>
            <p:cNvSpPr/>
            <p:nvPr/>
          </p:nvSpPr>
          <p:spPr>
            <a:xfrm>
              <a:off x="1447920" y="2521080"/>
              <a:ext cx="50292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266760" algn="just">
                <a:lnSpc>
                  <a:spcPct val="100000"/>
                </a:lnSpc>
                <a:spcBef>
                  <a:spcPts val="1500"/>
                </a:spcBef>
                <a:buClr>
                  <a:srgbClr val="200b5b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racter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indent="266760" algn="just">
                <a:lnSpc>
                  <a:spcPct val="100000"/>
                </a:lnSpc>
                <a:spcBef>
                  <a:spcPts val="1500"/>
                </a:spcBef>
                <a:buClr>
                  <a:srgbClr val="200b5b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indent="266760" algn="just">
                <a:lnSpc>
                  <a:spcPct val="100000"/>
                </a:lnSpc>
                <a:spcBef>
                  <a:spcPts val="1500"/>
                </a:spcBef>
                <a:buClr>
                  <a:srgbClr val="200b5b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éric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indent="266760" algn="just">
                <a:lnSpc>
                  <a:spcPct val="100000"/>
                </a:lnSpc>
                <a:spcBef>
                  <a:spcPts val="1500"/>
                </a:spcBef>
                <a:buClr>
                  <a:srgbClr val="200b5b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indent="266760" algn="just">
                <a:lnSpc>
                  <a:spcPct val="100000"/>
                </a:lnSpc>
                <a:spcBef>
                  <a:spcPts val="1500"/>
                </a:spcBef>
                <a:buClr>
                  <a:srgbClr val="200b5b"/>
                </a:buClr>
                <a:buSzPct val="80000"/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ógic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33920" y="3206880"/>
              <a:ext cx="27432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nto Fixo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onto Flutuante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cimal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16400" y="3206880"/>
              <a:ext cx="241560" cy="1447920"/>
            </a:xfrm>
            <a:custGeom>
              <a:avLst/>
              <a:gdLst>
                <a:gd name="textAreaLeft" fmla="*/ 154440 w 241560"/>
                <a:gd name="textAreaRight" fmla="*/ 241920 w 24156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55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buClr>
                  <a:srgbClr val="ffcc00"/>
                </a:buClr>
                <a:buSzPct val="90000"/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43960" y="2673360"/>
              <a:ext cx="164880" cy="990720"/>
            </a:xfrm>
            <a:custGeom>
              <a:avLst/>
              <a:gdLst>
                <a:gd name="textAreaLeft" fmla="*/ 105480 w 164880"/>
                <a:gd name="textAreaRight" fmla="*/ 165240 w 164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5560">
              <a:solidFill>
                <a:srgbClr val="200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buClr>
                  <a:srgbClr val="ffcc00"/>
                </a:buClr>
                <a:buSzPct val="90000"/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371600" y="5264280"/>
            <a:ext cx="7315200" cy="1465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e a utilização de variáveis que possuem apenas dois valores para representação, FALSO (0) e VERDADEIRO (1). Permite realizar também operações que empregam operadores lógicos encontrados nos computadores. Para o melhor entendimento é necessário o estud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itos da Lógica Digi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2895120" y="4959000"/>
            <a:ext cx="1295640" cy="304920"/>
          </a:xfrm>
          <a:prstGeom prst="line">
            <a:avLst/>
          </a:prstGeom>
          <a:ln cap="sq" w="76320">
            <a:solidFill>
              <a:srgbClr val="200b5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B2BA-CB56-4556-A8B4-3287A39854C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i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locamento à direita na sér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da deslocamento correspondendo a adição de uma uni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ição entre dois números de um algarismo      pode-se obter resultados com um ou dois díg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ou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aior algarismo é ultrapassado)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ransporte)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i-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Adição – Sistema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9520" y="220968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3733920"/>
            <a:ext cx="304560" cy="228600"/>
          </a:xfrm>
          <a:prstGeom prst="rightArrow">
            <a:avLst>
              <a:gd name="adj1" fmla="val 50000"/>
              <a:gd name="adj2" fmla="val 33307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1215-9665-4CD0-9D78-5D80602C0C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1447920"/>
            <a:ext cx="700092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g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Adição – Sistema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52480" y="3048120"/>
          <a:ext cx="662940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6629400" cy="2592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C801-035F-45F9-80FC-970DBBA7D9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a à adição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locamento à esquerd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en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tantas unidades quantas forem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raen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 minuendo é menor que o subtraend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ou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ra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a unidade do minuendo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ma unidade ao subtraendo da casa segui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uro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mpréstimo) 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m-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21337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39625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54100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Subtração – Sistema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39FD-78DE-40B8-987F-377B998C91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1981080"/>
            <a:ext cx="700092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g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602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Tahoma"/>
              </a:rPr>
              <a:t>Subtração – Sistema biná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05120" y="2895480"/>
          <a:ext cx="6289560" cy="23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6289560" cy="23860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3E0C2-3E1E-495D-A72B-12F51175E9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82680" y="2394000"/>
            <a:ext cx="1676520" cy="2133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420560" y="1708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=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=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 =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37160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Outras Operações Aritméticas Multiplicação – Sistema bin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73200" y="4832280"/>
            <a:ext cx="6858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ultiplicação pela bas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loca-se o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garismo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um número para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querd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 a su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írgul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ra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eita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ACE3-DB32-4C4E-938A-DBD1EFF811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371240" y="1906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imento igual ao dos decimais, considerando-se apenas que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/1 =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/1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visão pel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locando-se 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garismo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um número para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i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u a sua vírgula para a esquer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71600" y="15372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Tahoma"/>
              </a:rPr>
              <a:t>Outras Operações Aritméticas Divisão – Sistema bin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F4E0-6D38-4F23-9E4E-A2344A5A9F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dcterms:modified xsi:type="dcterms:W3CDTF">2007-09-26T12:12:07Z</dcterms:modified>
  <cp:revision>814</cp:revision>
  <dc:subject/>
  <dc:title>Introdução à Computação</dc:title>
</cp:coreProperties>
</file>