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514E-7045-4671-8DDA-89E4ADE99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6BE7-9A36-4BB1-BE72-9D82C4551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C7E5-9695-4E36-8471-EB214FC61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0F2D-F2A2-474C-A90A-539907579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9180-DB1A-4C6F-8923-0048A2F1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804BB-2FCB-4BB6-9215-A892082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5C75F-84FD-4C6C-B1BF-3B12802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0D44-4B0A-49B2-8D9F-9D5FF5C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31C82-6DE5-4A1E-9356-5DB1C7C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4B626-BF2A-40E6-B9D3-D9000D9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531D6-A8D5-4DE0-A67E-6DDA051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07FB-E6DA-4B84-957A-CA2756794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C49E4-1D71-4DA0-9978-FDC68A9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BE62-867D-45A3-A9AD-71C2296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7C43-60B8-4F5F-AA37-D88BC64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F2CF1-AD66-4D47-9BE0-E971AD6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BB3F-7FB4-4D2C-B411-8849372D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C874-44D9-4BED-BE06-AB450DC87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34D4-18FC-40A2-9BAC-4E1B3886C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7233-3CCE-4E32-A1DB-17B74E980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4685-D538-45D1-BD34-DF4EB3A0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F795-DF0A-42AD-A0EE-070E6C16A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27DA-5645-48B3-83F6-C08746F4D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2A14-3FF7-4C8A-9A41-84E5385AB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4AB-9683-4FE8-AA73-82C53364C7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B608-FFB2-453C-A3EF-D6DA2FD714C6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3523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58920" y="1916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inteiros codificados 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que utiliza complemento de 2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128, -127, ...,  -2. -1,  0,  +1,  +2,...,  +12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0000000, 10000001, ..., 11111110, 11111111,  00000000, 00000001, 00000010, ..., 01111111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mais significativo       informação de sin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 = positivo e 1 = negativ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5661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C7F8-9EAE-456B-BDD3-B64B4B1523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1600200"/>
            <a:ext cx="76201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só circu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mador) para fazer a adição e a subtr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apenas uma representação para o val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sponibilidade pa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uma representaçã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is um número negativo pode ser representado (para 8 bits, pode-se representar o número –12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idade de números positivos 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quantidade de números nega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7A2D-CB14-4482-8FD7-02559584C4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400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reva os números decimais abaixo nas seguintes representações: sinal e magnitude; representação em complemento de 1; representação em complemento de 2 e excesso de 128 (utilizando 8 bits, se existir representaçã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–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–127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–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1B1C-8964-465A-A6B7-FE0400730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8920" y="1860480"/>
            <a:ext cx="7620120" cy="495324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55700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s negativos de 8 bits expressos em 4 sistemas dif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03280" y="1933560"/>
          <a:ext cx="7315200" cy="4783320"/>
        </p:xfrm>
        <a:graphic>
          <a:graphicData uri="http://schemas.openxmlformats.org/drawingml/2006/table">
            <a:tbl>
              <a:tblPr/>
              <a:tblGrid>
                <a:gridCol w="990360"/>
                <a:gridCol w="1143000"/>
                <a:gridCol w="1219320"/>
                <a:gridCol w="1371600"/>
                <a:gridCol w="1371600"/>
                <a:gridCol w="12193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m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nári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nal-magnitude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-mento de 1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le-mento de 2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sso de 128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1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xiste represen-taçã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xiste represen-taçã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753C-BA51-4A88-930B-AC483338E5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rá sempre um padrão de bits a mais ou a menos, não importa qual a representação escolh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adrão de bits extra pode ser usado como –0, como o menor número negativo da representação, ou algo assim, mas, independentemente de como esse padrão de bits for usado, ele poderá ser um estor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BE29-5CCC-4247-91A9-BEB246A90E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2000" y="5106960"/>
            <a:ext cx="7543800" cy="914400"/>
          </a:xfrm>
          <a:prstGeom prst="rect">
            <a:avLst/>
          </a:prstGeom>
          <a:solidFill>
            <a:srgbClr val="ffff99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923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lguns tipos de cálculo, a faixa de variação dos números envolvidos é muito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Massa do elétron - da ordem de 9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Massa do Sol - aproximadamente igual a 2 x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ixa de variação: &gt;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representação (34 dígitos à esquerda do ponto decimal e 28 dígitos à direita do me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o representar esses números no computado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259240"/>
            <a:ext cx="7619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0000000000000000000000000000000000.0000000000000000000000000009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2000000000000000000000000000000000.0000000000000000000000000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1FDB-3C88-480C-B425-87879217C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usual de representação de  números reai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inteira, vírgula (ou ponto), parte fracion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representação, embora cômoda para cálculos no papel, não é adequada para processamento no compu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45,7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4C6C-39D3-48E6-B0DF-E68E0F86AB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7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de Números Re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núme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,7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e ser expresso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,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4572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necessário o uso de um sistema de representação de números no qual a faixa de variação dos números seja independente do número de dígitos significativos dos números represent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FEFF-CC96-42FB-94CB-38CA427B5A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067280" y="2852640"/>
            <a:ext cx="1944720" cy="60984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aneira de separar a faixa de variação dos números de sua precisão consiste em representá-lo na notação cient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ração ou significando (ou manti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xpoente (inteiro positivo ou nega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lquer número (inteiro ou fracionário) pode ser expresso no format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úmero x base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expo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odendo-se variar a posição da vírgula  e o expo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nominação (computacional)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resentação em ponto flutua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(o ponto varia sua posição, modificando, em conseqüência, o valor representado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95CB-F5D9-4D56-BFB1-2B9817E50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pode variar (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tu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) a posição da vírgula, ajustando a potência da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14 = 0,31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1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00001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1 = 0,194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xa de vari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s números é determinada pela quantidade de dígitos do expoente 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eterminada pela quantidade de dígitos do signific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BAD5-A4CD-4F87-BAF1-A33EFE789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são armazenados e processados apenas dados e instr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computador executa operações sobre dados numéricos (os números) ou alfabéticos (letras e símbol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preciso definir uma forma de representar os dados, codificados em uns e zeros, que possam ser interpretados pelo computador, de forma correta e eficiente (com bom desempenho e pouco consumo de memór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EED3-ABD6-4D2E-9EF9-32596AA96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8960" y="1628280"/>
            <a:ext cx="79246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a normalizad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a um único dígito antes da vírgula, diferente de zero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representação computacional de números em ponto flutuante, a representação normalizada é, em geral, melhor que a não-normal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ó existe uma forma de representar um núm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 não normaliz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m mesmo número pode ser representado de diversas mane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065560"/>
            <a:ext cx="7620120" cy="166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ão IEEE 754 para números em ponto flutuant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o normaliz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eça com um bit 1, seguido de um ponto (vírgula) binário e pelo resto do significando (número = ± 1,_ _  ...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i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meça com o ponto (vírgula) binário seguido por um bit 1 e pelo resto da mantissa (bit antes da vírgula igual a zero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7485-2A16-458D-9313-FD64F7AF6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67920" y="170028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stema biná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010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0,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10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,011010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armazenados em um computador - os expoentes serão também gravados na base d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3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7=11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,101 x 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0101x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0110101x(1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normalizada - há apenas um “1” antes da vírg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10101x(10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FB7B-B9E9-4BF3-A07B-47721EC63F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núm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1,10101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,10101 = signific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1 = expo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ase binária  não precisa ser explicitad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 computador usa sempre e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1” antes da vírgula, na representação normalizada – se esta for adotada, também pode ficar implícito, economizando um bit                 (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 escond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1A0C-2005-42F8-8F91-7256510426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organização/arquitetura do computador, deve-se defi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bits do significando (precisão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bits do expoente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bit (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ara + e 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ara -) de sinal (tipicamente o primeiro, da esquer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872C-898E-4A22-BFCB-1D9E8C83F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98640" y="2629080"/>
            <a:ext cx="6477120" cy="13716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 (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 do número: 0 = + e 1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s: 8 combinações pos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ão seguem aritmética norm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ex.: Utiliza notação em exces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63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0920" y="2781360"/>
          <a:ext cx="6172200" cy="1068480"/>
        </p:xfrm>
        <a:graphic>
          <a:graphicData uri="http://schemas.openxmlformats.org/drawingml/2006/table">
            <a:tbl>
              <a:tblPr/>
              <a:tblGrid>
                <a:gridCol w="838440"/>
                <a:gridCol w="761760"/>
                <a:gridCol w="762120"/>
                <a:gridCol w="762120"/>
                <a:gridCol w="768240"/>
                <a:gridCol w="755640"/>
                <a:gridCol w="76212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 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EEA1-5FFD-498D-A930-82532817DD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2060640"/>
            <a:ext cx="7467480" cy="441936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89200" y="2212920"/>
            <a:ext cx="3429000" cy="4140360"/>
            <a:chOff x="1789200" y="2212920"/>
            <a:chExt cx="3429000" cy="4140360"/>
          </a:xfrm>
        </p:grpSpPr>
        <p:sp>
          <p:nvSpPr>
            <p:cNvPr id="204" name=""/>
            <p:cNvSpPr/>
            <p:nvPr/>
          </p:nvSpPr>
          <p:spPr>
            <a:xfrm>
              <a:off x="2703600" y="5835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o especi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9200" y="5835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3600" y="531828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9200" y="531828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3600" y="4800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89200" y="4800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3600" y="428328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89200" y="428328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3600" y="376560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9200" y="376560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3600" y="324792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89200" y="324792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3600" y="2730600"/>
              <a:ext cx="25146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oente –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9200" y="2730600"/>
              <a:ext cx="914400" cy="5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03600" y="2212920"/>
              <a:ext cx="25146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o especi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89200" y="2212920"/>
              <a:ext cx="914400" cy="5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89200" y="221292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89200" y="2730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89200" y="32479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9200" y="3765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89200" y="42832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9200" y="4800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89200" y="53182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9200" y="58356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9200" y="63532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89200" y="2212920"/>
              <a:ext cx="0" cy="414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3600" y="2212920"/>
              <a:ext cx="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18200" y="2212920"/>
              <a:ext cx="0" cy="414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22760" y="274644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9960" y="297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aixo de z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22760" y="42703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79960" y="4727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ima de z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46440" y="3813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polar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CA1E-BB92-4C0C-92B6-87122D71E3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1600" y="1981080"/>
            <a:ext cx="7521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,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= 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10 100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7989-21E9-4BAA-9DA0-488901851D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,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,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0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 flutuante, com 8 bi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101101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F224-38D4-4BCF-91EE-2B48816DDF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81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10 1001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nto flutuante, 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(negativo) 1,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0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12,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B98D-080C-4063-95F5-045E591600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6360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nda os expoentes na ilustração (8 bits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110 1111 =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1,1111 = 1111,1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,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mbre do bit escondid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01 0000 =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1,0000 = 0,01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2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C894-A3EB-468F-A7FB-BDF9649E6F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dados podem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fab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ras, números e símbolos (codificados em ASCII e EBCD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é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ixo, números intei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lutuante (números reais ou fracioná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(representação decimal codificada em biná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áveis que possuem apenas dois valores para representação (FALSO e VERDADEIRO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6421-B435-4E7D-9CE6-0F5BA867B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ções especiais dos expoentes na ilustr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presentação NÃO norm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 passa a ser 0,_ _ _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 (000)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 passa a 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00 000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0,000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15625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867280"/>
            <a:ext cx="739152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orma IEEE prevê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nderflo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gradual (a mantissa deixa de ser normalizada), permitindo obter números bem mais próximos de ze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1FEE-E291-4602-AF0C-D139ECA8D3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inda as combinações especia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lização não permite representar ze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representação NÃO norm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0000000 = + 0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000000 = - 0 decimal (iguais em comparaçõ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presentações de infin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1110000 = +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110000 = -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111000 = indetermi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ombinações 11111_ _ _ 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 A Numb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mazenamento de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l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D919-CB8D-43AA-AEEA-BBD72B7FC3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3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é meados dos anos 1980, cada fabricante de computador tinha seu próprio formato para representar números em ponto flutua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Solu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riação do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Padrão 75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IEEE 198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adrão IEEE 754 procurou uniformizar a maneira como as diferentes máquinas representam os números em ponto flutuante, bem como devem operá-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números re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7D28-9C6D-41CD-B3A6-80D66486C6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 padrão IEEE 754 define três formatos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dup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4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ão estendida (80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EF34-2AE5-4CEF-9263-BE85BFF8E1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5280" y="4383000"/>
            <a:ext cx="762012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62320" y="1716120"/>
            <a:ext cx="548640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95480" y="1868400"/>
            <a:ext cx="4800600" cy="1755000"/>
            <a:chOff x="2895480" y="1868400"/>
            <a:chExt cx="4800600" cy="1755000"/>
          </a:xfrm>
        </p:grpSpPr>
        <p:sp>
          <p:nvSpPr>
            <p:cNvPr id="258" name=""/>
            <p:cNvSpPr/>
            <p:nvPr/>
          </p:nvSpPr>
          <p:spPr>
            <a:xfrm>
              <a:off x="3657600" y="232560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6200" y="23256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2325600"/>
              <a:ext cx="243828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61360" y="1868400"/>
              <a:ext cx="33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8                2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34240" y="24015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3163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29000" y="2934720"/>
              <a:ext cx="30492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267080" y="293472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74400" y="4535640"/>
            <a:ext cx="7488720" cy="1755000"/>
            <a:chOff x="1274400" y="4535640"/>
            <a:chExt cx="7488720" cy="1755000"/>
          </a:xfrm>
        </p:grpSpPr>
        <p:sp>
          <p:nvSpPr>
            <p:cNvPr id="267" name=""/>
            <p:cNvSpPr/>
            <p:nvPr/>
          </p:nvSpPr>
          <p:spPr>
            <a:xfrm>
              <a:off x="2057400" y="499284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0" y="4992840"/>
              <a:ext cx="11430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4992840"/>
              <a:ext cx="53341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74400" y="453564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11                                  5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9320" y="50691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58309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905120" y="5526000"/>
              <a:ext cx="30456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895480" y="560196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590920" y="36212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si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621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 dup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2E2C-01F2-439D-B3FD-8AD987A4D6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447920" y="1747800"/>
            <a:ext cx="7238880" cy="18288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 = + e 1 =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nal + Expoente + Signific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o de 1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t de polarização): precisão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o de 10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t de polarização): precisão dup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1900080"/>
          <a:ext cx="693432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1430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F46E-04CD-4C4C-A073-E00AAC0EF9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84040" y="1916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0111111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127</a:t>
            </a:r>
            <a:r>
              <a:rPr b="0" lang="pt-BR" sz="22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expoente zero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0000000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menor expoente = –126 (abaixo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11111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maior expoente = +127 (acima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371240" y="31572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F27E-CF31-4534-A078-FA10F82ECD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7304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Realize as conversões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,8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EEE 754, com 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0000011101000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IEEE 754, com 32 bits)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   ?   )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0106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9516-ECB7-4891-9A46-FB38382086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,875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0,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10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3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00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0101110000000000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EEE 754, com 32 bi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10000010010111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102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A0F9-0E2B-4EC1-80AC-7118C56D4E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3320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000001110100000000000000000000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EEE 754, com 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ente: 10000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1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do: 1010000000000000000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(negativo) 1,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26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371240" y="134640"/>
            <a:ext cx="7086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ED90-72CC-4486-B429-640E639FF1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dados numéricos são representados em um computador como uma seqüência de 0s e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números podem ser positivos ou negativos. As operações aritméticas, em particular a subtração, podem originar resultados nega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aspecto primordial a ser definido seria então como representar o s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é que um computador sabe que um dado número é nega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43C5-29B6-4F72-AC95-80DC68E2F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32000" y="2571840"/>
            <a:ext cx="7543800" cy="380988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4079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numéricos IEEE 7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371240" y="134640"/>
            <a:ext cx="7162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32000" y="2800440"/>
            <a:ext cx="7390800" cy="2821680"/>
            <a:chOff x="1332000" y="2800440"/>
            <a:chExt cx="7390800" cy="2821680"/>
          </a:xfrm>
        </p:grpSpPr>
        <p:grpSp>
          <p:nvGrpSpPr>
            <p:cNvPr id="294" name=""/>
            <p:cNvGrpSpPr/>
            <p:nvPr/>
          </p:nvGrpSpPr>
          <p:grpSpPr>
            <a:xfrm>
              <a:off x="1712880" y="2800440"/>
              <a:ext cx="7009560" cy="383040"/>
              <a:chOff x="1712880" y="2800440"/>
              <a:chExt cx="7009560" cy="383040"/>
            </a:xfrm>
          </p:grpSpPr>
          <p:sp>
            <p:nvSpPr>
              <p:cNvPr id="295" name=""/>
              <p:cNvSpPr/>
              <p:nvPr/>
            </p:nvSpPr>
            <p:spPr>
              <a:xfrm>
                <a:off x="2931480" y="28004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07800" y="28764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2720" y="28004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88680" y="28764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 &lt; Exp &lt; Max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2920" y="28004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12920" y="28764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Qualquer configuração de bits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12880" y="28764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izad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931840" y="34099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08160" y="34862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3080" y="34099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89040" y="34862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00 ... 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13280" y="34099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13280" y="34862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32000" y="34862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ão-Normaliz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712880" y="4019400"/>
              <a:ext cx="7009560" cy="383040"/>
              <a:chOff x="1712880" y="4019400"/>
              <a:chExt cx="7009560" cy="383040"/>
            </a:xfrm>
          </p:grpSpPr>
          <p:sp>
            <p:nvSpPr>
              <p:cNvPr id="310" name=""/>
              <p:cNvSpPr/>
              <p:nvPr/>
            </p:nvSpPr>
            <p:spPr>
              <a:xfrm>
                <a:off x="2931480" y="401940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07800" y="4095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12720" y="401940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88680" y="40953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00 ... 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12920" y="401940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12920" y="409536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.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12880" y="409536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12880" y="4629240"/>
              <a:ext cx="7009560" cy="383040"/>
              <a:chOff x="1712880" y="4629240"/>
              <a:chExt cx="7009560" cy="383040"/>
            </a:xfrm>
          </p:grpSpPr>
          <p:sp>
            <p:nvSpPr>
              <p:cNvPr id="318" name=""/>
              <p:cNvSpPr/>
              <p:nvPr/>
            </p:nvSpPr>
            <p:spPr>
              <a:xfrm>
                <a:off x="2931480" y="4629240"/>
                <a:ext cx="38088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7800" y="470520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12720" y="4629240"/>
                <a:ext cx="159984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88680" y="470520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1 ... 1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12920" y="4629240"/>
                <a:ext cx="3809520" cy="38088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12920" y="4705200"/>
                <a:ext cx="373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00 ..0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12880" y="470520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finit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931840" y="5238720"/>
              <a:ext cx="38088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8160" y="531504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080" y="5238720"/>
              <a:ext cx="159984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89040" y="53150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1 ... 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13280" y="5238720"/>
              <a:ext cx="3809520" cy="380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13280" y="531504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quer configuração de bits diferente de zer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07960" y="531504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ot a Numbe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703600" y="60008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 de sin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160800" y="569556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DF22-548D-4DE7-BD71-7C45FAF984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/256 combin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eb0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 0...0 : -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0 e significando = 0...0 : +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eeb0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 0...0 : -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0 e significando = 0...0 : +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=1 e significando =10...0:  in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/outras combinações: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371240" y="206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2A2E-F85F-40C4-A7E3-B8C59E8EB8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 00000000 00…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-1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 11111110 11...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12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x (2-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-2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AE3F-64A4-4A0A-9C5E-1B7E833A2E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218960" y="1700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entes n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cisão du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01111111111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1023</a:t>
            </a:r>
            <a:r>
              <a:rPr b="0" lang="pt-BR" sz="22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expoente ze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polariz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00000000001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menor expoente = –1022 (abaixo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11111111110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maior expoente = +1023 (acima de 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or número pos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mbre do bit escondido e não norm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160" indent="-200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0 00000000000 00…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102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-10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 número pos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mbre do bit escond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160" indent="-200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0 11111111110 11...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1023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x (2-2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-52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162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C475-56C0-4B84-8DD6-C9AB5FBF0B9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39720" y="2771640"/>
            <a:ext cx="7239240" cy="30481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o Resumo - IEEE 7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371240" y="206280"/>
            <a:ext cx="7162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Padrão IEEE 754 para Números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92360" y="2924280"/>
          <a:ext cx="6933960" cy="2711520"/>
        </p:xfrm>
        <a:graphic>
          <a:graphicData uri="http://schemas.openxmlformats.org/drawingml/2006/table">
            <a:tbl>
              <a:tblPr/>
              <a:tblGrid>
                <a:gridCol w="1371240"/>
                <a:gridCol w="2133720"/>
                <a:gridCol w="2057400"/>
                <a:gridCol w="137160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x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4.8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.5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7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1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2-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x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3.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~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.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E9DB-677F-45EF-BE93-5F198BC7AC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resentação em ponto flutuante tem limite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limitado pelo número de bi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eterminada pelo número de bi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3B6F-7721-4900-8F5D-64AFD23EBF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ndo o valor absoluto do dado a ser representado excede a capacidade de representação, porque o número de bits do expoente (neste caso, positivo) é insuficiente para representar o d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und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ndo o valor absoluto do dado a ser representado é tão pequeno que fica menor que o menor valor absoluto representá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e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impr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 normalização permite que o dado seja representado, porém com perda de prec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ção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5BC5-7CD2-4A2E-A8DC-D3D091C059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esentação de números reais em ponto flutuante é perfeitamente adequada para fazer cálculos matemáticos, científico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representação em ponto flutuante pode-se ter perda de precisão do número representado ou mesmo haverá números que não podem ser representado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 representação de números em que é necessário manter precisão até o último algarismo, não é admissível erro por aproxim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sar a represent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inary Coded Decim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cimal Representado em Binár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B44B-B87E-4C3D-BFB5-1096679FA3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760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déia do BCD é representar, em binário, cada algarismo de forma  que o número original seja integralmente preserv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dificação BCD não possui extensão fixa, possibilitando representar números com precisão variável - quanto maior o número de bits, maior será a precis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E6C-B7E2-45A9-B5F1-E886B92511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828800" y="2093760"/>
            <a:ext cx="6400800" cy="434340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19232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981080" y="2246400"/>
          <a:ext cx="6095880" cy="40305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6553080" y="6477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 ..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06BB-FE12-4945-8383-5375A40556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sta a esta pergunta é que isso depende da convenção usada na representação de núm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nvenções mais usuais são as segui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e grandeza com sinal      (sinal e magn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em complemento 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presentação de Números Intei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97360"/>
            <a:ext cx="7620120" cy="1920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s formas de representaçã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o d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ra negar o valor de um número deve-se inverter os bits do sinal (obsoleta)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sso d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presentação do número é dada pela soma de seu valor absoluto com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xemplo: Um sistema de 8 bits é chamado de excesso de 128 e um número é armazenado com seu valor real somado a 128. Ex.:-3=0111110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-3+128=125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7DC8-84CF-4D6D-A484-632342602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28800" y="1941480"/>
            <a:ext cx="6400800" cy="28195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20680" y="1603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ela de Representação dos Números Decimais em 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981080" y="2093760"/>
          <a:ext cx="6096240" cy="2552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álid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19280" y="4869000"/>
            <a:ext cx="70102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001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= 1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logo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= 001000111001 (BC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6D8A-01C3-4FD7-A3D5-74998CE730E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11360" y="4724280"/>
            <a:ext cx="7086600" cy="198144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de um dígito em BCD requer 4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 utilização de apenas 4 bits por byte não é eficiente, normalmente são armazenados 2 dígitos BCD em um só byte. Esta representação é chamada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BCD comprimido ou compactado</a:t>
            </a:r>
            <a:r>
              <a:rPr b="0" lang="pt-BR" sz="2400" spc="-1" strike="noStrike">
                <a:solidFill>
                  <a:srgbClr val="eeb00b"/>
                </a:solidFill>
                <a:latin typeface="Arial"/>
              </a:rPr>
              <a:t> ("</a:t>
            </a:r>
            <a:r>
              <a:rPr b="1" i="1" lang="pt-BR" sz="2400" spc="-1" strike="noStrike">
                <a:solidFill>
                  <a:srgbClr val="eeb00b"/>
                </a:solidFill>
                <a:latin typeface="Arial"/>
              </a:rPr>
              <a:t>packed BCD</a:t>
            </a:r>
            <a:r>
              <a:rPr b="0" lang="pt-BR" sz="2400" spc="-1" strike="noStrike">
                <a:solidFill>
                  <a:srgbClr val="eeb00b"/>
                </a:solidFill>
                <a:latin typeface="Arial"/>
              </a:rPr>
              <a:t>"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4239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(  ?   ) 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63640" y="4876920"/>
          <a:ext cx="6781680" cy="1701720"/>
        </p:xfrm>
        <a:graphic>
          <a:graphicData uri="http://schemas.openxmlformats.org/drawingml/2006/table">
            <a:tbl>
              <a:tblPr/>
              <a:tblGrid>
                <a:gridCol w="1525680"/>
                <a:gridCol w="1611360"/>
                <a:gridCol w="1525320"/>
                <a:gridCol w="21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cim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00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BCD comprimi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2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5FE9-79A4-451C-BE7D-5A177C52AD8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s algarismos sem código válido em decimal (códigos representativos dos valores decimais de 10 a 15), é comum utilizar alguns deles para indicar o sinal do núm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sistemas que adotam a seguinte convenção para o sinal dos números representados em BC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presenta o sinal positivo (“+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presenta o sinal negativo (“-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5013360"/>
            <a:ext cx="380880" cy="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5394240"/>
            <a:ext cx="380880" cy="0"/>
          </a:xfrm>
          <a:prstGeom prst="line">
            <a:avLst/>
          </a:prstGeom>
          <a:ln cap="sq"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BFEC-E1E1-4F53-B780-2249B43B19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nesta representação ainda há um desperdício de códigos; como BCD usa 4 bits (16 representações possíveis) para representar 10 algarismos, 6 (ou 4) códigos não são utiliz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nto, essa representação é menos eficiente em relação à utilização dos recursos do computador que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representação em ponto flutu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59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ção de Números Decimais Codificados em Binário (BCD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0BCB-4020-4FF5-A395-0CCCC15F6CB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72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 método consiste na determinação de uma posição fixa para a vírg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ponto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valores representados em ponto fixo para uma determinada operação possuem a mesma quantidade de algarismos inteiros, bem como a mesma quantidade de algarismos fracioná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1101,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,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,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9E4-D5D6-45A8-97F7-0DB305FB57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posições mais adotadas para a vírgula 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extremidade esquerda do número – nesse caso, o número é totalmente fracion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extremidade mais a direita do número – nesse caso, o número é int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qualquer desses casos, no entanto, a vírgula fracionária não estará fisicamente representada na memória; sua posição é determinada na definição da variável, realizada pelo programador (ou pelo compilador), e o sistema memoriza essa posição, mas não a representa fis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CEBD-C554-452E-8BB6-230AB5E07A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Observaçõ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presentação em Ponto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maioria das linguagens de programação e nos sistemas de computação (e os compiladores da maior parte das linguagens de programação) emprega-se a representação de números em ponto fixo para indicar apenas valores inteiros (a vírgula fracionária é assumida na posição mais à direita do número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s fracionários são, nesses casos, representados apenas em ponto flutu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s de tipos de dados na linguagem Pas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Tipo de dado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eeb00b"/>
                </a:solidFill>
                <a:latin typeface="Arial"/>
              </a:rPr>
              <a:t>Representação inter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ixo (intei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nto flutuante (re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D7F1-03FF-430F-BB9F-FA73CF053CB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28640"/>
            <a:ext cx="792468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bit mais significativo representa o s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indica u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úmero positiv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2680" indent="-14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indica u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úmero negativ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s demais bits representam a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grandeza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(magnitude)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O valor dos bits usados para representar a magnitude independe do sinal (sendo o número positivo ou negativo, a representação binária da magnitude será a mesm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5229360"/>
            <a:ext cx="3697200" cy="141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7520" indent="-4752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11160" indent="-5763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11160" indent="-5763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1010100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 = - 4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14600" y="3619440"/>
            <a:ext cx="4876920" cy="457200"/>
            <a:chOff x="2514600" y="3619440"/>
            <a:chExt cx="4876920" cy="457200"/>
          </a:xfrm>
        </p:grpSpPr>
        <p:sp>
          <p:nvSpPr>
            <p:cNvPr id="124" name=""/>
            <p:cNvSpPr/>
            <p:nvPr/>
          </p:nvSpPr>
          <p:spPr>
            <a:xfrm>
              <a:off x="3371760" y="3619440"/>
              <a:ext cx="4019760" cy="457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3619440"/>
              <a:ext cx="857160" cy="457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3619440"/>
              <a:ext cx="487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4076640"/>
              <a:ext cx="487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4600" y="361944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71760" y="36194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91520" y="361944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9022-78AE-492A-9E94-E0612022C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2276640"/>
            <a:ext cx="693432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3640" y="2421000"/>
            <a:ext cx="6477120" cy="2895480"/>
            <a:chOff x="1763640" y="2421000"/>
            <a:chExt cx="6477120" cy="2895480"/>
          </a:xfrm>
        </p:grpSpPr>
        <p:sp>
          <p:nvSpPr>
            <p:cNvPr id="133" name=""/>
            <p:cNvSpPr/>
            <p:nvPr/>
          </p:nvSpPr>
          <p:spPr>
            <a:xfrm>
              <a:off x="3922920" y="4859280"/>
              <a:ext cx="4317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111111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4859280"/>
              <a:ext cx="2159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127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2920" y="4325760"/>
              <a:ext cx="4317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111111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3640" y="4325760"/>
              <a:ext cx="2159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127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2920" y="3792240"/>
              <a:ext cx="4317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00100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3792240"/>
              <a:ext cx="2159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22920" y="3247920"/>
              <a:ext cx="43178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0001001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3247920"/>
              <a:ext cx="215928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22920" y="2421000"/>
              <a:ext cx="43178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alor binário com 8 bits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7 + bit de sinal)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3640" y="2421000"/>
              <a:ext cx="215928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alor decimal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3640" y="2421000"/>
              <a:ext cx="6477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3640" y="324792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379224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3640" y="432576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63640" y="485928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63640" y="5316480"/>
              <a:ext cx="6477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3640" y="2421000"/>
              <a:ext cx="0" cy="2895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2920" y="24210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0760" y="2421000"/>
              <a:ext cx="0" cy="2895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29920" y="1700280"/>
            <a:ext cx="29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mpl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668920"/>
            <a:ext cx="74674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uma representação em binário 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teria disponível para a representação do númer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 bit mais significativo representa o sinal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9202-B3AA-478F-8060-4E96E5724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 uma gran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vantag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la exige um grande número de testes para se realizar uma simples soma de dois números inteir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 que na UAL existam dois circuitos distintos para a adição e a subt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õ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de grandeza com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CF62-0C1B-4EFF-A73B-30DC80764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4581360"/>
            <a:ext cx="3581280" cy="197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6080" indent="-46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01010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= +4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1010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= -4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Representação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4581360"/>
            <a:ext cx="3505320" cy="198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6080" indent="-46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00001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= +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90240" indent="-5587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1110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2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557208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49576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6294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números inteiros posi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gual à representação de grandeza com sin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buClr>
                <a:srgbClr val="200b5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números inteiros neg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-se os bits menos significativos da direita para a esquerda até à ocorrência do primeiro bit igual a 1 (inclusive), sendo os bits restantes complementados de 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operação equivale a realizar: complemento de 1 +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25D-4735-4307-8C35-A5BA20B11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7-18T11:09:30Z</dcterms:modified>
  <cp:revision>703</cp:revision>
  <dc:subject/>
  <dc:title>Introdução à Computação</dc:title>
</cp:coreProperties>
</file>