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50722-7D57-4B41-9565-E9646D4EC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6A74D-9721-4AF9-8B0A-5F2DCAC761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AEBD0-8E83-4D52-84E8-8FAC836278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DE5ED-98FB-4A27-959D-6E8D9DDAAA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0F89A-AF9D-4964-8FAF-0270C44F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39FD0-301B-4D95-87A6-C9F4EBC2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9750A-F6AD-4098-AFEE-26FA1B8E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6DFDF-D20B-4F59-BA5D-82C097D8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05979-027B-474C-A1A0-E7D3D414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7F8C8-4D09-49F2-AC10-0A77AECC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EE9B3-E363-4047-BE55-06DA7D7B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4C931-FEA0-46CD-8C9F-B98F5E337C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A0D68-F1DA-453C-95C7-A42C1C50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627C1-583C-4325-B000-05E6EC7A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FA624-07AF-49CD-B9A9-E29B782D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4BCB8-3763-4F4F-B443-52FA2221D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15B59-B0EA-40F8-AB3F-185BFE097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9047B-BBA9-4185-8771-6ABC23ECCB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47C98-5B8A-4001-9210-83E133F786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48891-8A2A-4089-A296-7B3938A6E0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F3A35-C524-48E2-8FA6-BC8AAA9C07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3B7D9-532F-4BFC-96A2-6A066D0CC7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5D488-1A95-4493-8AE2-EDEF68D80E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391B9-1080-4916-A9C4-BDADEA2EFC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00000" y="1557360"/>
            <a:ext cx="8244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D05E-FAD5-4A69-B6FE-D1A92543797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1143000" cy="6857640"/>
            <a:chOff x="0" y="0"/>
            <a:chExt cx="1143000" cy="6857640"/>
          </a:xfrm>
        </p:grpSpPr>
        <p:grpSp>
          <p:nvGrpSpPr>
            <p:cNvPr id="5" name=""/>
            <p:cNvGrpSpPr/>
            <p:nvPr/>
          </p:nvGrpSpPr>
          <p:grpSpPr>
            <a:xfrm>
              <a:off x="0" y="0"/>
              <a:ext cx="1143000" cy="3428640"/>
              <a:chOff x="0" y="0"/>
              <a:chExt cx="1143000" cy="3428640"/>
            </a:xfrm>
          </p:grpSpPr>
          <p:pic>
            <p:nvPicPr>
              <p:cNvPr id="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143000" cy="162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12080"/>
                <a:ext cx="1143000" cy="181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"/>
            <p:cNvGrpSpPr/>
            <p:nvPr/>
          </p:nvGrpSpPr>
          <p:grpSpPr>
            <a:xfrm>
              <a:off x="0" y="3429000"/>
              <a:ext cx="1143000" cy="3428640"/>
              <a:chOff x="0" y="3429000"/>
              <a:chExt cx="1143000" cy="3428640"/>
            </a:xfrm>
          </p:grpSpPr>
          <p:pic>
            <p:nvPicPr>
              <p:cNvPr id="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29000"/>
                <a:ext cx="1143000" cy="162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5041080"/>
                <a:ext cx="1143000" cy="1816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" name=""/>
          <p:cNvGrpSpPr/>
          <p:nvPr/>
        </p:nvGrpSpPr>
        <p:grpSpPr>
          <a:xfrm>
            <a:off x="120600" y="5950080"/>
            <a:ext cx="863640" cy="907560"/>
            <a:chOff x="120600" y="5950080"/>
            <a:chExt cx="863640" cy="907560"/>
          </a:xfrm>
        </p:grpSpPr>
        <p:sp>
          <p:nvSpPr>
            <p:cNvPr id="12" name=""/>
            <p:cNvSpPr/>
            <p:nvPr/>
          </p:nvSpPr>
          <p:spPr>
            <a:xfrm>
              <a:off x="120600" y="6676560"/>
              <a:ext cx="863640" cy="181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69440" y="6237720"/>
              <a:ext cx="47160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 flipV="1">
              <a:off x="162000" y="5950080"/>
              <a:ext cx="470160" cy="398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71960" y="6251400"/>
              <a:ext cx="47124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>
              <a:off x="162360" y="5962680"/>
              <a:ext cx="472680" cy="399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43000" y="3213000"/>
            <a:ext cx="8001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8000" y="170028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D24F-1746-4BE8-A98E-9C063CF6951D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0" y="0"/>
            <a:ext cx="1691640" cy="6857640"/>
            <a:chOff x="0" y="0"/>
            <a:chExt cx="1691640" cy="685764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1691640" cy="3428640"/>
              <a:chOff x="0" y="0"/>
              <a:chExt cx="1691640" cy="3428640"/>
            </a:xfrm>
          </p:grpSpPr>
          <p:pic>
            <p:nvPicPr>
              <p:cNvPr id="6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691640" cy="162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12080"/>
                <a:ext cx="1691640" cy="181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" name=""/>
            <p:cNvGrpSpPr/>
            <p:nvPr/>
          </p:nvGrpSpPr>
          <p:grpSpPr>
            <a:xfrm>
              <a:off x="0" y="3429000"/>
              <a:ext cx="1691640" cy="3428640"/>
              <a:chOff x="0" y="3429000"/>
              <a:chExt cx="1691640" cy="3428640"/>
            </a:xfrm>
          </p:grpSpPr>
          <p:pic>
            <p:nvPicPr>
              <p:cNvPr id="6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29000"/>
                <a:ext cx="1691640" cy="162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5041080"/>
                <a:ext cx="1691640" cy="1816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5" name=""/>
          <p:cNvGrpSpPr/>
          <p:nvPr/>
        </p:nvGrpSpPr>
        <p:grpSpPr>
          <a:xfrm>
            <a:off x="468360" y="5950080"/>
            <a:ext cx="863640" cy="907560"/>
            <a:chOff x="468360" y="5950080"/>
            <a:chExt cx="863640" cy="907560"/>
          </a:xfrm>
        </p:grpSpPr>
        <p:sp>
          <p:nvSpPr>
            <p:cNvPr id="66" name=""/>
            <p:cNvSpPr/>
            <p:nvPr/>
          </p:nvSpPr>
          <p:spPr>
            <a:xfrm>
              <a:off x="468360" y="6676560"/>
              <a:ext cx="863640" cy="181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7200" y="6237720"/>
              <a:ext cx="47160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flipV="1">
              <a:off x="510120" y="5950080"/>
              <a:ext cx="470160" cy="398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19720" y="6251400"/>
              <a:ext cx="47124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510480" y="5962680"/>
              <a:ext cx="472680" cy="399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0b5b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057040" y="3429000"/>
            <a:ext cx="6762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Parte 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457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77724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BYTE (BInary TEr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rupo ordenado de 8 bits, para efeito de manipulação interna mais efi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atado de forma individual, como unidade de armazenamento e transferênc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Unidade de memória usada para representar um caract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447920" y="4468680"/>
            <a:ext cx="7315200" cy="2252880"/>
            <a:chOff x="1447920" y="4468680"/>
            <a:chExt cx="7315200" cy="2252880"/>
          </a:xfrm>
        </p:grpSpPr>
        <p:sp>
          <p:nvSpPr>
            <p:cNvPr id="135" name=""/>
            <p:cNvSpPr/>
            <p:nvPr/>
          </p:nvSpPr>
          <p:spPr>
            <a:xfrm>
              <a:off x="1447920" y="5078160"/>
              <a:ext cx="7315200" cy="54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>
                <a:lnSpc>
                  <a:spcPct val="101000"/>
                </a:lnSpc>
                <a:spcBef>
                  <a:spcPts val="913"/>
                </a:spcBef>
                <a:tabLst>
                  <a:tab algn="l" pos="0"/>
                  <a:tab algn="l" pos="152280"/>
                  <a:tab algn="l" pos="304920"/>
                  <a:tab algn="l" pos="457200"/>
                  <a:tab algn="l" pos="609480"/>
                  <a:tab algn="l" pos="762120"/>
                  <a:tab algn="l" pos="914400"/>
                  <a:tab algn="l" pos="1066680"/>
                  <a:tab algn="l" pos="1219320"/>
                  <a:tab algn="l" pos="1371600"/>
                  <a:tab algn="l" pos="1523880"/>
                  <a:tab algn="l" pos="1676520"/>
                  <a:tab algn="l" pos="1828800"/>
                  <a:tab algn="l" pos="1981080"/>
                  <a:tab algn="l" pos="2133720"/>
                  <a:tab algn="l" pos="2286000"/>
                  <a:tab algn="l" pos="2438280"/>
                  <a:tab algn="l" pos="2590920"/>
                  <a:tab algn="l" pos="2743200"/>
                  <a:tab algn="l" pos="2895480"/>
                  <a:tab algn="l" pos="3048120"/>
                </a:tabLst>
              </a:pPr>
              <a:r>
                <a:rPr b="0" lang="pt-PT" sz="1600" spc="-1" strike="noStrike">
                  <a:solidFill>
                    <a:srgbClr val="000000"/>
                  </a:solidFill>
                  <a:latin typeface="Arial"/>
                </a:rPr>
                <a:t>O termo </a:t>
              </a:r>
              <a:r>
                <a:rPr b="0" i="1" lang="pt-PT" sz="1600" spc="-1" strike="noStrike">
                  <a:solidFill>
                    <a:srgbClr val="000000"/>
                  </a:solidFill>
                  <a:latin typeface="Arial"/>
                </a:rPr>
                <a:t>bit</a:t>
              </a:r>
              <a:r>
                <a:rPr b="0" lang="pt-PT" sz="1600" spc="-1" strike="noStrike">
                  <a:solidFill>
                    <a:srgbClr val="000000"/>
                  </a:solidFill>
                  <a:latin typeface="Arial"/>
                </a:rPr>
                <a:t> apareceu em 1949, inventado por John Tukey, um pioneiro dos computadores. Segundo Tukey, era melhor que as alternativas </a:t>
              </a:r>
              <a:r>
                <a:rPr b="0" i="1" lang="pt-PT" sz="1600" spc="-1" strike="noStrike">
                  <a:solidFill>
                    <a:srgbClr val="000000"/>
                  </a:solidFill>
                  <a:latin typeface="Arial"/>
                </a:rPr>
                <a:t>bigit</a:t>
              </a:r>
              <a:r>
                <a:rPr b="0" lang="pt-PT" sz="1600" spc="-1" strike="noStrike">
                  <a:solidFill>
                    <a:srgbClr val="000000"/>
                  </a:solidFill>
                  <a:latin typeface="Arial"/>
                </a:rPr>
                <a:t> ou </a:t>
              </a:r>
              <a:r>
                <a:rPr b="0" i="1" lang="pt-PT" sz="1600" spc="-1" strike="noStrike">
                  <a:solidFill>
                    <a:srgbClr val="000000"/>
                  </a:solidFill>
                  <a:latin typeface="Arial"/>
                </a:rPr>
                <a:t>binit</a:t>
              </a:r>
              <a:r>
                <a:rPr b="0" lang="pt-PT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47920" y="5688000"/>
              <a:ext cx="7315200" cy="103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>
                <a:lnSpc>
                  <a:spcPct val="101000"/>
                </a:lnSpc>
                <a:spcBef>
                  <a:spcPts val="913"/>
                </a:spcBef>
                <a:tabLst>
                  <a:tab algn="l" pos="0"/>
                  <a:tab algn="l" pos="152280"/>
                  <a:tab algn="l" pos="304920"/>
                  <a:tab algn="l" pos="457200"/>
                  <a:tab algn="l" pos="609480"/>
                  <a:tab algn="l" pos="762120"/>
                  <a:tab algn="l" pos="914400"/>
                  <a:tab algn="l" pos="1066680"/>
                  <a:tab algn="l" pos="1219320"/>
                  <a:tab algn="l" pos="1371600"/>
                  <a:tab algn="l" pos="1523880"/>
                  <a:tab algn="l" pos="1676520"/>
                  <a:tab algn="l" pos="1828800"/>
                  <a:tab algn="l" pos="1981080"/>
                  <a:tab algn="l" pos="2133720"/>
                  <a:tab algn="l" pos="2286000"/>
                  <a:tab algn="l" pos="2438280"/>
                  <a:tab algn="l" pos="2590920"/>
                  <a:tab algn="l" pos="2743200"/>
                  <a:tab algn="l" pos="2895480"/>
                  <a:tab algn="l" pos="3048120"/>
                </a:tabLst>
              </a:pPr>
              <a:r>
                <a:rPr b="0" lang="pt-PT" sz="1600" spc="-1" strike="noStrike">
                  <a:solidFill>
                    <a:srgbClr val="000000"/>
                  </a:solidFill>
                  <a:latin typeface="Arial"/>
                </a:rPr>
                <a:t>O termo </a:t>
              </a:r>
              <a:r>
                <a:rPr b="0" i="1" lang="pt-PT" sz="1600" spc="-1" strike="noStrike">
                  <a:solidFill>
                    <a:srgbClr val="000000"/>
                  </a:solidFill>
                  <a:latin typeface="Arial"/>
                </a:rPr>
                <a:t>byte</a:t>
              </a:r>
              <a:r>
                <a:rPr b="0" lang="pt-PT" sz="1600" spc="-1" strike="noStrike">
                  <a:solidFill>
                    <a:srgbClr val="000000"/>
                  </a:solidFill>
                  <a:latin typeface="Arial"/>
                </a:rPr>
                <a:t> foi criado por Werner Buchholz em 1956 durante o desenho do computador IBM Stretch. Inicialmente era um grupo de 1 a 6 </a:t>
              </a:r>
              <a:r>
                <a:rPr b="0" i="1" lang="pt-PT" sz="1600" spc="-1" strike="noStrike">
                  <a:solidFill>
                    <a:srgbClr val="000000"/>
                  </a:solidFill>
                  <a:latin typeface="Arial"/>
                </a:rPr>
                <a:t>bits</a:t>
              </a:r>
              <a:r>
                <a:rPr b="0" lang="pt-PT" sz="1600" spc="-1" strike="noStrike">
                  <a:solidFill>
                    <a:srgbClr val="000000"/>
                  </a:solidFill>
                  <a:latin typeface="Arial"/>
                </a:rPr>
                <a:t>, mas logo se transformou num de 8 </a:t>
              </a:r>
              <a:r>
                <a:rPr b="0" i="1" lang="pt-PT" sz="1600" spc="-1" strike="noStrike">
                  <a:solidFill>
                    <a:srgbClr val="000000"/>
                  </a:solidFill>
                  <a:latin typeface="Arial"/>
                </a:rPr>
                <a:t>bits</a:t>
              </a:r>
              <a:r>
                <a:rPr b="0" lang="pt-PT" sz="1600" spc="-1" strike="noStrike">
                  <a:solidFill>
                    <a:srgbClr val="000000"/>
                  </a:solidFill>
                  <a:latin typeface="Arial"/>
                </a:rPr>
                <a:t>. A palavra é uma mutação de </a:t>
              </a:r>
              <a:r>
                <a:rPr b="0" i="1" lang="pt-PT" sz="1600" spc="-1" strike="noStrike">
                  <a:solidFill>
                    <a:srgbClr val="000000"/>
                  </a:solidFill>
                  <a:latin typeface="Arial"/>
                </a:rPr>
                <a:t>bite</a:t>
              </a:r>
              <a:r>
                <a:rPr b="0" lang="pt-PT" sz="1600" spc="-1" strike="noStrike">
                  <a:solidFill>
                    <a:srgbClr val="000000"/>
                  </a:solidFill>
                  <a:latin typeface="Arial"/>
                </a:rPr>
                <a:t>, para não confundir com </a:t>
              </a:r>
              <a:r>
                <a:rPr b="0" i="1" lang="pt-PT" sz="1600" spc="-1" strike="noStrike">
                  <a:solidFill>
                    <a:srgbClr val="000000"/>
                  </a:solidFill>
                  <a:latin typeface="Arial"/>
                </a:rPr>
                <a:t>bit</a:t>
              </a:r>
              <a:r>
                <a:rPr b="0" lang="pt-PT" sz="16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47920" y="4468680"/>
              <a:ext cx="7315200" cy="54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>
                <a:lnSpc>
                  <a:spcPct val="101000"/>
                </a:lnSpc>
                <a:spcBef>
                  <a:spcPts val="913"/>
                </a:spcBef>
                <a:tabLst>
                  <a:tab algn="l" pos="0"/>
                  <a:tab algn="l" pos="152280"/>
                  <a:tab algn="l" pos="304920"/>
                  <a:tab algn="l" pos="457200"/>
                  <a:tab algn="l" pos="609480"/>
                  <a:tab algn="l" pos="762120"/>
                  <a:tab algn="l" pos="914400"/>
                  <a:tab algn="l" pos="1066680"/>
                  <a:tab algn="l" pos="1219320"/>
                  <a:tab algn="l" pos="1371600"/>
                  <a:tab algn="l" pos="1523880"/>
                  <a:tab algn="l" pos="1676520"/>
                  <a:tab algn="l" pos="1828800"/>
                  <a:tab algn="l" pos="1981080"/>
                  <a:tab algn="l" pos="2133720"/>
                  <a:tab algn="l" pos="2286000"/>
                  <a:tab algn="l" pos="2438280"/>
                  <a:tab algn="l" pos="2590920"/>
                  <a:tab algn="l" pos="2743200"/>
                  <a:tab algn="l" pos="2895480"/>
                  <a:tab algn="l" pos="3048120"/>
                </a:tabLst>
              </a:pPr>
              <a:r>
                <a:rPr b="0" lang="pt-PT" sz="1600" spc="-1" strike="noStrike">
                  <a:solidFill>
                    <a:srgbClr val="000000"/>
                  </a:solidFill>
                  <a:latin typeface="Arial"/>
                </a:rPr>
                <a:t>Com 8 bits, podemos arranjar 256 configurações diferentes: dá para 256 caracteres, ou para números de 0 a 255, ou de –128 a 127, por exemplo.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296360" y="54936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FD822-4C05-4564-8444-237C253A193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odas as letras, números e outros caracteres são codificados e decodificados pelos equipamentos através dos bytes que os representam, permitindo, dessa forma, a comunicação entre o usuário e a máqui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istemas mais importantes desenvolvidos para representar símbolos com números binários (bits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EBCDIC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xtended Binary Coded Decimal Interchange Cod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Código Ampliado de Caracteres Decimais Codificados em Binário para o Intercâmbio de Dad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ASCII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merican Standard Code for Information Interchang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Código Padrão Americano para o Intercâmbio de Informaçõ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UNICOD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Unicódig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96360" y="54936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C56D3-48FB-433F-8549-2C7B29E7A4D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186920" y="1700280"/>
            <a:ext cx="782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EBCD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ódigo de 8 bits (256 símbol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ado em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ainfram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IBM e em sistemas de médio porte, raramente encontrado em microcomput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ASC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drão definido pela organização AN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ódigo de 7 bits (128 combinações de caractere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PC existe o ASCII Estendido (utiliza outros 128 códigos para símbolos gráficos, e línguas diferentes do inglê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UNI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vo padrão para representação de dados, oferecerá 2 bytes para a representação de símbolos (mais de 65.000 símbol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96360" y="62064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64A43-0BC2-4D19-99A8-0E2E61F3557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47640" y="2781360"/>
            <a:ext cx="6913800" cy="64764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6360" y="54936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32000" y="2852640"/>
            <a:ext cx="73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 byte = 8 bits = 1 caractere (letra, número ou símbolo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5445000"/>
            <a:ext cx="7086600" cy="82404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demos definir 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lavr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o um conjunto de bits que representa uma informação útil para os computadores. A palavra nos computadores é um valor fixo e constante para um dado processador (p.ex.: 32 bits, 64 bits)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4F07B-78EB-49F8-BE38-529EB278B87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187280" y="1700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es do conjunto de caracteres ASC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32000" y="5653080"/>
            <a:ext cx="7543800" cy="106740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o os principais códigos de representação de caracteres utilizam grupos de 8 bits por caractere, os conceitos byte e caractere tornam-se semelhantes, e as, palavras, quase sinônimas. O termo caractere é mais usado para fins comerciais e o termo byte é mais empregado na linguagem técnica de profissionais da área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835280" y="2214720"/>
          <a:ext cx="6095880" cy="33303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ári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0 000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0 001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0 000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0 001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 11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 110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1 1011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1 111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1332360" y="482760"/>
            <a:ext cx="679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7D7D9-1CD1-4F40-83F5-903B567C7DE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371600" y="1700280"/>
            <a:ext cx="73771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dicações numéricas dos computado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it - 2 estados: 0 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476360" y="2637000"/>
          <a:ext cx="7058160" cy="2893680"/>
        </p:xfrm>
        <a:graphic>
          <a:graphicData uri="http://schemas.openxmlformats.org/drawingml/2006/table">
            <a:tbl>
              <a:tblPr/>
              <a:tblGrid>
                <a:gridCol w="1905120"/>
                <a:gridCol w="636480"/>
                <a:gridCol w="1746360"/>
                <a:gridCol w="2770200"/>
              </a:tblGrid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t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bit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lobyt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ou Kilobyte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B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24 byte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.02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abyt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24 KB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.048.57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gabyt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24 MB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.073.741.82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abyt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24 GB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.099.511.627.77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1332000" y="5805360"/>
            <a:ext cx="7391160" cy="824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 valores utilizados em computação para indicar capacidade de memória são normalmente compostos de um número (entre 0 e 999) e uma das abreviaturas citadas (ex.: 256K, 64M, etc.)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96720" y="549360"/>
            <a:ext cx="694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formação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 e sua Representação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70299-240E-4276-8C9C-FB08783406D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331640" y="1773000"/>
            <a:ext cx="74674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s computadores manipulam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d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sinais brutos e sem significado individual) para produzi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formaçõ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onversão de dados em informações, e estas novamente em dados, é uma parte tão fundamental em relação ao que os computadores fazem que é preciso saber como a conversão ocorre para compreender como o computador funcio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elizmente os computadores não usam nosso sistema de numera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96360" y="54936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58920" y="5789520"/>
            <a:ext cx="7777080" cy="86004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bora os códigos de caracteres sejam úteis para representar dados textuais e números inteiros (0 a 9), eles não são úteis para números que possuem pontos fracionários, como 1,25. Para representar números com frações, bem como números extremamente grandes, por exemplo, os computadores utilizam 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ação de ponto flutuan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a ser vista posteriormente)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F89F4-432E-4400-9A95-81FB653C3B3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263600" y="1700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stema de Nume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junto de símbolos utilizados para representação de quantidades e de regras que definem a forma de representa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da sistema de numeração é apenas um método diferente de representar quantidades. As quantidades em si não mudam; mudam apenas os símbolos usados para representá-l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quantidade de algarismos disponíveis em um dado sistema de numeração é chamada de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presentação numérica mais empregada: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notação posicional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96360" y="62064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F1F63-90DE-4046-948D-7FC61576831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87280" y="1699920"/>
            <a:ext cx="77724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ção Pos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or atribuído a um símbol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enden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 posição em que ele se encontra no conjunto de símbolos que representa uma quantid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valor total do número é a soma dos valores relativos de cada algarismo (decim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4419720"/>
            <a:ext cx="73911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 numeração decim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35                                              57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00      30        5                           500      70        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828440" y="5410080"/>
            <a:ext cx="609480" cy="60984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700360" y="5406840"/>
            <a:ext cx="0" cy="68580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93080" y="5407200"/>
            <a:ext cx="0" cy="68580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95480" y="5411880"/>
            <a:ext cx="609840" cy="60948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171840" y="5411880"/>
            <a:ext cx="609480" cy="60948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46880" y="5411880"/>
            <a:ext cx="609840" cy="60948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6360" y="54936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BBADB-2B10-471C-BF8F-C4F67D1D06F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258920" y="1773000"/>
            <a:ext cx="7772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ção Não Pos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or atribuído a um símbolo é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alteráv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dependente da posição em que se encontre no conjunto de símbolos que representam uma quantid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4038480"/>
            <a:ext cx="739152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stema de Numeraçã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Roman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XXI                                               XI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0       10        1                           10         1        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834920" y="5195880"/>
            <a:ext cx="609480" cy="60948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700360" y="5238360"/>
            <a:ext cx="0" cy="63828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64360" y="5229360"/>
            <a:ext cx="0" cy="63792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16360" y="5195880"/>
            <a:ext cx="609480" cy="60948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267240" y="5195880"/>
            <a:ext cx="609480" cy="60948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91520" y="5181480"/>
            <a:ext cx="609480" cy="60984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6360" y="54936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1093F-B809-42B1-B9F2-CB691AFF575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58560" y="1773360"/>
            <a:ext cx="770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 computador, sendo um equipamento eletrônico, armazena e movimenta as informações internamente sob forma eletrônica; tudo o que faz é reconhecer dois estados físicos distintos, produzidos pela eletricidade, pela polaridade magnética ou pela luz refletida – em essência, eles sabem dizer se um “interruptor” está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gado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ligad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 computador, por ser uma máquina eletrônica, só consegue processar duas informações: 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esenç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sênci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 energ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 que a máquina pudesse representar eletricamente todos os símbolos utilizados na linguagem humana, seriam necessários mais de 100 diferentes valores de tensão (ou de corrente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96360" y="62064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68137-74C3-4C81-9E22-68284A3BBAA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332000" y="242100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istema de numeração –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ódi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peração básica –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ntag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Grupo com um determinado número de objetos –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base (rai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Sistemas de numeração básic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cim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iná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c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Hexadecim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62160" y="1657440"/>
            <a:ext cx="35334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 Numer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6360" y="54936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6D312-0183-4F0A-A9C5-E258A8B1F80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187280" y="170028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mplos de Sistemas de Nume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258920" y="2276640"/>
          <a:ext cx="7467480" cy="3108240"/>
        </p:xfrm>
        <a:graphic>
          <a:graphicData uri="http://schemas.openxmlformats.org/drawingml/2006/table">
            <a:tbl>
              <a:tblPr/>
              <a:tblGrid>
                <a:gridCol w="2049120"/>
                <a:gridCol w="922320"/>
                <a:gridCol w="4496040"/>
              </a:tblGrid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arismo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ári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nári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,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,2,3,4,5,6,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,2,3,4,5,6,7,8,9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odecim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,2,3,4,5,6,7,8,9,A,B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xadecim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,2,3,4,5,6,7,8,9,A,B,C,D,E,F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1332000" y="5661000"/>
            <a:ext cx="7391160" cy="106740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o os números representados em base 2 são muito extensos e, portanto, de difícil manipulação visual, costuma-se representar externamente os valores binários em outras bases de valor mais elevado (octal ou hexadecimal). Isso permite maior compactação de algarismos e melhor visualização dos valores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96360" y="62064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F81B5-05B6-4991-825A-B069C0C53E1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331640" y="242100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adrões de Represent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etra após o número para indicar a bas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úmero entre parênteses e a base como um índice do númer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xemplo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istema Decimal – 276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ou (2763)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ou 2763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35240" y="1700280"/>
            <a:ext cx="35334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 Numer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6360" y="54936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A665E-56A6-4F22-B4CE-EA9459973A8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828800" y="3429000"/>
            <a:ext cx="6553080" cy="552600"/>
          </a:xfrm>
          <a:prstGeom prst="rect">
            <a:avLst/>
          </a:prstGeom>
          <a:solidFill>
            <a:srgbClr val="ffffcc"/>
          </a:solidFill>
          <a:ln w="3168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34520" y="1700280"/>
            <a:ext cx="4044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cimal (Base 1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24720" y="54936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295280" y="233856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istema mais utiliz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10 símbolos para representar  quantida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    1      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 3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4       5       6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  7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8     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es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– representar quantidades maiores que a b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eso trouxe: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unidad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dezen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, (dez unidades),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enten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(cem unidades),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milha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(mil unidades),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dezena de milha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entena de milha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xempl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: 2574 é composto por 4 unidades, 7 dezenas, 5 centenas e 2 milhares, ou 2000 + 500 + 70 + 4 = 25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FA7A7-C956-49CD-B12F-D68FB513074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284720" y="3068640"/>
            <a:ext cx="167652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33440" y="1773360"/>
            <a:ext cx="37558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Binário (Base 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32720" y="45720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366560" y="2554200"/>
            <a:ext cx="76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Utiliza dois símbolos para representar quantida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e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egue as regras do sistema decimal - válidos os conceitos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es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si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. Posições não têm nome específ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ada algarismo é chamado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xemplo: 101</a:t>
            </a:r>
            <a:r>
              <a:rPr b="0" lang="pt-BR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xpressão ora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- diferente dos  números decima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aractere mais à esquerda -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Most-Significative-Bit -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MSB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aractere  mais à direita -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Least-Significative-Bi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- “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LSB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53503-E441-4CE8-87BE-A97B648A3AB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68360" y="3141720"/>
            <a:ext cx="5810400" cy="628560"/>
          </a:xfrm>
          <a:prstGeom prst="rect">
            <a:avLst/>
          </a:prstGeom>
          <a:solidFill>
            <a:srgbClr val="ffffcc"/>
          </a:solidFill>
          <a:ln w="3816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33080" y="1773360"/>
            <a:ext cx="3469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stema Octal (Base 8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32720" y="45720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515960" y="2554200"/>
            <a:ext cx="73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Utiliza 8 símbol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   1        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  3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4       5       6      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xemplo: 563</a:t>
            </a:r>
            <a:r>
              <a:rPr b="0" lang="pt-BR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xpressão ora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- similar ao sistema biná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5D084-1AC9-4AAB-8711-23FE53DC1B5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425600" y="3402000"/>
            <a:ext cx="7467480" cy="736560"/>
          </a:xfrm>
          <a:prstGeom prst="rect">
            <a:avLst/>
          </a:prstGeom>
          <a:solidFill>
            <a:srgbClr val="ffffcc"/>
          </a:solidFill>
          <a:ln w="3816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240920" y="2627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ssui 16 símbolos (algarismos) para representar qualquer quantida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0         1        2         3        4        5       6       7       8      9        A      B        C        D         E        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Uso das letras -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facilidade de manusei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xemplo: 5A3</a:t>
            </a:r>
            <a:r>
              <a:rPr b="0" lang="pt-BR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xpressão ora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- similar ao sistema biná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62520" y="1700280"/>
            <a:ext cx="4737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Hexadecimal (Base 16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6360" y="54936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0F086-2E25-46C2-8C1C-4133260877B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186920" y="184464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o trabalhar com sistemas de numeração, em qualquer base, deve-se observar o segui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 número de dígitos usado no sistema é igual à b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 maior dígito é sempre menor que a b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 dígito mais significativo está à esquerda, e o menos significativo à direi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Um “vai-um” de uma posição para outra tem um peso igual a uma potência  da b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m geral se toma a base decimal como referênc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96360" y="54936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57022-5D6A-4244-A9FD-1607BC1957F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340000" y="1052640"/>
            <a:ext cx="5715000" cy="5562360"/>
          </a:xfrm>
          <a:prstGeom prst="rect">
            <a:avLst/>
          </a:prstGeom>
          <a:solidFill>
            <a:srgbClr val="ffffcc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411280" y="1143000"/>
          <a:ext cx="561672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143000"/>
                    <a:ext cx="561672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1440720" y="26028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F8FA7-76F5-462C-B455-AE46435AF75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8560" y="1628640"/>
            <a:ext cx="701028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versão entre  Sistemas de Numera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31640" y="2492280"/>
            <a:ext cx="758340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rocedimentos básico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- divis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números inteiros)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- polinôm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- agrupamento de bit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96360" y="54936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476360" y="3933720"/>
            <a:ext cx="7020000" cy="260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FF380-7774-4F0A-9786-899C4C3C0DE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258560" y="1773360"/>
            <a:ext cx="73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805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ipos de grande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6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5805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nalógic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ontín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3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5805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gita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iscreta (passo a pass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5805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3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5805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mputadores analógic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Trabalham com sinais elétricos de infinitos valores de tensão e corrente (modelo continuamente variável, ou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nalogi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do que quer que estejam medindo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5805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3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5805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mputadores digitai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Trabalham com dois níveis de sinais elétricos: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lto e baix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Representam dados por meio de um símbolo facilmente identificado (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96360" y="54936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A6AFA-361B-4C6F-8DDE-07277629DA5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331640" y="1989000"/>
            <a:ext cx="751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vis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Decimal         outro sistem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visão inteira (do quociente) sucessiva pela base, até que resto seja menor do que a 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lor na base = composição d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último quocien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MSB) co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s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primeiro resto é bit menos significativo - LS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356000" y="2924280"/>
            <a:ext cx="449280" cy="0"/>
          </a:xfrm>
          <a:prstGeom prst="line">
            <a:avLst/>
          </a:prstGeom>
          <a:ln w="57240">
            <a:solidFill>
              <a:srgbClr val="eeb0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258560" y="1628640"/>
            <a:ext cx="701028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versão entre  Sistemas de Numera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1296360" y="47628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BA566-6DB4-43EE-8FFF-95BB4DCAB3C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325520" y="1600200"/>
            <a:ext cx="781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ivisã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ecimal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outro sistem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vidir o número por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(base do sistema) e os resultados consecutivas vez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x.: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(125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10 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(?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(538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10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(?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295280" y="4462560"/>
          <a:ext cx="3578400" cy="21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462560"/>
                    <a:ext cx="3578400" cy="2179440"/>
                  </a:xfrm>
                  <a:prstGeom prst="rect">
                    <a:avLst/>
                  </a:prstGeom>
                  <a:ln w="28440">
                    <a:solidFill>
                      <a:srgbClr val="200b5b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4195800" y="2565360"/>
            <a:ext cx="376200" cy="0"/>
          </a:xfrm>
          <a:prstGeom prst="line">
            <a:avLst/>
          </a:prstGeom>
          <a:ln w="57240">
            <a:solidFill>
              <a:srgbClr val="eeb0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5334120" y="4648320"/>
          <a:ext cx="3612960" cy="179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4648320"/>
                    <a:ext cx="3612960" cy="1790640"/>
                  </a:xfrm>
                  <a:prstGeom prst="rect">
                    <a:avLst/>
                  </a:prstGeom>
                  <a:ln w="28440">
                    <a:solidFill>
                      <a:srgbClr val="200b5b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1233360" y="1628640"/>
            <a:ext cx="7010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versão entre  Sistemas de Numera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1296360" y="62064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E1D18-CEEC-468E-92CA-7181199093AE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339920" y="4800600"/>
            <a:ext cx="7499160" cy="762120"/>
          </a:xfrm>
          <a:prstGeom prst="rect">
            <a:avLst/>
          </a:prstGeom>
          <a:solidFill>
            <a:srgbClr val="ffffcc"/>
          </a:solidFill>
          <a:ln w="1908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370160" y="24098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otação Polinomial ou Pos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Válida para qualquer base numérica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LEI DE FORM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Notação ou Representação Polinomial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Número =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pt-BR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= algarismo,  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= base do núm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= quantidade de algarismo  -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3086280" y="4816440"/>
                <a:ext cx="55353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187280" y="1628640"/>
            <a:ext cx="7010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versão entre  Sistemas de Numera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1296360" y="54936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65EF0-8860-4E2B-BB27-068CED58D92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371600" y="220500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x.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(1111101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2 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=  (? 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(21A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16 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(?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(21A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=  2x16</a:t>
            </a:r>
            <a:r>
              <a:rPr b="1" lang="pt-BR" sz="2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+ 1x16</a:t>
            </a:r>
            <a:r>
              <a:rPr b="1" lang="pt-BR" sz="22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+ 10x16</a:t>
            </a:r>
            <a:r>
              <a:rPr b="1" lang="pt-BR" sz="22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pt-BR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538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11880" y="3392640"/>
            <a:ext cx="66931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1111101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x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6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 1x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 1x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 1x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 1x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x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 1x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0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5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1258560" y="1773000"/>
            <a:ext cx="70102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versão entre  Sistemas de Numera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1296360" y="54936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311A9-CBF0-420F-952A-54155F5CE7C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331640" y="2276640"/>
            <a:ext cx="759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grupamento de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Sistemas octal e hex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binário (e vice vers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sociando 3 bits ou 4 bits (quando octal ou hexadecimal, respectivamente) e vice-vers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x.: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(1011110010100111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= ( ? 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(A79E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= ( ? 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88000" y="3213000"/>
            <a:ext cx="304560" cy="0"/>
          </a:xfrm>
          <a:prstGeom prst="line">
            <a:avLst/>
          </a:prstGeom>
          <a:ln w="57240">
            <a:solidFill>
              <a:srgbClr val="eeb0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403280" y="5300640"/>
          <a:ext cx="353232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5300640"/>
                    <a:ext cx="3532320" cy="1208160"/>
                  </a:xfrm>
                  <a:prstGeom prst="rect">
                    <a:avLst/>
                  </a:prstGeom>
                  <a:ln w="38160">
                    <a:solidFill>
                      <a:srgbClr val="200b5b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5364000" y="5300640"/>
          <a:ext cx="3410280" cy="119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5300640"/>
                    <a:ext cx="3410280" cy="1195560"/>
                  </a:xfrm>
                  <a:prstGeom prst="rect">
                    <a:avLst/>
                  </a:prstGeom>
                  <a:ln w="38160">
                    <a:solidFill>
                      <a:srgbClr val="200b5b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1233360" y="1647360"/>
            <a:ext cx="701064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versão entre  Sistemas de Numera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"/>
          <p:cNvSpPr/>
          <p:nvPr/>
        </p:nvSpPr>
        <p:spPr>
          <a:xfrm>
            <a:off x="1296360" y="62064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B8180-3E15-4952-899A-CB8AF105E81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352160" y="227664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nversão octal      hexadecim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ão é realizada diretamente - não há relação de potências entre as bases oito e dezesse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melhante à conversão entre duas bases quaisquer -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base intermediári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(base binári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versão em duas etap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1 - número: base octal (hexadecimal)       biná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2 - resultado intermediário: binária            hexadecimal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    (octal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27640" y="5516640"/>
            <a:ext cx="304920" cy="0"/>
          </a:xfrm>
          <a:prstGeom prst="line">
            <a:avLst/>
          </a:prstGeom>
          <a:ln w="57240">
            <a:solidFill>
              <a:srgbClr val="eeb0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11800" y="5950080"/>
            <a:ext cx="304920" cy="0"/>
          </a:xfrm>
          <a:prstGeom prst="line">
            <a:avLst/>
          </a:prstGeom>
          <a:ln w="57240">
            <a:solidFill>
              <a:srgbClr val="eeb0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708360" y="2492280"/>
            <a:ext cx="304920" cy="0"/>
          </a:xfrm>
          <a:prstGeom prst="line">
            <a:avLst/>
          </a:prstGeom>
          <a:ln w="57240">
            <a:solidFill>
              <a:srgbClr val="eeb0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187280" y="1699920"/>
            <a:ext cx="70106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versão entre  Sistemas de Numera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1296360" y="54936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F979D-AE4D-4716-836B-CF76CC6A475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402920" y="2349000"/>
            <a:ext cx="67294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935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x.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(175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 = ( ? 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(175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= (1111101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(7D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(21A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16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= (?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(21A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= (001000011010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(1032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87280" y="1647720"/>
            <a:ext cx="70106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versão entre  Sistemas de Numer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32360" y="482760"/>
            <a:ext cx="679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B6BDA-3DDF-4785-A9A9-7C407FE7A3B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258920" y="2276640"/>
            <a:ext cx="7711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nversão de Números Fracioná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Lei de Formação ampliada (polinômio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295280" y="3733920"/>
          <a:ext cx="7562880" cy="96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733920"/>
                    <a:ext cx="7562880" cy="961920"/>
                  </a:xfrm>
                  <a:prstGeom prst="rect">
                    <a:avLst/>
                  </a:prstGeom>
                  <a:ln w="57240">
                    <a:solidFill>
                      <a:srgbClr val="200b5b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1187280" y="1628280"/>
            <a:ext cx="701064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versão entre  Sistemas de Numera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"/>
          <p:cNvSpPr/>
          <p:nvPr/>
        </p:nvSpPr>
        <p:spPr>
          <a:xfrm>
            <a:off x="1296360" y="54936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5181480"/>
            <a:ext cx="769608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xemplo: (101,110)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=  ( ? )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1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+ 0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+ 1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+1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+ 1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+ 0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=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5,75)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589A8-A3CF-4781-8640-FBC962F7790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58560" y="1628280"/>
            <a:ext cx="701028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versão de Números Fracioná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"/>
          <p:cNvSpPr/>
          <p:nvPr/>
        </p:nvSpPr>
        <p:spPr>
          <a:xfrm>
            <a:off x="1296360" y="54936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37920" y="2781000"/>
            <a:ext cx="742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ção inversa: multiplicar a parte fracionária pela base até que a parte fracionária do resultado seja z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55320" y="2205000"/>
            <a:ext cx="453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mal         outro sist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32000" y="2421000"/>
            <a:ext cx="449280" cy="0"/>
          </a:xfrm>
          <a:prstGeom prst="line">
            <a:avLst/>
          </a:prstGeom>
          <a:ln w="57240">
            <a:solidFill>
              <a:srgbClr val="eeb0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916360" y="357336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xemplo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8,375)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= ( ? )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2057400" y="4143240"/>
          <a:ext cx="5715000" cy="25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4143240"/>
                    <a:ext cx="5715000" cy="2562480"/>
                  </a:xfrm>
                  <a:prstGeom prst="rect">
                    <a:avLst/>
                  </a:prstGeom>
                  <a:ln w="28440">
                    <a:solidFill>
                      <a:srgbClr val="200b5b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0C359-DCF5-402D-B251-AFB866C2E8B0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1258560" y="177336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re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,8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101,11001100...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uma dízim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,6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1011,10011001100...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írgula foi deslocada uma casa para a direita, pois 11,6 = 2 x 5,8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96360" y="54612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7406C-1DA9-4AEF-894E-9D360B97AF18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979640" y="170028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o os computadores modernos representam as informaçõ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6858000" cy="3657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296360" y="62064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477FE-DB37-47BE-B3DF-8DC1C3FB6496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1240" y="277560"/>
            <a:ext cx="723276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xercíci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5438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ma caixa alienígena com o número 25 gravado na tampa foi entregue a um grupo de cientistas. Ao abrirem a caixa, encontraram 17 objetos. Considerando que o alienígena tem um formato humanóide, quantos dedos ele tem nas duas mã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64C32-91B3-4D79-83C8-7F86A9F7C696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xercíci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76360" y="1844640"/>
            <a:ext cx="6656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 = 2x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5x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 = 2b +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(17-5)/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0b5b"/>
                </a:solidFill>
                <a:latin typeface="Arial"/>
              </a:rPr>
              <a:t>b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3924C-32E7-49E0-AD83-59B9236734EB}" type="slidenum">
              <a:t>41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050920" y="5373720"/>
            <a:ext cx="5977080" cy="60948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331640" y="184464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ra o computador, tudo são núm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utador Digit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Normalmente a informação a ser processada é de forma numérica ou texto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odificada internamente através de u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ódigo numéric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ódigo mais comum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INÁ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r que é utilizado o sistema binário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32360" y="482760"/>
            <a:ext cx="679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442F5-7B51-460B-B371-9842E1E4FE9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87280" y="1700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o os computadores representam as informações utilizando apenas dois estados possíveis - eles são totalmente adequados para números binári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úmero binário no computador: </a:t>
            </a: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bit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 [de “</a:t>
            </a: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inary dig</a:t>
            </a: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”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A unidade de informa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Uma quantidade computacional que pode tomar um de dois valores, tais como verdadeiro e falso ou 1 e 0, respectivamente (lógica positiv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80000" y="2852640"/>
            <a:ext cx="2087280" cy="938880"/>
          </a:xfrm>
          <a:prstGeom prst="rect">
            <a:avLst/>
          </a:prstGeom>
          <a:noFill/>
          <a:ln cap="sq" w="1908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 – desligado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 – ligado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32000" y="6006960"/>
            <a:ext cx="7467480" cy="78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101000"/>
              </a:lnSpc>
              <a:spcBef>
                <a:spcPts val="913"/>
              </a:spcBef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Um bit está ligado (</a:t>
            </a: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) quando vale 1, desligado ou limpo (</a:t>
            </a: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clear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) quando vale 0; comutar, ou inverter (</a:t>
            </a: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toggle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ou </a:t>
            </a: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invert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) é passar de 0 para 1 ou de 1 para 0. (lógica positiva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6360" y="62064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2DF10-62F9-4C60-A9E6-DF818FE02FA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m bit pode representar apena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ímbolos (0 e 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cessidad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unidade maior, formada por um conjunto de bits, para representar números e outros símbolos, como os caracteres e os sinais de pontuação que usamos nas linguagens escrit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dade maior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upo de bi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- precisa ter bits suficientes para representar todos os símbolos que possam ser usad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ígitos numérico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ras maiúsculas e minúsculas do alfabeto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ais de pontuação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ímbolos matemáticos e assim por dia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6360" y="62064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78282-FCB0-4E9C-BEF3-CC3CBA508FB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979640" y="2421000"/>
          <a:ext cx="6005520" cy="3373200"/>
        </p:xfrm>
        <a:graphic>
          <a:graphicData uri="http://schemas.openxmlformats.org/drawingml/2006/table">
            <a:tbl>
              <a:tblPr/>
              <a:tblGrid>
                <a:gridCol w="4557600"/>
                <a:gridCol w="144792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es alfabéticos maiúsculo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es alfabéticos minúsculo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arismo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ais de pontuação e outros símbolo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es de control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1403280" y="18446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cessidade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6360" y="54936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533D9-024D-4B54-8FF0-26E68C71470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371600" y="1773360"/>
            <a:ext cx="636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dade de represent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835280" y="2421000"/>
          <a:ext cx="6095880" cy="40640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1296360" y="59544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0F2C2-D4BD-4A50-85AA-D3824B56D12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. Fechine</dc:creator>
  <dc:description/>
  <dc:language>en-US</dc:language>
  <cp:lastModifiedBy>USE</cp:lastModifiedBy>
  <dcterms:modified xsi:type="dcterms:W3CDTF">2007-07-04T00:38:31Z</dcterms:modified>
  <cp:revision>562</cp:revision>
  <dc:subject/>
  <dc:title>Introdução à Computação</dc:title>
</cp:coreProperties>
</file>