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22E5-E9A6-4789-9832-FBF050C18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0171-5779-46A3-AA76-C0D959409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A692-84C0-41F6-83C0-413285002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5FAD-C9D5-4EA1-BF73-044C207FD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0ED54-4E79-4A0F-AF23-4309D57C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0C584-C1C7-49DD-9DA0-2E15A3E7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0EA14-0998-4600-9079-EE4F1F65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9DC09-757E-4D06-8A96-9E8BC93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F76F0-1AFD-4D13-8294-9C3F832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2293A-C8B9-4623-9D71-6A2EA836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0DCEE-C6D9-41C8-80DC-FF4B9EE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596D-BCBD-4EFF-AFD7-3A696A7B4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78E10-7CBC-48DC-BE55-D7BA7D83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508EE-6229-42C7-9800-7D55270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FCC0-A5ED-4C5E-A65E-4B64DFA9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74DF-1136-41E8-803E-3EB15BC0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7D865-5C0C-49D6-B612-328480D8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3742-DED5-4E90-A195-7E7F8C4EB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1668-867A-4291-99FB-4AB7C86C4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47B9-9F5B-46B5-8398-301D05EBC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8872-2419-4E9A-AFF9-AB909B10D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7165-303F-42E3-8D48-1B0D5670A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A8B3-2D51-4694-B1F3-602655774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4D9A-A385-418A-AD93-30B16A4F0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4508640"/>
            <a:ext cx="1066680" cy="234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BD7A-FD53-4D10-8F82-8CBF5C9B03DF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5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-23760" y="2347920"/>
            <a:ext cx="106668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4"/>
          <a:stretch/>
        </p:blipFill>
        <p:spPr>
          <a:xfrm>
            <a:off x="-23760" y="0"/>
            <a:ext cx="1066680" cy="234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1752480" cy="242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6BE-BF7B-4945-A8A5-D252084B3E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52480" cy="220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55" name=""/>
          <p:cNvGrpSpPr/>
          <p:nvPr/>
        </p:nvGrpSpPr>
        <p:grpSpPr>
          <a:xfrm>
            <a:off x="539640" y="5950080"/>
            <a:ext cx="863640" cy="907560"/>
            <a:chOff x="539640" y="5950080"/>
            <a:chExt cx="863640" cy="907560"/>
          </a:xfrm>
        </p:grpSpPr>
        <p:sp>
          <p:nvSpPr>
            <p:cNvPr id="56" name=""/>
            <p:cNvSpPr/>
            <p:nvPr/>
          </p:nvSpPr>
          <p:spPr>
            <a:xfrm>
              <a:off x="53964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848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814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100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817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2205000"/>
            <a:ext cx="1752480" cy="223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nextcomfigure.com/" TargetMode="External"/><Relationship Id="rId3" Type="http://schemas.openxmlformats.org/officeDocument/2006/relationships/hyperlink" Target="http://www.nextcomfigure.com/" TargetMode="External"/><Relationship Id="rId4" Type="http://schemas.openxmlformats.org/officeDocument/2006/relationships/hyperlink" Target="http://www.nextcomfigure.com/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ª GERAÇÃO (anos 90 - ????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vido ao avanço tecnológico o conceito de geração torna-se obsolet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LSI é o componente básico (menor que o VLS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acteriza-se pelas aplicações de Linguagem Natural, Processamento Paralelo, Inteligência Artificial,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íssima velocidade de process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o grau de interatividad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S1.: Para alguns historiadores a 3ª GERAÇÃO de computadores vai até hoje. Outros, afirmam que de 1970 até os dias de hoje fazem parte da 4ª GERAÇÃO. Outros definem que a 4ª GERAÇÃO começou a partir de 1975 com os circuitos de VLSI. Para outros, desde as máquinas RISC, circuito integrados de escala ULSI e processamento paralelo, já estamos na 5ª GERAÇÃO DE COMPUT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5013360"/>
            <a:ext cx="7543800" cy="1676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8AE5-CBB1-4B62-AE7C-E67C82D8C3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nto ao princípio de co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 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 variáveis por meio de analogias fís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ta-se de uma classe de computadores que resolve problemas referentes à condições físicas, por meio de quantidades mecânicas ou elétricas, utilizando circuitos equivalentes como analogia ao fenômeno físico que está sendo tra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nformação é recebida e processada de um mo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ínu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nformação pode ser, por exemplo, um conjunto de valores de corrente elétrica, de temperatura ou de velocida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0DA3-286A-4F4A-AA18-2D0776F40B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a informações representadas por combinações de dados discretos ou descontínu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s especificamente: trata-se de um dispositivo projetado para executar seqüências de operações lógicas e aritmét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s computadores são bastante versáteis e por isso são muito mais utilizados do que os computadores analóg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computador analógico me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computador digital cont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1440" y="6093000"/>
            <a:ext cx="7162920" cy="609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mente, quando não é feita qualquer referência à natureza do computador subentende-se que se trata de um computad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99FF-5226-4453-A821-C4BF97B33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o ao âmb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es de âmbito específic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dores desenhados para desempenhar um conjun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ito reduzi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taref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dos, por exemplo, no controlo de mecanismos industriais e em cálculos científic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2755-080F-47A1-A15F-5FD44FBD0C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es de âmbito g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dores capazes de desempenhar uma grande variedade de tarefas, através da execução de um grande número de programas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s computadores são bastante utilizados em escritórios, escolas e mesmo em ca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18960" y="1728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B5D5-4AD2-4A86-9B0F-CF6573AB44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 computadores também podem ser classificado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to à utiliz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e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 Científ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 Comer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dor Científ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rigido ao emprego em áreas de cálculos e pesquisas científicas, nas quais são requeridos resultados de maior precisão e pequeno volume de entrada e saída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dor Comer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nstitui a grande maioria dos equipamentos utilizados nas empresas, caracteriza-se por permitir o trato rápido e seguro de problemas que comportam grande volume de entrada e saída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ioria dos fabricantes hoje dispõe de produtos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tos de uso g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que comportam emprego tanto na área científica quanto na área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A9D8-51C5-41D1-90CF-6D795F6EDF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6934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nto ao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in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i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ções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lm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6021360"/>
            <a:ext cx="74674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o grande desenvolvimento que as comunicações têm sofrido, foi criado um novo conceito de computador: 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ador de re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5542-FDFE-4797-A455-FA3B68B607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dores com grande poder de process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dos principalmente no campo científico, nos quais se destacam as simulaçõ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ros exemplos de aplicação: previsão de tempo e modelagem tridimens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s computadores são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âmbito específ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realizando um grupo de tarefas reduzido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u custo é muito elev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uem um tamanho muito grande e necessitam de condições especiais de funcion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AY Y-M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IBM 902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7129-CD27-4656-B8C0-AC577BEBB1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uper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58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BM Blue Ge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2703600"/>
            <a:ext cx="3745080" cy="28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AD84-55D2-4C9C-A3EC-9FA0139C02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802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inframes (Computadores de Grande 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sistemas projetados para manusear considerável volume de dados e executar simultaneamente programas de uma grande quantidade de usuári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dos por grandes empresas que necessitam armazenar grande quantidade de informação e ter um acesso rápido à e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usuários acessam 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mainfra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través de terminais. U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ossui à ele conectado uma grande quantidade de termina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o contrário dos supercomputadores, são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âmbito extens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utilizadas em grandes organizações como bancos, companhias de seguros e centros de investiga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Sistemas IBM 3090 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ntrol Da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CDC 6600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BB4D-7333-4300-B35B-6D9561C51E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utador é uma máquina eletrônica capaz de receber informações, submetê-las a um conjunto especificado e pré-determinado de operações lógicas e aritméticas, e fornecer o resultado destas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omputadores de hoje são dispositivos eletrônicos que, sob direção e controle de um programa, executam quatro operações básic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maze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172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de Comp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99EA-1EA3-496E-BEC7-5D5632F69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2060640"/>
            <a:ext cx="7448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830760" cy="2873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08360" y="558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341E-CAF9-4EE1-A72E-302AE92BBD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in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Terminal bur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todo o processamento é feito n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infra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O terminal apenas é um meio de entrada e visualização dos d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Terminal inteligen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faz parte do processamento no terminal. Geralmente é um computador pesso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6ECA-072A-4380-A2AA-44C51F19D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i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inicomputador foi resultado de uma redução no tamanho dos comput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rande capacidade de process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ui terminais conectados a e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nicomputadores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computadores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édio port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dequados a tarefas como, por exemplo, o controle de processos industriais e a gestão de sistemas multiusuário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o aparecimento e posterior desenvolvimento d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crocomput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 distinção entre estas duas categorias é cada vez menos cla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AX-11/780/DEC e sistemas AS/400/IB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5F7C-8164-4C80-8DCB-BA36A51A29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17687" b="0"/>
          <a:stretch/>
        </p:blipFill>
        <p:spPr>
          <a:xfrm>
            <a:off x="6012000" y="2565360"/>
            <a:ext cx="2253960" cy="350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Mini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5600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meiro minicomputador IB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2043360" cy="26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430A-F270-4EFD-898F-C3D8EE702A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142640" y="1746000"/>
            <a:ext cx="8001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ções de trabalho (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works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tuam-se logo abaixo dos minicomputad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lmente possuem arquitetura RISC e sistema operacional UNI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pecialmente no que se refere a velocidade do processador e capacidade de memória, a potência de uma estação de trabalho é semelhante à de um minicomputado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estações de trabalho são dirigidas para uso de um usuário, ao contrário dos minicomputad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essencialmente um microcomputador projetado para realizar tarefas “pesadas”, em geral na área científica ou industrial, como computações matemáticas complexas, projetos com auxílio de computação (CAD), processamento de imagem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ste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st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5000/33 ou IBM RS/6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8960" y="1854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4FE5-08E3-4425-951D-FD6684681A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2427120" cy="3429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569120" y="4114800"/>
            <a:ext cx="3716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ktop/RackMount Ultra 1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aris Workstations/Serv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www.</a:t>
            </a:r>
            <a:r>
              <a:rPr b="0" lang="pt-BR" sz="2000" spc="-1" strike="noStrike" u="sng">
                <a:solidFill>
                  <a:srgbClr val="ff33cc"/>
                </a:solidFill>
                <a:uFillTx/>
                <a:latin typeface="Arial"/>
                <a:hlinkClick r:id="rId3"/>
              </a:rPr>
              <a:t>nextcomfigure</a:t>
            </a:r>
            <a:r>
              <a:rPr b="0" lang="pt-BR" sz="2000" spc="-1" strike="noStrike" u="sng">
                <a:solidFill>
                  <a:srgbClr val="ff33cc"/>
                </a:solidFill>
                <a:uFillTx/>
                <a:latin typeface="Arial"/>
                <a:hlinkClick r:id="rId4"/>
              </a:rPr>
              <a:t>.com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Estação de Trabalh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9B2A-0D5F-4BF0-A219-166D493B9A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86920" y="162828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bém conhecidos como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crocomputadores, Micr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ersonal compu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uem diversas formas e model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racterística marcante era a integração do processador, único e de dimensões micro, num pequen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hip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memória semicondutora, formando um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icroprocess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cidade de processamento evolui rapida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ligação em rede possibilita a substituição de computadores de maior por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ço acessível. Fácil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Seu tamanho tende a diminuir cada vez ma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á presente em todos os tipos de empres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6737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A977-D22B-4F2A-9798-E23B207EC3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á no mercado várias categorias de microcomputadores, cuja classificação está muito relacionada a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amanho físic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o equipamento e seu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rau de portabil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alm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8960" y="206280"/>
            <a:ext cx="79246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A2E9-624F-47BC-9B23-AF420D89FA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de mesa. O mais comum dos mic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988080" cy="2506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951C-327E-4B3B-ADDE-4BA205D57F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6920" y="170028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portáti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ergizados por corrente elétrica ou por bater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a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cidade de processamento similar a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esktop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4989600"/>
            <a:ext cx="7561080" cy="1739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microcomputadores portáteis (alimentados por bateria) são chamados de diversos nomes, dependendo do seu tamanho: os maiores foram denominad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aptop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m seguida apareceram 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otebook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tamanho menor, em formato parecido com um livro. Há também 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ubnotebook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inda menores, e o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almtop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ase são do tamanho da palma de nossas mão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286000" cy="2044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131C-0D76-4570-A2E0-9923B4E2E0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6920" y="1988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computac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um conjunto de componentes integrados para funcionar como se fossem um único elemento e que têm por objetivo realizar manipulações com dados, isto é, realizar algum tipo de operação com os dados de modo a obter uma informação ú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172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54F9-4BE2-48D6-992F-44435FED8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3093840" cy="1782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7280" y="198864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alm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portáti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imentado por bater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ca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acidade de processamento meno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ido também por PDA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ersonal Digital Assistan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96360" y="1773360"/>
            <a:ext cx="1379520" cy="1379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18404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56360" y="3716280"/>
            <a:ext cx="2751120" cy="1629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859280" y="5013360"/>
            <a:ext cx="158292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366B-E735-49F5-8C4E-5D8110A542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pesso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 pessoal da empres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ito utilizado em trabalhos gráficos, dada a sua capacidade neste ramo, simplicidade e facilidade de u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Cs estão sendo utilizados por profissionais da área gráfica, arquitetura, vídeo e tudo relacionado à multimídia principal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5DD5-EED0-4E19-9E36-997D9E2AAF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7724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es pessoais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5357880"/>
            <a:ext cx="7543800" cy="1374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Mac foi o primeiro computador pessoal a incluir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disquetes de 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½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drive de CD-ROM. O Mac foi o primeiro computador pessoal a possibilitar a visualização de imagens foto-realistas em milhões de cores e foi o primeiro capaz de passar seqüências de vídeo. [Apple]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934320" y="2414520"/>
            <a:ext cx="1977840" cy="1587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00600" y="3100320"/>
            <a:ext cx="203976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95280" y="2338560"/>
            <a:ext cx="3429000" cy="1935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A30A-FDAE-42A5-A9AB-6DCBE2A784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923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es de rede (Network Computers – N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necem grande parte das funcionalidades dos PCs por um menor preç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lo fato de obterem se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 partir de uma rede de computadores, eles não precisam, necessariamente, de unidades de disc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716E-9E17-4FEB-8DF5-C759D527E3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7559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érebro human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de um ponto de vista estritamente funcional, pode ser definido como um sistema complexo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bilhões de neurôn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Para conter o mesmo número de elementos do cérebro, u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ador dos anos 4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 fase das válvulas, teria o tamanho de São Paulo.  E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s dos anos 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om os transistores, bastava um computador com as dimensões do Cristo Redentor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os 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 computador seria como um ônibus. Atualmente, com a aglomeração de alguns milhões de componentes num único chip, cérebro e computador entraram num acordo de dimensões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228E-BFA2-4F7B-983E-C9C02554FC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899320" cy="27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F126-E1BE-4434-837D-AE24911E4D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mente existe uma grande diversidade de computadores, com diferentes tamanhos, custos, propósitos e funcionalidades.  Por essa razão, tornou-se necessário o seu agrupamento 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648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200b5b"/>
                </a:solidFill>
                <a:latin typeface="Arial"/>
              </a:rPr>
              <a:t>Como podemos classificá-los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172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7154-9CA7-4E4F-B226-F2BF30C772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6920" y="162828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à característica de constru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eira, segunda, terceira, quarta e quinta (????) g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ao princípio de construção (quanto à naturez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ógicos e Digi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ao âmbi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Âmbito geral e Âmbito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Quanto a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orte, custo, desempenho e propósi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computadores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inframes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computadores, Estações de trabalho e Computadores pesso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63044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173240" y="32925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095880"/>
            <a:ext cx="739152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classificação não é única, porém é um razoável auxílio para quem vai adquirir um sistema, a fim de definir suas necessidade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4406-C685-48BF-A5CB-714A11F3D6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anto à característica de co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ª GERAÇÃO (...Década de 50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válvula é o componente bá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quentava m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stava muita energia el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es ocupavam muito espaço fís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nham, dispositivos de Entrada/Saída primitivos (através da cartões perfurad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ram aplicados em campos científicos e milita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nguagem de programação: linguagem de máqu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mili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740720" y="2205000"/>
            <a:ext cx="69840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35C4-EE03-4475-AE63-48A9B74ACC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ª GERAÇÃO (Início dos anos 60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transistor é o componente bás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anho menor que a válv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ntava me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astava menos energia elét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durável e confiá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máquinas diminuíram muito em tamanho e suas aplicações passam além da científica e militar a administrativa e gerenci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rgem as primeiras linguagens de programaçã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ém dos núcleos de ferrite, fitas e tambores magnéticos passam a ser usados como memó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micro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93080" y="2637000"/>
            <a:ext cx="1562040" cy="811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EC1B-6A82-4640-96BB-5AB221ED25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16000" y="1700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ª GERAÇÃO (meados dos anos 60 até meados dos anos 70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rco inicial: surgimento dos C.I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SI passa a ser o componente bá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LSI ficou conhecido como ‘chip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quena pastilha de silício de 1 c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to de milhares de transi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computadores diminuíram de tamanho e aumentaram seu desempen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volução dos Sistemas Operacionais, surgimento da multiprogramação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real tim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modo interativ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mória é feita de semicondutores e discos magnétic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nano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08720" y="2637000"/>
            <a:ext cx="1486080" cy="1014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0DA3-E36F-44BE-9BB9-01362C659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ª GERAÇÃO (meados dos anos 70 a início dos anos 90)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 como marco inicial o surgimento do microprocess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VLSI é o componente básico (menor que o LSI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ouve a miniaturização dos comput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sta geração é que surgiram os microcomputadores 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rgem muitas linguagens de alto-nível e nasce a teleinformática, transmissão de dados entre computadores através de red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erações internas mediam-se em picossegun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1896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istemas Computacionais – Classif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62B1-04C5-4999-82E4-24CDA5FCF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USE</cp:lastModifiedBy>
  <dcterms:modified xsi:type="dcterms:W3CDTF">2009-04-27T10:08:32Z</dcterms:modified>
  <cp:revision>427</cp:revision>
  <dc:subject/>
  <dc:title>Slide sem título </dc:title>
</cp:coreProperties>
</file>