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jpeg" ContentType="image/jpeg"/>
  <Override PartName="/ppt/media/image23.jpeg" ContentType="image/jpeg"/>
  <Override PartName="/ppt/media/image12.png" ContentType="image/png"/>
  <Override PartName="/ppt/media/image22.jpeg" ContentType="image/jpeg"/>
  <Override PartName="/ppt/media/image19.jpeg" ContentType="image/jpeg"/>
  <Override PartName="/ppt/media/image25.png" ContentType="image/pn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56.jpeg" ContentType="image/jpeg"/>
  <Override PartName="/ppt/media/image4.png" ContentType="image/png"/>
  <Override PartName="/ppt/media/image27.jpeg" ContentType="image/jpeg"/>
  <Override PartName="/ppt/media/image52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39.jpeg" ContentType="image/jpeg"/>
  <Override PartName="/ppt/media/image9.jpeg" ContentType="image/jpeg"/>
  <Override PartName="/ppt/media/image11.jpeg" ContentType="image/jpeg"/>
  <Override PartName="/ppt/media/image37.jpeg" ContentType="image/jpeg"/>
  <Override PartName="/ppt/media/image50.png" ContentType="image/png"/>
  <Override PartName="/ppt/media/image40.png" ContentType="image/png"/>
  <Override PartName="/ppt/media/image44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1.png" ContentType="image/png"/>
  <Override PartName="/ppt/media/image48.jpeg" ContentType="image/jpeg"/>
  <Override PartName="/ppt/media/image53.png" ContentType="image/png"/>
  <Override PartName="/ppt/media/image13.png" ContentType="image/png"/>
  <Override PartName="/ppt/media/image54.jpeg" ContentType="image/jpeg"/>
  <Override PartName="/ppt/media/image55.jpeg" ContentType="image/jpeg"/>
  <Override PartName="/ppt/media/image35.jpeg" ContentType="image/jpeg"/>
  <Override PartName="/ppt/media/image10.jpeg" ContentType="image/jpeg"/>
  <Override PartName="/ppt/media/image34.jpeg" ContentType="image/jpeg"/>
  <Override PartName="/ppt/media/image28.jpeg" ContentType="image/jpeg"/>
  <Override PartName="/ppt/media/image33.jpeg" ContentType="image/jpeg"/>
  <Override PartName="/ppt/media/image32.jpeg" ContentType="image/jpeg"/>
  <Override PartName="/ppt/media/image31.jpeg" ContentType="image/jpeg"/>
  <Override PartName="/ppt/media/image30.jpeg" ContentType="image/jpeg"/>
  <Override PartName="/ppt/media/image5.png" ContentType="image/png"/>
  <Override PartName="/ppt/media/image43.jpeg" ContentType="image/jpeg"/>
  <Override PartName="/ppt/media/image7.jpeg" ContentType="image/jpeg"/>
  <Override PartName="/ppt/media/image38.jpeg" ContentType="image/jpeg"/>
  <Override PartName="/ppt/media/image36.jpeg" ContentType="image/jpeg"/>
  <Override PartName="/ppt/media/image20.png" ContentType="image/png"/>
  <Override PartName="/ppt/media/image5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978A6-EA87-4E7D-A16D-A9C69ECD96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2B8229-DC0B-4E4E-A456-3A25ACDE66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29D31-B071-4859-BC95-6C353B5830E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249722-FD39-460E-8A7F-28A6111191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081BAF-4721-4813-A06E-3622848F7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844F84C-9C94-417F-9BE8-C807BAE5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6C1332-3BE4-4AE4-800A-5EAD55C7C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1BD0C3-9750-4332-9AC8-506C3489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A0B122-99D4-44A0-8C0A-9354724D2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40F3354-8D06-4A07-B04A-F9027C47C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798951E-0896-4A9D-9362-FEAA5439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1271CD-A94D-4E3C-A240-3D12FFE91F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C84F13-EFB9-4D7D-A3C6-D1BF0F0A8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0932F-C588-4FE7-9D44-86F5B195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A5FBCE-7A5F-415D-B9A4-AA052D08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6BB19D-3E11-4CFA-9DD3-05ABA5A52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3D6376-1F29-4F8F-85F3-DEF21D7F5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2F4E91-B80F-4AB0-9511-B4FEA6D3D5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634C5-9D39-45B1-938A-FC8ED29743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FF22F9-AB6C-4C6E-A666-E8AA1C20BB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5C06C-B3F7-4EC1-A0A6-DFE8ADA05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4B2E-767F-4BF3-A3C3-0555EA307AD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0ED60-72C0-4C7D-BF9B-0B8114A623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910905-3CF7-4C0C-8C82-205628089B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D9F8-2034-4453-9CEF-F0AFDC679DC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0" y="0"/>
            <a:ext cx="1160640" cy="6858000"/>
            <a:chOff x="0" y="0"/>
            <a:chExt cx="1160640" cy="6858000"/>
          </a:xfrm>
        </p:grpSpPr>
        <p:pic>
          <p:nvPicPr>
            <p:cNvPr id="4" name="" descr=""/>
            <p:cNvPicPr/>
            <p:nvPr/>
          </p:nvPicPr>
          <p:blipFill>
            <a:blip r:embed="rId2"/>
            <a:stretch/>
          </p:blipFill>
          <p:spPr>
            <a:xfrm>
              <a:off x="0" y="3068640"/>
              <a:ext cx="1160640" cy="3789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5" name=""/>
            <p:cNvGrpSpPr/>
            <p:nvPr/>
          </p:nvGrpSpPr>
          <p:grpSpPr>
            <a:xfrm>
              <a:off x="108000" y="5949720"/>
              <a:ext cx="863640" cy="836640"/>
              <a:chOff x="108000" y="5949720"/>
              <a:chExt cx="863640" cy="836640"/>
            </a:xfrm>
          </p:grpSpPr>
          <p:sp>
            <p:nvSpPr>
              <p:cNvPr id="6" name=""/>
              <p:cNvSpPr/>
              <p:nvPr/>
            </p:nvSpPr>
            <p:spPr>
              <a:xfrm>
                <a:off x="108000" y="6619320"/>
                <a:ext cx="863640" cy="16704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2600" dir="16200000" blurRad="0" rotWithShape="0">
                  <a:srgbClr val="6600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800" spc="-1" strike="noStrike">
                    <a:solidFill>
                      <a:srgbClr val="ffcc00"/>
                    </a:solidFill>
                    <a:latin typeface="Humanst521 BT"/>
                  </a:rPr>
                  <a:t>DSC/CEEI/UFCG</a:t>
                </a:r>
                <a:endParaRPr b="0" lang="en-US" sz="8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56840" y="6215040"/>
                <a:ext cx="47160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 flipV="1">
                <a:off x="149400" y="5949360"/>
                <a:ext cx="470160" cy="36756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59360" y="6228000"/>
                <a:ext cx="471240" cy="3661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flipV="1">
                <a:off x="149760" y="5962320"/>
                <a:ext cx="472680" cy="367920"/>
              </a:xfrm>
              <a:custGeom>
                <a:avLst/>
                <a:gdLst/>
                <a:ahLst/>
                <a:rect l="l" t="t" r="r" b="b"/>
                <a:pathLst>
                  <a:path w="1470" h="999">
                    <a:moveTo>
                      <a:pt x="279" y="5"/>
                    </a:moveTo>
                    <a:cubicBezTo>
                      <a:pt x="333" y="20"/>
                      <a:pt x="361" y="24"/>
                      <a:pt x="393" y="32"/>
                    </a:cubicBezTo>
                    <a:cubicBezTo>
                      <a:pt x="425" y="40"/>
                      <a:pt x="439" y="44"/>
                      <a:pt x="474" y="53"/>
                    </a:cubicBezTo>
                    <a:cubicBezTo>
                      <a:pt x="474" y="53"/>
                      <a:pt x="603" y="89"/>
                      <a:pt x="603" y="89"/>
                    </a:cubicBezTo>
                    <a:cubicBezTo>
                      <a:pt x="637" y="100"/>
                      <a:pt x="656" y="108"/>
                      <a:pt x="678" y="119"/>
                    </a:cubicBezTo>
                    <a:cubicBezTo>
                      <a:pt x="700" y="130"/>
                      <a:pt x="724" y="145"/>
                      <a:pt x="738" y="155"/>
                    </a:cubicBezTo>
                    <a:cubicBezTo>
                      <a:pt x="752" y="165"/>
                      <a:pt x="757" y="173"/>
                      <a:pt x="765" y="182"/>
                    </a:cubicBezTo>
                    <a:cubicBezTo>
                      <a:pt x="773" y="191"/>
                      <a:pt x="780" y="200"/>
                      <a:pt x="785" y="209"/>
                    </a:cubicBezTo>
                    <a:cubicBezTo>
                      <a:pt x="794" y="223"/>
                      <a:pt x="793" y="227"/>
                      <a:pt x="795" y="239"/>
                    </a:cubicBezTo>
                    <a:cubicBezTo>
                      <a:pt x="797" y="251"/>
                      <a:pt x="800" y="268"/>
                      <a:pt x="800" y="279"/>
                    </a:cubicBezTo>
                    <a:cubicBezTo>
                      <a:pt x="801" y="296"/>
                      <a:pt x="801" y="296"/>
                      <a:pt x="798" y="308"/>
                    </a:cubicBezTo>
                    <a:cubicBezTo>
                      <a:pt x="795" y="320"/>
                      <a:pt x="787" y="336"/>
                      <a:pt x="780" y="349"/>
                    </a:cubicBezTo>
                    <a:cubicBezTo>
                      <a:pt x="772" y="361"/>
                      <a:pt x="765" y="375"/>
                      <a:pt x="753" y="386"/>
                    </a:cubicBezTo>
                    <a:cubicBezTo>
                      <a:pt x="740" y="399"/>
                      <a:pt x="721" y="414"/>
                      <a:pt x="702" y="425"/>
                    </a:cubicBezTo>
                    <a:cubicBezTo>
                      <a:pt x="683" y="436"/>
                      <a:pt x="662" y="444"/>
                      <a:pt x="642" y="452"/>
                    </a:cubicBezTo>
                    <a:cubicBezTo>
                      <a:pt x="622" y="460"/>
                      <a:pt x="612" y="466"/>
                      <a:pt x="585" y="473"/>
                    </a:cubicBezTo>
                    <a:cubicBezTo>
                      <a:pt x="585" y="473"/>
                      <a:pt x="535" y="486"/>
                      <a:pt x="480" y="494"/>
                    </a:cubicBezTo>
                    <a:cubicBezTo>
                      <a:pt x="425" y="502"/>
                      <a:pt x="370" y="504"/>
                      <a:pt x="295" y="504"/>
                    </a:cubicBezTo>
                    <a:cubicBezTo>
                      <a:pt x="220" y="504"/>
                      <a:pt x="235" y="499"/>
                      <a:pt x="145" y="504"/>
                    </a:cubicBezTo>
                    <a:cubicBezTo>
                      <a:pt x="72" y="751"/>
                      <a:pt x="0" y="999"/>
                      <a:pt x="0" y="999"/>
                    </a:cubicBezTo>
                    <a:cubicBezTo>
                      <a:pt x="0" y="999"/>
                      <a:pt x="230" y="999"/>
                      <a:pt x="230" y="999"/>
                    </a:cubicBezTo>
                    <a:cubicBezTo>
                      <a:pt x="230" y="999"/>
                      <a:pt x="490" y="984"/>
                      <a:pt x="490" y="984"/>
                    </a:cubicBezTo>
                    <a:cubicBezTo>
                      <a:pt x="556" y="979"/>
                      <a:pt x="582" y="975"/>
                      <a:pt x="627" y="968"/>
                    </a:cubicBezTo>
                    <a:cubicBezTo>
                      <a:pt x="672" y="961"/>
                      <a:pt x="717" y="953"/>
                      <a:pt x="760" y="944"/>
                    </a:cubicBezTo>
                    <a:cubicBezTo>
                      <a:pt x="803" y="935"/>
                      <a:pt x="846" y="925"/>
                      <a:pt x="888" y="914"/>
                    </a:cubicBezTo>
                    <a:cubicBezTo>
                      <a:pt x="930" y="903"/>
                      <a:pt x="971" y="894"/>
                      <a:pt x="1015" y="879"/>
                    </a:cubicBezTo>
                    <a:cubicBezTo>
                      <a:pt x="1078" y="858"/>
                      <a:pt x="1106" y="846"/>
                      <a:pt x="1150" y="824"/>
                    </a:cubicBezTo>
                    <a:cubicBezTo>
                      <a:pt x="1194" y="802"/>
                      <a:pt x="1247" y="771"/>
                      <a:pt x="1280" y="749"/>
                    </a:cubicBezTo>
                    <a:cubicBezTo>
                      <a:pt x="1312" y="724"/>
                      <a:pt x="1329" y="712"/>
                      <a:pt x="1350" y="689"/>
                    </a:cubicBezTo>
                    <a:cubicBezTo>
                      <a:pt x="1373" y="664"/>
                      <a:pt x="1385" y="649"/>
                      <a:pt x="1420" y="599"/>
                    </a:cubicBezTo>
                    <a:cubicBezTo>
                      <a:pt x="1455" y="549"/>
                      <a:pt x="1465" y="464"/>
                      <a:pt x="1465" y="464"/>
                    </a:cubicBezTo>
                    <a:cubicBezTo>
                      <a:pt x="1470" y="429"/>
                      <a:pt x="1464" y="416"/>
                      <a:pt x="1460" y="394"/>
                    </a:cubicBezTo>
                    <a:cubicBezTo>
                      <a:pt x="1456" y="372"/>
                      <a:pt x="1451" y="353"/>
                      <a:pt x="1443" y="332"/>
                    </a:cubicBezTo>
                    <a:cubicBezTo>
                      <a:pt x="1433" y="312"/>
                      <a:pt x="1428" y="290"/>
                      <a:pt x="1410" y="266"/>
                    </a:cubicBezTo>
                    <a:cubicBezTo>
                      <a:pt x="1392" y="242"/>
                      <a:pt x="1363" y="211"/>
                      <a:pt x="1335" y="189"/>
                    </a:cubicBezTo>
                    <a:cubicBezTo>
                      <a:pt x="1335" y="189"/>
                      <a:pt x="1299" y="160"/>
                      <a:pt x="1242" y="134"/>
                    </a:cubicBezTo>
                    <a:cubicBezTo>
                      <a:pt x="1185" y="108"/>
                      <a:pt x="1154" y="101"/>
                      <a:pt x="1116" y="89"/>
                    </a:cubicBezTo>
                    <a:cubicBezTo>
                      <a:pt x="1078" y="77"/>
                      <a:pt x="1063" y="72"/>
                      <a:pt x="1011" y="62"/>
                    </a:cubicBezTo>
                    <a:cubicBezTo>
                      <a:pt x="1011" y="62"/>
                      <a:pt x="879" y="38"/>
                      <a:pt x="801" y="26"/>
                    </a:cubicBezTo>
                    <a:cubicBezTo>
                      <a:pt x="727" y="15"/>
                      <a:pt x="629" y="9"/>
                      <a:pt x="564" y="5"/>
                    </a:cubicBezTo>
                    <a:cubicBezTo>
                      <a:pt x="499" y="1"/>
                      <a:pt x="449" y="2"/>
                      <a:pt x="411" y="2"/>
                    </a:cubicBezTo>
                    <a:cubicBezTo>
                      <a:pt x="374" y="1"/>
                      <a:pt x="358" y="0"/>
                      <a:pt x="336" y="2"/>
                    </a:cubicBezTo>
                    <a:cubicBezTo>
                      <a:pt x="314" y="2"/>
                      <a:pt x="288" y="2"/>
                      <a:pt x="279" y="5"/>
                    </a:cubicBezTo>
                    <a:close/>
                  </a:path>
                </a:pathLst>
              </a:cu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eaeaea"/>
                  </a:solidFill>
                  <a:latin typeface="Times New Roman"/>
                </a:endParaRPr>
              </a:p>
            </p:txBody>
          </p:sp>
        </p:grpSp>
        <p:pic>
          <p:nvPicPr>
            <p:cNvPr id="11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160640" cy="3357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" name=""/>
          <p:cNvSpPr/>
          <p:nvPr/>
        </p:nvSpPr>
        <p:spPr>
          <a:xfrm>
            <a:off x="900000" y="1557360"/>
            <a:ext cx="8244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143000" y="3213000"/>
            <a:ext cx="8001000" cy="0"/>
          </a:xfrm>
          <a:prstGeom prst="line">
            <a:avLst/>
          </a:prstGeom>
          <a:ln cap="sq" w="10152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B4FA1-4C9D-4785-A923-7811E18A7DD4}" type="slidenum">
              <a:rPr b="0" lang="pt-BR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068640"/>
            <a:ext cx="1692360" cy="3789360"/>
          </a:xfrm>
          <a:prstGeom prst="rect">
            <a:avLst/>
          </a:prstGeom>
          <a:ln w="0">
            <a:noFill/>
          </a:ln>
        </p:spPr>
      </p:pic>
      <p:grpSp>
        <p:nvGrpSpPr>
          <p:cNvPr id="55" name=""/>
          <p:cNvGrpSpPr/>
          <p:nvPr/>
        </p:nvGrpSpPr>
        <p:grpSpPr>
          <a:xfrm>
            <a:off x="395280" y="5950080"/>
            <a:ext cx="863640" cy="907560"/>
            <a:chOff x="395280" y="5950080"/>
            <a:chExt cx="863640" cy="907560"/>
          </a:xfrm>
        </p:grpSpPr>
        <p:sp>
          <p:nvSpPr>
            <p:cNvPr id="56" name=""/>
            <p:cNvSpPr/>
            <p:nvPr/>
          </p:nvSpPr>
          <p:spPr>
            <a:xfrm>
              <a:off x="395280" y="6676560"/>
              <a:ext cx="863640" cy="1810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6600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800" spc="-1" strike="noStrike">
                  <a:solidFill>
                    <a:srgbClr val="ffff00"/>
                  </a:solidFill>
                  <a:latin typeface="Humanst521 BT"/>
                </a:rPr>
                <a:t>DSC/CEEI/UFCG</a:t>
              </a:r>
              <a:endParaRPr b="0" lang="en-US" sz="8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744120" y="6237720"/>
              <a:ext cx="47160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437040" y="5950080"/>
              <a:ext cx="470160" cy="398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746640" y="6251400"/>
              <a:ext cx="471240" cy="397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437400" y="5962680"/>
              <a:ext cx="472680" cy="3992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92360" cy="33577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8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hyperlink" Target="http://pt.wikipedia.org/wiki/2007" TargetMode="External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4.jpe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image" Target="../media/image56.jpe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20574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HISTÓRICO – EVOL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(1960 – Atualida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8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 Joseana Macêdo Fechine Régis de Araúj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2000" spc="-1" strike="noStrike">
                <a:solidFill>
                  <a:srgbClr val="000000"/>
                </a:solidFill>
                <a:latin typeface="Tahoma"/>
              </a:rPr>
              <a:t>joseana@computacao.ufcg.edu.b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pt-BR" sz="20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title"/>
          </p:nvPr>
        </p:nvSpPr>
        <p:spPr>
          <a:xfrm>
            <a:off x="176364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200b5b"/>
                </a:solidFill>
                <a:latin typeface="Tahoma"/>
              </a:rPr>
              <a:t>Introdução à Computa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908000" y="189000"/>
            <a:ext cx="6629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19320" y="1844640"/>
            <a:ext cx="7673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a estação de trabalh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 entrada interna para mo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o computador comercial baseado n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8008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tornou-se padrão para a indústria, 4.500 componentes, soma 2 números de 8 bits em 2,5 milionésimos de segundo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tair 880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microprocessador Intel 8080).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ele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a primeira rede comercial, equivalente a ARPA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otótipo do módulo de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indicador visua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D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) -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dicador vídeo alfanumérico para computadores pesso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9608F-E74D-4058-BC6D-2D8AF0509D6F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828800" y="1933560"/>
            <a:ext cx="2068560" cy="89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1905120" y="3228840"/>
            <a:ext cx="2079360" cy="2924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7" name=""/>
          <p:cNvSpPr/>
          <p:nvPr/>
        </p:nvSpPr>
        <p:spPr>
          <a:xfrm>
            <a:off x="2285640" y="620064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8008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4724280" y="2162160"/>
            <a:ext cx="3641760" cy="2405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39" name=""/>
          <p:cNvSpPr/>
          <p:nvPr/>
        </p:nvSpPr>
        <p:spPr>
          <a:xfrm>
            <a:off x="5866560" y="4724280"/>
            <a:ext cx="146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tair 880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V="1">
            <a:off x="6934320" y="3838680"/>
            <a:ext cx="380880" cy="838080"/>
          </a:xfrm>
          <a:prstGeom prst="line">
            <a:avLst/>
          </a:prstGeom>
          <a:ln cap="sq" w="3816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962EB-63B6-4B85-964D-51D25BD9F21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50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primeiro computad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ngle-bo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ZX 80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baseado no "chip" Zilog Z80, de 8 bits, o computador pessoal mais barato do mercado (menos de US$ 150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racterísticas: circuito impresso em sua placa-mãe, fonte de alimentação, teclado e cartuchos para jogo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O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omputador de fácil uso, só necessitava de um monitor e isso atraiu muita g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X 11/78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apaz de processar até 4.3 Gbytes de memória virtual, o mais rápido  minicomputador da époc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flexível de 5 ¼”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 transformou-se na medida padrão para computadores pesso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DCAD2-6693-4A46-A90C-FD34F08A5AA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676520" y="1711440"/>
            <a:ext cx="2639880" cy="1622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5867280" y="1700280"/>
            <a:ext cx="2021040" cy="1838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6" name=""/>
          <p:cNvSpPr/>
          <p:nvPr/>
        </p:nvSpPr>
        <p:spPr>
          <a:xfrm>
            <a:off x="2515680" y="346392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401880" y="3537000"/>
            <a:ext cx="109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3"/>
          <a:stretch/>
        </p:blipFill>
        <p:spPr>
          <a:xfrm>
            <a:off x="5791320" y="4076640"/>
            <a:ext cx="2182680" cy="23256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49" name=""/>
          <p:cNvSpPr/>
          <p:nvPr/>
        </p:nvSpPr>
        <p:spPr>
          <a:xfrm>
            <a:off x="6249240" y="6488280"/>
            <a:ext cx="155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X 11/7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4"/>
          <a:stretch/>
        </p:blipFill>
        <p:spPr>
          <a:xfrm>
            <a:off x="2057400" y="4065480"/>
            <a:ext cx="1943280" cy="23320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2668680" y="6488280"/>
            <a:ext cx="7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X80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4BDE3C-99D3-44E1-9768-ABE9C991AD6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555280" y="5877000"/>
            <a:ext cx="102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ppl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1258920" y="2133720"/>
            <a:ext cx="3500280" cy="36543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5148360" y="2212560"/>
            <a:ext cx="3456000" cy="366012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das vantagens é que o Apple I podia ser ligado diretamente à uma TV, dispensando a compra de um terminal de vídeo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le possuía também um conector unidade de fita (o controlador era vendido separadamente por 75 dólares) e um conector proprietário reservado para expansões futura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815487-4B87-4FDB-91FE-20E42334654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10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6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SIC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ra a linguagem mais popular na época (e serviu como base para diversas linguagens modernas), pois tem uma sintaxe simples se comparado com o C ou Assembly, utilizando comandos derivados de palavras do Inglê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67ABA-11DC-40E9-9740-448F2DBAB5B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32000" y="1916280"/>
            <a:ext cx="7100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tari 800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- Também podia ser usado com um computador relativamente poderoso, chegando a ser adotado nos laboratórios de informática de algumas universidad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2124000" y="3441600"/>
            <a:ext cx="5472360" cy="2822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D43C3E-DE00-45B6-A750-D35E347F0B9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9250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ard Disk Driv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microcomputadores (capacidade: 5MByt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óptico de armazen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e dados (capacidade: 60 vezes maior do que o disco flexível de 5 ¼”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contrata 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soft Corpor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fazer um sistema operacional para um novo microcomputador (IBM percebe que o mercado é promissor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introduziu seu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proporciona o rápido crescimento do mercado de computadores pessoai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S-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icrosoft Disk Operating Syst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foi o software básico lançado para o PC da IB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computador portátil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borne 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FFD04C-7949-401B-9AAB-DA46993B326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4952880" y="2228760"/>
            <a:ext cx="3372120" cy="26402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6019920" y="4943520"/>
            <a:ext cx="136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Osborne I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1523880" y="2152800"/>
            <a:ext cx="2603520" cy="26841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68" name=""/>
          <p:cNvSpPr/>
          <p:nvPr/>
        </p:nvSpPr>
        <p:spPr>
          <a:xfrm>
            <a:off x="2363400" y="5048280"/>
            <a:ext cx="107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M PC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2CF47-93FC-42E0-BE67-B4B72858436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celul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 quarto de século atrás, a Federal Communications Commission dá sua bênção ao primeiro celular do mun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abençoado foi o modelo Motorola DynaTac 8000x, que pesava quase 1 quilo e custava 4 mil dó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5076720" y="4508640"/>
            <a:ext cx="2640240" cy="207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D377A-FE77-48D5-B17A-CDF3803FF8C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do o UNIMATE,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robô industri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entrou em operação na GM. Função: empilhar pedaços de metais quent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2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udantes do MIT escreveram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paceWa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! - primeiro jogo interativo de computador (oferecia gráficos interativos que inspiraram os vídeo gam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SCII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merican Standard Code for Information Interchan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ermitiu que máquinas de diferentes fabricantes trocassem dados entre si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igital Equipamen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vend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minicomput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ouglas Engelbart recebe a patente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mous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3D2A9-FFB9-4291-B640-172FCA6CCEC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GNU não é o Uni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ichard Stallman anunciou, pelo grupo net.unix-wizards, que escreveria um software totalmente compatível com o sistema operacional Unix, o GNU (sigla do inglês GNU is not Unix), e permitir que todos os interessados o usem gratuit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A19A81-F3D6-4BF9-972C-4D69E187888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 pouco portátil Compaq Por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2,7 quil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Compaq pouco portátil também tinha um valor pesado: 3.590 dóla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4643280" y="3789360"/>
            <a:ext cx="3143520" cy="2476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BFC20-3EB5-4151-9DC9-9AC8283D3E6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... 1982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venção do D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agine uma internet onde IP impossíveis de serem lembrados são usados no lugar de nomes de dom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Domain Name System (DNS) foi inventado por Paul Mockapetris, quando a rede ainda tinha somente algumas centenas de máquinas conect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5651640" y="4653000"/>
            <a:ext cx="2305080" cy="181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6D610-3C63-444E-8F46-F2098BEDB60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8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senvolvi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tus 1-2-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, software para o IBM PC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 us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gráficos gerados em comput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para filmes (film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ro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- Disn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98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Compaq introduziu seu primeiro PC (usava o mesmo software que  o PC da IB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icrosoft anunciou o processador de tex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or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nome inicial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ulti-Tool Wo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e o 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indow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1600200" y="5638680"/>
            <a:ext cx="6705720" cy="9169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Apple escolheu processadores Motorola para a sua linha de computadores e a IBM escolheu Intel. O sucessor do Apple II, o Macintosh, utiliza chips PowerPC, fornecidos pela Motorola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C9695F-24E7-4717-84BF-0BEC38FADD2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643280" y="3429000"/>
            <a:ext cx="3640320" cy="2427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84" name=""/>
          <p:cNvSpPr/>
          <p:nvPr/>
        </p:nvSpPr>
        <p:spPr>
          <a:xfrm>
            <a:off x="4500720" y="595008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ON –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ma Odisséia Eletrônica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1258920" y="1844640"/>
            <a:ext cx="2951280" cy="232560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619280" y="4292640"/>
            <a:ext cx="231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BAD76E-2CC4-4C3E-838A-07D28E6EB51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2843280" y="5516640"/>
            <a:ext cx="3886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tus 1-2-3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2700360" y="2060640"/>
            <a:ext cx="4151160" cy="3270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692280-06A9-4BF7-96F2-5A782F58796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11206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Apple lançou 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sa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. 1 MB de memória RAM, dois drives de disquete de 5¼ de alta densidade (eram usados discos de 871 KB), HD de 5 MB e um monitor de 12 polegadas, com resolução de 720 x 360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reço: 10.000 dólares da época (suficiente para comprar 5 PCs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4356000" y="4005360"/>
            <a:ext cx="3961080" cy="261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AA99E1-0D88-4C0E-85E6-C3822CA2F3CF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120680" y="1916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pple lanç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rimeiro computador co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use e interface gráfic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valor comercial de US$ 1,5 milhão de dóla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quete de 3 ½"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"microfloppy“), foi amplamente acei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divulgou seu PC Jr. (fracasso)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C-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racterísticas do PC-A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as vezes mais rápido que o PC origi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seado na plataforma Intel 80-286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rnou-se um sucesso devido ao seu ótimo desempenho e grande capacidade de armazenamento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esses recursos por aproximadamente US$ 4 mi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A5C4C5-1AC9-4DCD-B22A-8A3F278E76B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5867280" y="1628640"/>
            <a:ext cx="2411640" cy="251460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2"/>
          <a:stretch/>
        </p:blipFill>
        <p:spPr>
          <a:xfrm>
            <a:off x="6477120" y="4676760"/>
            <a:ext cx="1511280" cy="1523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8" name=""/>
          <p:cNvSpPr/>
          <p:nvPr/>
        </p:nvSpPr>
        <p:spPr>
          <a:xfrm>
            <a:off x="6095880" y="62006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80286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943600" y="414324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C-A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3"/>
          <a:stretch/>
        </p:blipFill>
        <p:spPr>
          <a:xfrm>
            <a:off x="1447920" y="1781280"/>
            <a:ext cx="3429000" cy="25747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02" name=""/>
          <p:cNvSpPr/>
          <p:nvPr/>
        </p:nvSpPr>
        <p:spPr>
          <a:xfrm>
            <a:off x="1981080" y="452448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cintosh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4C650-D53D-4845-A274-F1B6A732D3F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18728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rnet ganhou suporte: 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National Science Found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struturou o NSFNET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gando cinco supercomputadore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 Universidades de Princeton, Pittsburgh, Califórnia, Illinois e Cornell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nov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D- RO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xpandiram o mercado de CDs de música (capacidade de armazenamento: 550Mb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Aldus anunciou o programa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PageMake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ara o uso em computadores Macintosh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guagem de program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++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surgiu e dominou a indústria de computado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5D6A72-0DE2-4C1C-93DC-5C34746ABBA4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447920" y="1700280"/>
            <a:ext cx="1755720" cy="22906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5" name=""/>
          <p:cNvSpPr/>
          <p:nvPr/>
        </p:nvSpPr>
        <p:spPr>
          <a:xfrm>
            <a:off x="990720" y="4067280"/>
            <a:ext cx="281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MAT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4419720" y="1704960"/>
            <a:ext cx="4068720" cy="21178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7" name=""/>
          <p:cNvSpPr/>
          <p:nvPr/>
        </p:nvSpPr>
        <p:spPr>
          <a:xfrm>
            <a:off x="5181480" y="38386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ÓDIGO ASCII (1963)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791320" y="4371840"/>
            <a:ext cx="1617480" cy="2392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09" name=""/>
          <p:cNvSpPr/>
          <p:nvPr/>
        </p:nvSpPr>
        <p:spPr>
          <a:xfrm>
            <a:off x="3124080" y="536256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meiro Mous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3EB470-DB88-4B51-BC8D-4448CCA1881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1142640" y="174096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mpulso da inteligência artificial com o  desenvolvimento do conceito compacto 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onexão paralel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e a MIPS desenvolveram as primeiras estações de trabalho baseadas em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RIS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aq desbancou a IBM no mercado quando anunci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kpro 38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primeiro computador no mercado a usar o novo processador Intel 386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3096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17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otorola desenvolve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03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introduz os computadore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S/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com drive de 3 ½"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6732720" y="4292640"/>
            <a:ext cx="1295280" cy="1295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1F8685-1DF4-465E-8A77-41641095620E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1116000" y="198864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paq e outros fabricantes de PC desenvolveram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ISA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hanced Industry Standard Architectur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uma arquitetura padr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ixar'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Tin To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- primeiro filme feito em computador a ganhar um prêmio da Academia (Oscar, por melhor desenho animado de curta metragem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ert Morris enviou u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írus através da 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causou problemas para aproximadamente 10% dos 60 mil usuários da re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A2B4F-5B15-4D51-B4AF-F6B8617387FE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1042560" y="1740960"/>
            <a:ext cx="80010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l lanço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80486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860 RIS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/coprocessor chip (mais de 1 milhão de transist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otorola anunciou o micro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68040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com aproximadamente 1,2 milhão de transistores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axis lanço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imCit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jogo de vídeo game que utilizava uma série de simulad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icrosoft anuncia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3.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Compatível com o D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World Wide We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nasceu quando Tim Berners-Lee, um pesquisador do CERN, desenvolveu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TM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iperText Markup Languag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6084720" y="3860640"/>
            <a:ext cx="1143000" cy="1132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C57F5F-B6CA-4AAE-9761-D48236C0C085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ower P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aliança IBM, Motorola, e Apple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C apresenta o primeiro chip a implementar a arquitetura RISC -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lpha 64-bi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missão d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udio multicas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-bone pela Ne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írus Michelangel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resulta em um estrago de pequenas proporçõ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Intel é apresent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e uma interface gráfica para navegação pela Internet chamada (NCS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osa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90B4E-E136-423D-A3A4-413D0B6E724B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1676520" y="3048120"/>
            <a:ext cx="1379520" cy="13651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4114800" y="2057400"/>
            <a:ext cx="4419720" cy="32274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17" name=""/>
          <p:cNvSpPr/>
          <p:nvPr/>
        </p:nvSpPr>
        <p:spPr>
          <a:xfrm>
            <a:off x="4876920" y="541008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aic2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752480" y="4648320"/>
            <a:ext cx="1219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-Pentium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80D49-853F-49DD-B251-C989298C4BE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/>
          </p:nvPr>
        </p:nvSpPr>
        <p:spPr>
          <a:xfrm>
            <a:off x="1120680" y="170028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dação da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Netscap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Communicatio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riginalment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Mosaic Communication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rowser da Netscap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torna-se disponível e cria rapidamente um crescimento de "surfistas" da We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Toy Story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o primeiro filme de longa metragem inteiramente gerado por computado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95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lanç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guagem de programaçã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permite o desenvolvimento de aplicações independentes de plataformas (“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Duk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” é o primeiro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appl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01680" indent="-3016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53760" indent="-2512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Pentium Pro da Intel é apresent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EED824-5074-4F0A-A6B2-50AB5F2C779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295280" y="2362320"/>
            <a:ext cx="7607520" cy="22604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3" name=""/>
          <p:cNvSpPr/>
          <p:nvPr/>
        </p:nvSpPr>
        <p:spPr>
          <a:xfrm>
            <a:off x="1824120" y="4800600"/>
            <a:ext cx="6508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a ordem o Celeron / Ciryx / AMD K6 / Pentium MM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9FDDF5-CDCD-44EA-B29B-ED918C11BF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/>
          </p:nvPr>
        </p:nvSpPr>
        <p:spPr>
          <a:xfrm>
            <a:off x="1143000" y="174096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Netscape Navigator 2.0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lançado (primeiro browser com suporte para JavaScript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l lança o 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 de 150,166 &amp; 200 MHz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têm o equivalente a 3.3 milhões de transistore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BM Deep Blu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foi o primeiro computador a ganhar do campeão mundial de xadrez Gary Kasparov em um jo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lançado o processado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entium II 333 MH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lançad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Windows 98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99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0960" indent="-254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número de pessoas que usam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U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é estimado em mais de 10 milh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67E529-D28B-4EE0-8760-4AD357BA4782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1295280" y="1741320"/>
            <a:ext cx="3733920" cy="24004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5410080" y="1741320"/>
            <a:ext cx="3029040" cy="350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229" name=""/>
          <p:cNvSpPr/>
          <p:nvPr/>
        </p:nvSpPr>
        <p:spPr>
          <a:xfrm>
            <a:off x="1219320" y="4255920"/>
            <a:ext cx="3987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 Pentium 2 e o AMD K6-2 -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P de Linha até 1998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05520" y="5322960"/>
            <a:ext cx="3676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to de uma placa de Pentium II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5661000"/>
            <a:ext cx="3745080" cy="78552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l 4004: 2.200 transistores.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ntium II: 7.500.000 transistores.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8A3351-664D-4761-ADDB-85BED6585ECE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1371240" y="1988640"/>
            <a:ext cx="67294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 Intel lança o seu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Pentium III de 1GHz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MD lança 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AMD de 1GHz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ntel lança o seu processador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i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Itanium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Linux Kernel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é lançado.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ançado o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Windows XP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title"/>
          </p:nvPr>
        </p:nvSpPr>
        <p:spPr>
          <a:xfrm>
            <a:off x="1219320" y="257040"/>
            <a:ext cx="5486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3987-0755-4A14-92C4-63593EB4738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143000" y="167004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inguagem Basic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Hewlett-Packard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ntrou no negócio de computadores para uso geral com seu HP-2115. Ele suportava uma grande variedade de linguagens entre elas BASIC, ALGOL e FORTR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BM apresenta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disco de armazen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IBM RAMAC 305. Tinh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capacidade de 5 MB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ia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LOG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como se fosse uma linguagem de computação para crianç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BM constrói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floppy disk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obert Noyce e Gordon Moore criaram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Corporation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1219320" y="30600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B3936-F39B-4C9F-8C2E-6E25A047F3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4038480" y="1859040"/>
            <a:ext cx="1841760" cy="165096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4114800" y="3611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MD-Duron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600200" y="1859040"/>
            <a:ext cx="1676520" cy="167616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1600200" y="361152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MD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6477120" y="1935000"/>
            <a:ext cx="2057400" cy="178308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6804000" y="3789360"/>
            <a:ext cx="1752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YRIX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1752480" y="5059440"/>
            <a:ext cx="2590920" cy="13492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5"/>
          <a:stretch/>
        </p:blipFill>
        <p:spPr>
          <a:xfrm>
            <a:off x="5486400" y="5059440"/>
            <a:ext cx="2708280" cy="139392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2A2C6A-91B3-494C-8A79-15CE47F8263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/>
          </p:nvPr>
        </p:nvSpPr>
        <p:spPr>
          <a:xfrm>
            <a:off x="1187280" y="188604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entium 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é construído com uma tecnologia de 0,13 micrômetros e possui 55 milhões de transisto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O supercomputador japonê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arth Simulat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criado pela NEC para simular mudanças no clima do planeta possui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5104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processadores e ocupa uma área equivalente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rê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quadras de tênis. Seu desempenho esta em torno de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35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teraflops, realiza 35,86 trilhões de cálculos por segund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09F6E6-D811-4B8A-9004-1D2AD6E81235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2895480" y="6272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"Simulador da Terra"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3111480" y="3639960"/>
            <a:ext cx="4340160" cy="263376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3657600" y="1747800"/>
            <a:ext cx="2754360" cy="13939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2666880" y="3032280"/>
            <a:ext cx="480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entium 4 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313954-2092-4448-8A13-AB0521618BBF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1258920" y="1699920"/>
            <a:ext cx="745344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AMD lança o processador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pter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O Opteron é o primeiro processador para a arquitetura CISC capaz de trabalhar a </a:t>
            </a:r>
            <a:r>
              <a:rPr b="1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64 bit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  <a:ea typeface="Times New Roman"/>
              </a:rPr>
              <a:t> utilizando as instruções IA-32 (conhecidas também pelo nome x86).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1"/>
          <a:stretch/>
        </p:blipFill>
        <p:spPr>
          <a:xfrm>
            <a:off x="6553080" y="4343400"/>
            <a:ext cx="2363760" cy="167004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1187280" y="4221000"/>
            <a:ext cx="5124600" cy="25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ssui transistores de 0,13 mícron, possuindo no total 100 milhões de transistores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Pode endereçar até 1 TeraByte de memória RAM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  <a:p>
            <a:pPr marL="190440" indent="-190440" algn="just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Suporta até 8 processadores na mesma placa-mãe.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E0E438-861A-4AE1-9428-BAFCA233CCB7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1187280" y="1812960"/>
            <a:ext cx="74678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20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Lançamento do Supercomputador IBM Blue Gene/L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mposto por 131.072 processadores PowerPC, possuindo 32 terabytes de memória RAM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 IBM desenvolveu módulos relativamente simples, contendo 2 processadores, 512 MB de RAM e uma interface de rede gigabit Ethernet, similares a um PC doméstic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gigantesca estrutura funciona como um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cluster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, em que o processamento é dividido em pequenos pedaços e dividido entre os módulo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9278A-D877-4636-8ED4-40C356E47774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276720" y="1916280"/>
            <a:ext cx="260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IBM Blue Gene/L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1"/>
          <a:stretch/>
        </p:blipFill>
        <p:spPr>
          <a:xfrm>
            <a:off x="2195640" y="2492280"/>
            <a:ext cx="5041800" cy="3781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025165-AAE6-4712-95BD-F8CD195DCE82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042920" y="1886040"/>
            <a:ext cx="38102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 lança o seu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tium 4 de 64 bit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concorrente do Athlon 64 da AMD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ém desse processador, a Intel lançou ainda o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ntium 4 Extreme Edition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de 3,73 GH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"/>
          <p:cNvGrpSpPr/>
          <p:nvPr/>
        </p:nvGrpSpPr>
        <p:grpSpPr>
          <a:xfrm>
            <a:off x="5365800" y="4149720"/>
            <a:ext cx="3743280" cy="2638800"/>
            <a:chOff x="5365800" y="4149720"/>
            <a:chExt cx="3743280" cy="2638800"/>
          </a:xfrm>
        </p:grpSpPr>
        <p:pic>
          <p:nvPicPr>
            <p:cNvPr id="263" name="" descr=""/>
            <p:cNvPicPr/>
            <p:nvPr/>
          </p:nvPicPr>
          <p:blipFill>
            <a:blip r:embed="rId1"/>
            <a:stretch/>
          </p:blipFill>
          <p:spPr>
            <a:xfrm>
              <a:off x="5905440" y="4149720"/>
              <a:ext cx="2664000" cy="186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5365800" y="6055200"/>
              <a:ext cx="374328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Parte inferior do Pentium 4 Extreme Edition, à esquerda, e do Pentium 4, à direita.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http://www.clubedohardware.com.b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4932360" y="1341360"/>
            <a:ext cx="4176720" cy="2567160"/>
            <a:chOff x="4932360" y="1341360"/>
            <a:chExt cx="4176720" cy="2567160"/>
          </a:xfrm>
        </p:grpSpPr>
        <p:pic>
          <p:nvPicPr>
            <p:cNvPr id="266" name="" descr=""/>
            <p:cNvPicPr/>
            <p:nvPr/>
          </p:nvPicPr>
          <p:blipFill>
            <a:blip r:embed="rId2"/>
            <a:stretch/>
          </p:blipFill>
          <p:spPr>
            <a:xfrm>
              <a:off x="5581800" y="1341360"/>
              <a:ext cx="2857320" cy="178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4932360" y="3175200"/>
              <a:ext cx="417672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Pinagem do Athlon 64, à esquerda (soquete 754), e pinagem do Pentium 4, à direita (soquete 478). 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400" spc="-1" strike="noStrike">
                  <a:solidFill>
                    <a:srgbClr val="000000"/>
                  </a:solidFill>
                  <a:latin typeface="Arial"/>
                </a:rPr>
                <a:t>http://www.clubedohardware.com.br</a:t>
              </a:r>
              <a:endParaRPr b="0" lang="en-US" sz="1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B688A2-EC6E-4A45-B5D1-3F8F2277C956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042920" y="1886040"/>
            <a:ext cx="785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pple passou por duas grandes revoluçõ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imeira foi a migração do MacOS antigo para o OS X, que por baixo da interface polida, é um sistema Unix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segunda aconteceu em 2005, quando a Apple anunciou a migração de toda a sua linha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ktop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notebook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processadores Inte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8BEF3-1B83-46ED-9AFE-85D66F17C7BC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850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Do ponto de vista do hardware, os Mac atuais não são muito diferentes dos PC, você pode inclusive rodar Windows e Linux por meio do boot camp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ó os Mac são capazes de rodar o Mac OS X, devido ao uso do EFI,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firmware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special, que substitui o BIOS da placa mã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sta combinação permitiu que a Apple se beneficiasse da redução de custo nos processadores e outros componentes para micros PC, mas ao mesmo tempo conservasse seu principal diferencial, que é o softwa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944CD-9EFD-49E0-AACB-B03BCF23BC42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7640" y="1844640"/>
            <a:ext cx="5977080" cy="4495680"/>
          </a:xfrm>
          <a:prstGeom prst="rect">
            <a:avLst/>
          </a:prstGeom>
          <a:noFill/>
          <a:ln w="0">
            <a:noFill/>
          </a:ln>
          <a:effectLst>
            <a:outerShdw dist="12600" dir="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c OS 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2050920" y="2492280"/>
            <a:ext cx="5465880" cy="4100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5CFFB2-C68F-41F6-ADCA-A1EAAF6E89E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447920" y="1992240"/>
            <a:ext cx="3292200" cy="35895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4" name=""/>
          <p:cNvSpPr/>
          <p:nvPr/>
        </p:nvSpPr>
        <p:spPr>
          <a:xfrm>
            <a:off x="1600200" y="57261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P-2115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5791320" y="2602080"/>
            <a:ext cx="2666880" cy="2065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16" name=""/>
          <p:cNvSpPr/>
          <p:nvPr/>
        </p:nvSpPr>
        <p:spPr>
          <a:xfrm>
            <a:off x="5715000" y="4811760"/>
            <a:ext cx="289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OPPY DISK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C925F-C894-4FA7-AA72-B683FE4A6ED4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16000" y="1773360"/>
            <a:ext cx="777240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icrosoft lança o Xbox 360, primeiro videogame da sétima geração, que promete se integrar com o P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5364000" y="3284640"/>
            <a:ext cx="1998720" cy="266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A5F6-877B-4045-82AC-784C6C44DAC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15640" y="1773360"/>
            <a:ext cx="64803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6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Web 2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ple lanç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iPod Nano (menor iPod com tela LCD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APPiPod Video, com capacidade de armazenamento de até 200G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çado o Wii (Nintend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soft lança o Windows Vista para uso corpor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ançado o Playstation 3 (Son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tel lança sua linha de processadores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re 2 Du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anuncia o lançamento do 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quad core</a:t>
            </a:r>
            <a:r>
              <a:rPr b="1" i="1" lang="pt-BR" sz="2400" spc="-1" strike="noStrike" u="sng">
                <a:solidFill>
                  <a:srgbClr val="ff33cc"/>
                </a:solidFill>
                <a:uFillTx/>
                <a:latin typeface="Arial"/>
                <a:hlinkClick r:id="rId1"/>
              </a:rPr>
              <a:t>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7740720" y="1700280"/>
            <a:ext cx="1046160" cy="138888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7812000" y="3429000"/>
            <a:ext cx="1024200" cy="139068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7812000" y="5157720"/>
            <a:ext cx="989280" cy="12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5D58B2-418D-4202-9076-3AC576C294D2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1619280" y="2133720"/>
            <a:ext cx="2016000" cy="2016000"/>
          </a:xfrm>
          <a:prstGeom prst="rect">
            <a:avLst/>
          </a:prstGeom>
          <a:ln w="0">
            <a:noFill/>
          </a:ln>
        </p:spPr>
      </p:pic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5292720" y="2565360"/>
            <a:ext cx="2367000" cy="32670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1619280" y="4220640"/>
            <a:ext cx="223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Intel Core 2 Duo E6600 "Conroe" 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1A2609-333A-47D7-A020-F34859CB0128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6000" y="1916280"/>
            <a:ext cx="7772400" cy="23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2007/2008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crosoft lança o Windows Vista para uso domés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utros lançament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8A7BB-661D-45DB-BA96-679DC6419312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1116000" y="179244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endê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s grandes computadores caminham para o processamento paralel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 tamanho do grão de processamento será cada vez menor e os processos cada vez mais acoplad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adores ópticos, Nanotecnologia, Computação biológica, Armazenar bits no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pi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o átom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Vem aí o computador quântic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082C54-488A-41F2-A9C5-8DF771B288BD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/>
          <p:nvPr/>
        </p:nvSpPr>
        <p:spPr>
          <a:xfrm>
            <a:off x="2133720" y="4761000"/>
            <a:ext cx="5638680" cy="1981080"/>
          </a:xfrm>
          <a:prstGeom prst="rect">
            <a:avLst/>
          </a:prstGeom>
          <a:solidFill>
            <a:srgbClr val="eaeaea"/>
          </a:solidFill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258560" y="162828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 modernos chips dos computadores devem sua existência ao trabalho de inventores geniais, durante três séculos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tendência é que tenhamos cada vez mais dessa rapidez no dia-a-dia. E tudo isso graças a alguns marcos no desenvolvimento tecnológico, tais como a invenção do transistor, do circuito integrado, e do refinamento contínuo da técnicas de construção dos chip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2590920" y="5141880"/>
            <a:ext cx="4572000" cy="15890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2209680" y="4303800"/>
            <a:ext cx="5867640" cy="4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“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É impossível parar”    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(Shmid, 1995)</a:t>
            </a: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C4BFFC-A46B-4589-80A7-8560FF04B31C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1430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6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senvolvimento do sistema operacional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NIX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exército americano interligou as máquinas d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PA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formando a rede que originaria 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imeir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robô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móvel internacional controlado por inteligência artificial. (SRI Shake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stalação da primeira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áquina de caixa automát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imeiro computador pesso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Kenbak-1) - 750 dólar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nçament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microprocess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Intel 4004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2.250 componentes, soma 2 números de 4 bits em 11 milionésimos de segundo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venção d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isco flexível de 8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32E041-093A-4E34-AA74-54AD60DAAFE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676520" y="2092320"/>
            <a:ext cx="1619280" cy="274320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1" name=""/>
          <p:cNvSpPr/>
          <p:nvPr/>
        </p:nvSpPr>
        <p:spPr>
          <a:xfrm>
            <a:off x="1677600" y="4911840"/>
            <a:ext cx="15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RI Shakey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809880" y="2168640"/>
            <a:ext cx="2454480" cy="150804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23" name=""/>
          <p:cNvSpPr/>
          <p:nvPr/>
        </p:nvSpPr>
        <p:spPr>
          <a:xfrm>
            <a:off x="4267080" y="3768840"/>
            <a:ext cx="132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Kenbak-1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6553080" y="2092320"/>
            <a:ext cx="2087640" cy="25146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6553080" y="3768840"/>
            <a:ext cx="2057400" cy="143640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857640" y="5264280"/>
            <a:ext cx="134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l 4004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8478E2-1143-48BF-8DB0-2DCB30507B64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1295280" y="4191120"/>
            <a:ext cx="7391520" cy="137160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é 1969 existiam tantas linguagens de programação diferentes que a IBM decidiu desvincular seus sistemas e vender software e hardware separadamente. Essa liberdade fez a indústria de software deslanch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371600" y="2133720"/>
            <a:ext cx="7086600" cy="1069560"/>
          </a:xfrm>
          <a:prstGeom prst="rect">
            <a:avLst/>
          </a:prstGeom>
          <a:noFill/>
          <a:ln cap="sq"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linguagem C surgiu no começo dos anos 70 para ser usada na implementação de sistemas operacionais e outras tarefas de programação de baixo nível.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0A9B7B-65FC-408A-BFC9-D39D36D5FA5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218960" y="1956960"/>
            <a:ext cx="7543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undação d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tari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vídeo gam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00b5b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197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ARPANET implementou completamente os protocolos da Internet (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CP/IP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ARC (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alo Alto Research Cente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) desenvolveu os padrões para a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thernet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1219320" y="228240"/>
            <a:ext cx="5486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Histórico - Evolução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F8E88-1229-4737-8E92-E0ECCE13A1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. Fechine</dc:creator>
  <dc:description/>
  <dc:language>en-US</dc:language>
  <cp:lastModifiedBy>Alberto Lima</cp:lastModifiedBy>
  <dcterms:modified xsi:type="dcterms:W3CDTF">2013-06-13T12:39:39Z</dcterms:modified>
  <cp:revision>353</cp:revision>
  <dc:subject>Evolução da Computação</dc:subject>
  <dc:title>Introdução à Computação</dc:title>
</cp:coreProperties>
</file>