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1.jpeg" ContentType="image/jpeg"/>
  <Override PartName="/ppt/media/image36.jpeg" ContentType="image/jpeg"/>
  <Override PartName="/ppt/media/image9.png" ContentType="image/png"/>
  <Override PartName="/ppt/media/image10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A1BB-705D-4848-A90B-B12A237B5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8B79-3414-403C-842C-5840795CF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B5A0-70BA-4FD4-9A00-29A394C5C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8288-CAD9-4CB2-A745-53A864087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0E455-AA7B-409B-B963-7D7ECB29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02F27-FFA4-4A40-B1C9-2D4E0B29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55006-16C2-4849-90EF-720D4648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A3B6F-062A-4104-AE3F-9C40C776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62A91-308F-4057-9597-089311F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E2617-9A15-473D-87CF-B0F95BC5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3C7C5-DC6E-4730-9729-F170414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5F37-4794-4A4D-8AF3-3E87ED061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996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19479-2962-4E66-A780-9E89F2A2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EE803-3250-4624-AE0C-2A597B4B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728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71133-AD3E-446E-A64C-C2D76FF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996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8262E-AAA4-41C0-A7F9-5383DE04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528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4292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728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528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4292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7D4A8-5F39-4D04-BBCA-1FEFA3A1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354D-47D9-4F88-857A-C047A1490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E7DE-E62C-4512-8F09-6A070DB01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107E-A1F9-4CFC-83BD-7412FC648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A7D7-19DD-4FE3-8565-1B5C38226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495B-220E-4B62-85E1-0B0ACFCF2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0C1F-73D2-4C40-9ACE-DC860AD0E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01CC-73B2-45DC-B596-930CA383D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A72D-1C85-49CE-9DFC-88E98806D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160640" cy="6858000"/>
            <a:chOff x="0" y="0"/>
            <a:chExt cx="1160640" cy="6858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3068640"/>
              <a:ext cx="1160640" cy="37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" name=""/>
            <p:cNvGrpSpPr/>
            <p:nvPr/>
          </p:nvGrpSpPr>
          <p:grpSpPr>
            <a:xfrm>
              <a:off x="108000" y="5949720"/>
              <a:ext cx="863640" cy="836640"/>
              <a:chOff x="108000" y="5949720"/>
              <a:chExt cx="863640" cy="836640"/>
            </a:xfrm>
          </p:grpSpPr>
          <p:sp>
            <p:nvSpPr>
              <p:cNvPr id="7" name=""/>
              <p:cNvSpPr/>
              <p:nvPr/>
            </p:nvSpPr>
            <p:spPr>
              <a:xfrm>
                <a:off x="108000" y="6619320"/>
                <a:ext cx="863640" cy="167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6600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ffff00"/>
                    </a:solidFill>
                    <a:latin typeface="Humanst521 BT"/>
                  </a:rPr>
                  <a:t>DSC/CEEI/UFCG</a:t>
                </a:r>
                <a:endParaRPr b="0" lang="en-US" sz="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56840" y="6215040"/>
                <a:ext cx="47160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flipV="1">
                <a:off x="149400" y="5949360"/>
                <a:ext cx="470160" cy="367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59360" y="6228000"/>
                <a:ext cx="47124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flipV="1">
                <a:off x="149760" y="5962320"/>
                <a:ext cx="472680" cy="3679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60640" cy="3357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134136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B6CD-D29C-49DF-95CF-410413CCBFE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1692360" cy="37893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95280" y="5950080"/>
            <a:ext cx="863640" cy="907560"/>
            <a:chOff x="395280" y="5950080"/>
            <a:chExt cx="863640" cy="907560"/>
          </a:xfrm>
        </p:grpSpPr>
        <p:sp>
          <p:nvSpPr>
            <p:cNvPr id="55" name=""/>
            <p:cNvSpPr/>
            <p:nvPr/>
          </p:nvSpPr>
          <p:spPr>
            <a:xfrm>
              <a:off x="39528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412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43704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664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740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3357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155736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HISTÓRICO – EV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1930 – 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 Régis de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computacao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33336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402920" y="2997360"/>
            <a:ext cx="74487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41 - Z3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Konrad Zu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ultado da 2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Guerra Mundial, construído pelos alemã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ncipal função: codificação de mensa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truído em Berlim deixando poucas inform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1887480" cy="1905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971640" y="1700280"/>
            <a:ext cx="7848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Década de 193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Konrad Zus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iu uma série de máquinas de calcular automáticas usando relés eletromecânicos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Início - Z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835280" y="4724280"/>
            <a:ext cx="2819160" cy="1897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9359-49CB-4C4F-AE46-B78494C0A3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6920" y="1844280"/>
            <a:ext cx="4038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válvulas substituíram os relé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com isso veio a criação d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eira geração de comput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3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ingleses desenvolvem uma nova máquina para substituir 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eath Robins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lossus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Alan Turing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36000" y="1700280"/>
            <a:ext cx="703080" cy="2001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240000" cy="2179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6165720"/>
            <a:ext cx="7272360" cy="580680"/>
          </a:xfrm>
          <a:prstGeom prst="rect">
            <a:avLst/>
          </a:prstGeom>
          <a:noFill/>
          <a:ln cap="sq" w="255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eçava a Era da Eletrônica. A partir das válvulas surgiram o rádio, a televisão e os computadore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969E-E322-494E-A959-1A81612088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58560" y="1773000"/>
            <a:ext cx="208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álv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1552680"/>
            <a:ext cx="4319640" cy="526608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tubo de vidro na ilustração possui um terminal positivo e um negativo (o cátodo e o ânodo) separados por uma grade de fi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elétrons do cátodo são atraídos pelo ânodo e fazem uma corrente de elétrons passar através da válvula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fluxo natural dos elétrons negativos para o terminal positivo é intensificado de duas maneiras: o cátodo se aquece até a incandescência e sua superfície é tratada com um produto químico especial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grade de controle está situada entre o cátodo e o ânodo e geralmente não interfere no movimento dos elétrons. Mas, quando uma carga negativa é aplicada à grade, os elétrons são repelidos e não atingem o ânodo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200b5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força repulsora da grade supera a força de atração do ânodo e o fluxo dos elétrons cessa. A corrente é interrompida e o interruptor se desliga.</a:t>
            </a:r>
            <a:r>
              <a:rPr b="0" lang="pt-BR" sz="2000" spc="-1" strike="noStrike">
                <a:solidFill>
                  <a:srgbClr val="200b5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304020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BDA3-0881-4F4B-80AA-DA10A57F74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lossus - Caracterís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ido com a tecnologia de válvu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z de processar cerca de 5 mil caracteres por segun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z de quebrar o código da segunda geração de máquinas Enig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final da guerra, dez Colossus em operação constante permitiam que os ingleses soubessem melhor que o comando alemão onde se encontravam seus submarinos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2459-16AB-4736-BCAD-970A5F9450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42920" y="2708280"/>
            <a:ext cx="4724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racterísticas do Mark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uía 18 metros de compri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s metros de largura e pesava 70 tonel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 constituído por 7milhões de peças 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a fiação alcançava 800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a chegada dos computadores eletrônicos o Mark I logo foi substituí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77336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44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O Mark I (Howard Aiken)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eiro computador eletromecânico construí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3063960" cy="2443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084720" y="5445000"/>
            <a:ext cx="2521080" cy="1067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ão do Mark II (Sucessor do Mark I) – Computadores a relé já estavam obsoleto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F858-732C-445E-AB97-28A6BDD580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1945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Von Neumann sugeriu que o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istema binário fosse adotado em todos os computado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e que as instruções e dados fossem compilados e armazenados internamente no computador, na seqüência correta de utiliz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O computador processaria os dados de acordo com as necessidades do usuár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u seja, as instruções não viriam pré-determin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s tarde esse computador foi construído recebendo o nome de EDVAC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stas sugestões tornaram-se a base filosófica para projetos de computado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9196-3CFB-4651-9FF3-2A62A92421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5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O primeiro BUG de computador é relatado pela Oficial Naval e matemática Grace Murray Hopper, o BUG era um inseto (“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bu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”) dentro do computador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term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"bug"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ssou a referir todo o tipo de erro de computação. 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952720" cy="1397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3886200" cy="1738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5BA9-0E1C-4A46-8440-ACF549D3CC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5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Memex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emory Extens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- Vannevar Bu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o Podemos Pensar ("As We May Think"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67280" y="3213000"/>
            <a:ext cx="4483080" cy="336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1458720" cy="203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63B7-BD2C-49B5-A6CF-8CE7B61DB8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6000" y="162828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racterísticas do Mem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menso reservatório multimídia de documentos, abrangendo ao mesmo tempo imagens, sons e text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eriféricos facilitariam a integração rápida de novas informações e a transformação da palavra em texto escrit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ma tela de televisão com alto-falantes daria acesso às informaçõ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usuário poderia transitar, sem se preocupar com classificações hierárquicas, entre uma dada informação e outr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visualização de um item poderia ser acompanhada da visualização de todos os outros a ele relacionad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nexões transversais e pessoais estariam à mão graças a um simples toque de botã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nceito do  </a:t>
            </a: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hypertext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9A94-D41E-4332-B8BF-0BAEA0312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18960" y="162828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imeiro computador eletrônico,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ENIAC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letronic Numerical Integrator And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 foi inventa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385920" y="30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5300640"/>
            <a:ext cx="3505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ENIAC teve vida ativa curta e foi aposentado em 19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429000" cy="260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3581280" cy="336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1258920" y="6093000"/>
            <a:ext cx="7543800" cy="642600"/>
          </a:xfrm>
          <a:prstGeom prst="rect">
            <a:avLst/>
          </a:prstGeom>
          <a:noFill/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-se encontrar também a denominação ENIAC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lectrical Numerical Integrator And Calculat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60A2-DBB1-4A9D-887D-3BB90702E1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19280" y="1916280"/>
            <a:ext cx="6553080" cy="473688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193080" cy="445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5486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2B94-747E-421C-B27D-80362FF841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ísticas do ENI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mente eletrô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500 válvulas (aproximada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00 r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tia o equivalente a 200 quilowatts de ca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.000 conexões de sol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toneladas de p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 m² de área construí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5 m de al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m de compr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vezes maior que MARK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gava a realizar 5 mil operações por segun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ava soma em 0,0002 s e multiplicação em 0,005 s com números de 10 díg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25AB-1B1E-481F-87EC-299CC95DD2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racterísticas do EN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i alojado em uma sala de 9 m por 30 m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e de memória e confiabilidade foram os primeiros proble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ENIAC tinha condições de armazenar apenas vinte números de dez dígitos e toda programação precisava ser feita reordenando-se a rede elétr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1952, mais de 19.000 válvulas tinham sido substituídas: elas começavam a queimar dois minutos depois de ligar-se o equipamento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2549-B9A1-4015-A118-57AFCA159E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58560" y="198864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válvulas representavam um grande avanço tecnológico, mas apresentavam os seguintes proble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quecimento demasiado - queima consta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do consumo de energ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m relativamente lent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1360440" cy="2228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A9BA-A3E0-469B-9825-158CB71EFC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7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per Eckert e John Mauchly, pioneiros na história da informática, fundaram a Cia. Eckert-Mauchly Computer Corporation, com o objetivo de fabricar máquinas baseadas em suas experiências como o ENIAC e o EDVAC.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6248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DVA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3429000" cy="2722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E704-4D89-4DBE-B584-6538E08CA9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EDVAC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lectronic Discrete Variable Automatic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ória construída com lâmpadas de mercúrio. Excitando uma lâmpada de mercúrio com um impulso elétrico este poderia ser enviado para a frente e para trás de modo a ser lido sob a forma de 0 ou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va a notação binária pura o que simplificava a construção das ULA (Unidade Aritmética e Lógic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o EDVAC seguiu-se toda uma geração com siglas como EDSAC, ILLIAC, FLAC, MIDAC, ORDVAC, OARAC, MANIAC, ODABAC, pois cada Universidade nos U.S.A. construiu o "seu computado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07EB-99E4-413E-B6D7-10A7E46510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194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um grupo de Stanford inventou o Transistor. Usando elementos semicondutores, os transistores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uncionam como chav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orém são menores, mais rápidos, não esquentam, duram mais e consomem menos energia que as válvul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6135840"/>
            <a:ext cx="7315200" cy="580680"/>
          </a:xfrm>
          <a:prstGeom prst="rect">
            <a:avLst/>
          </a:prstGeom>
          <a:noFill/>
          <a:ln cap="sq" w="255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47-48: A memória com bateria magnética é utilizada no armazenamento de dados para computador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71640" y="3500280"/>
            <a:ext cx="1789200" cy="24386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809880"/>
            <a:ext cx="2444760" cy="146556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êmio Nobel de 1956 foi conferido à equipe cuja pesquisa levou à invenção do transistor, em 1947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D1CA-72FD-44FA-A7BB-6F0F46ED2A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7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tomada uma decisão pioneira: construir um computador para automatizar o trabalho de escritório - o primeiro computador de uso comercial do mun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éia: a J. Lyons, empresa proprietária de uma rede de casas de chá. Só em 1954 a Lyons lança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O LE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yons Electronic Offic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63640" y="4292640"/>
            <a:ext cx="3081240" cy="221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LEO"/>
          <p:cNvPicPr/>
          <p:nvPr/>
        </p:nvPicPr>
        <p:blipFill>
          <a:blip r:embed="rId2"/>
          <a:stretch/>
        </p:blipFill>
        <p:spPr>
          <a:xfrm>
            <a:off x="5257800" y="4419720"/>
            <a:ext cx="3257640" cy="165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FA3A-E906-4629-8F35-DDA8F51348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6266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chester Mark I (“baby” machine) torna-se o primeiro computador digital em operação com capacidade de armazenar programas. Usava circuitos a vácuo e a válv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ude Shannon publica “A Mathematical Theory of Communication,” - moderno entendimento para os processos de comunic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chard Hamming - modo de correção de erros em blocos de dados. O Código Hamming é posteriormente usado em sistemas de interrupção e desvio para computadores e telef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164360" y="1916280"/>
            <a:ext cx="1771560" cy="12459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7892-FBD2-4596-94CA-BE7ADC8E18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18960" y="1700280"/>
            <a:ext cx="79246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ventado o primeiro computador comercial -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UNIVA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John Bardeen, Walter Brattain e William Shockley da Bell Labs patentiaram o primeiro transist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cutava 1905 operações por segundo e seu preço chegou a US$1 milhão. 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24360" y="4491000"/>
            <a:ext cx="2438640" cy="217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CE65-C99C-4629-8100-B6974B1956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1949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mas Watson Jr. em uma palestra em um encontro de vendas da IBM prenunciou que todas as partes móveis em máquinas seriam substituídas por componentes eletrônicos em uma décad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1828800" cy="1828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619280" y="5734080"/>
            <a:ext cx="6867360" cy="666720"/>
            <a:chOff x="1619280" y="5734080"/>
            <a:chExt cx="6867360" cy="666720"/>
          </a:xfrm>
        </p:grpSpPr>
        <p:grpSp>
          <p:nvGrpSpPr>
            <p:cNvPr id="205" name=""/>
            <p:cNvGrpSpPr/>
            <p:nvPr/>
          </p:nvGrpSpPr>
          <p:grpSpPr>
            <a:xfrm>
              <a:off x="1623960" y="5737320"/>
              <a:ext cx="6858000" cy="659880"/>
              <a:chOff x="1623960" y="5737320"/>
              <a:chExt cx="6858000" cy="659880"/>
            </a:xfrm>
          </p:grpSpPr>
          <p:sp>
            <p:nvSpPr>
              <p:cNvPr id="206" name=""/>
              <p:cNvSpPr/>
              <p:nvPr/>
            </p:nvSpPr>
            <p:spPr>
              <a:xfrm>
                <a:off x="1623960" y="5737320"/>
                <a:ext cx="6858000" cy="6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623960" y="5737320"/>
                <a:ext cx="6858000" cy="659880"/>
                <a:chOff x="1623960" y="5737320"/>
                <a:chExt cx="6858000" cy="659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623960" y="5737320"/>
                  <a:ext cx="6858000" cy="659880"/>
                </a:xfrm>
                <a:prstGeom prst="rect">
                  <a:avLst/>
                </a:prstGeom>
                <a:noFill/>
                <a:ln cap="sq" w="12600">
                  <a:solidFill>
                    <a:srgbClr val="200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99"/>
                      </a:solidFill>
                      <a:latin typeface="Arial"/>
                    </a:rPr>
                    <a:t>1949</a:t>
                  </a: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 - Short Order Code, desenvolvido por John Mauchly, é a primeira linguagem de programação de alto nível. 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23960" y="5737320"/>
                  <a:ext cx="68580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1619280" y="5734080"/>
              <a:ext cx="68673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AED2-6870-4842-B460-C1C0C8C491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6920" y="191592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uerra e Computação: o que tem a 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incrível que pareça, foi durante as guerras que a computação teve um maior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governos incentivaram o desenvolvimento de equipamentos que pudessem calcular trajetórias, decifrar mensagens inimigas,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7F5B-C88B-4C05-AD40-6E36CC19B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160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9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rge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EDSAC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(Eletronic Delay Storage Automatic Calculator)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Calculadora Automática com Armazenamento por Retardo Eletrônico", o qual marcou o último grande passo na série de avanços decisivos inspirados pela guerr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Começou a "Era do Computador"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6165720"/>
            <a:ext cx="7391160" cy="58068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 1949, o EDSAC completou com sucesso seu primeiro trabalho: calculou uma tabela de números prim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3457440" cy="22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A23E-07C8-40C4-94A0-4B0C342411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39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ós o ENIAC e o EDSAC, o computador entrou na fase de produção industrial, motivado pelos sucessos na resolução de cálculos complicados e pelo conseqüente aumento do interesse na sua utilização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fase industrial, os computadores começaram a ser classificados como de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Primei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egunda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rceir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Geraçã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de acordo com a incorporação de progressos tecnológico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D5A2-91FD-4902-ABC8-19E2BA24AD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1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primeiro computador comercial de grande escala,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UNIVA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NIVersal Automatic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america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gramado ajustando-se cerca de 6.000 chaves e conectando-se cabos a um pain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ntrada e saída de informações era realizada por uma fita metálica de 1/2 polegada de largura e 400 m de compr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o todo, venderam-se 46 unidades do UNIVAC Modelo I, que eram normalmente acompanhados de um dispositivo impressor chamado UNIPRINTER, que, sozinho, consumia 14.000 W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A5E5-47BD-4125-BA18-B0DB3CF3E3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294920" y="5675040"/>
            <a:ext cx="7543800" cy="106668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UNIVAC era uma máquina eletrônica de programa armazenado que recebia instruções de uma fita magnética de alta velocidade ao invés dos cartões perfurados. O UNIVAC foi utilizado para prever os resultados de uma eleição presiden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4375440" cy="3746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89E7-A853-4CFE-86B0-772969CB40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2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Bell Laboratori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senvolveu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Transistor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e passou a ser um componente básico na construção de computadores e apresentava as seguintes vantage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quecimento mínim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queno consumo de energ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confiável e veloz do que as válvu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857320" cy="1919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19680" y="4660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800760" y="5041800"/>
            <a:ext cx="1676520" cy="873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F093-5892-45C4-9934-C5E2F2F48E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Grace Hopper transformou-se em uma pioneira no processamento de dados - criou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primeiro compilad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ajudou a desenvolver duas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linguagens de program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que tornaram os computadores mais atrativos para comérc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3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Jay Forrester, do MIT, construiu uma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memória magné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enor e bem mais rápida, a qual substituía as que usavam válvulas eletrôn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2C24-2357-44DD-9CEE-FA3F6306EC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nternational Business Machines lança seu primeiro computador digital, o IBM 70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imeiro computador da marca comercializado, foram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vendidas 19 máquinas em três an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6576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1371600" y="6032520"/>
            <a:ext cx="7467480" cy="58068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701 - utilizava fita plástica, mais rápida que a metálica do UNIVAC, e o IBM 704, com a capacidade fenomenal de armazenar 8.192 palavras de 36 bit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C759-71EE-42BD-806F-312C1D7825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195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IBM concluiu o primeiro computador produzido em série, o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6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que era de tamanho méd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4743360" cy="3279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B74B-2AE2-4362-83B3-BEBDB83794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an Turing publicou o livro "On Computable Numbers" propondo questões significativas sobr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programação e inteligência human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Utilizou suas aplicações de lógica no desenvolvimento do conceito de máquina Univers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Texas Instruments anunciou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início da produção dos transistores de Silíci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AB47-1364-4C7F-BDBB-8BB3352786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258560" y="2205000"/>
            <a:ext cx="4032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5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nunciado pelos laboratórios AT&amp;T Bell,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Tradi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primeiro computador transistorizado, possuindo aproximadamente 800 transistores no lugar dos antigos tubos de vácuo, o que lhe permitia trabalhar com menos de 100 Watts.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879640" cy="3717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D7C5-0B38-4BD6-8DA2-D3B83BC26D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58560" y="169056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écada de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as de substituir as partes mecânicas dos computadores por partes elét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uso d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l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ra uma forma de fazer essas substituições, mas o alto custo, tamanho físico e baixo desempenho eram as desvantagens desses tipos de máqui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4964400" cy="147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905120" cy="1585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4C92-9A97-4B24-96C1-A103A32BE5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MIT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ssachussets Institute of Technology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pesquisadores começaram a testar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entrada de dados em tecla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computadores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mesmo lugar começaram os testes com o primeiro computador com transistores 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TX-O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ransistorized Experimental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8920" y="5516640"/>
            <a:ext cx="7467480" cy="1008000"/>
          </a:xfrm>
          <a:prstGeom prst="rect">
            <a:avLst/>
          </a:prstGeom>
          <a:noFill/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57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oberta de uma nova linguagem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permitia ao computador executar tarefas repetidas a partir de um conjunto de instruções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28600"/>
            <a:ext cx="5486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997C-DB46-400B-A89A-B41DB05039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5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Jack Kilby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- construção d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primeiro circuito integrad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contendo cinco componentes em uma peça de germânio com meia polegada de comprimento e fina como um palito de d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462480" cy="4449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5105520" y="63244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1B71-34D1-4718-83AF-E66DAF4D634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rie 7000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infram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BM foi a primeira de computadores transistorizados da companh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opo da linha de computadores estava o 7030, também conhecido como STRET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e computadores, os quais usavam palavras de 64 bits e outras inovações, foram vendidos para laboratórios nacionais e outros usuários científicos. L.R. Johnson foi o primeiro a usar o termo "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arquitetu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 para descrever o STRETCH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76AD-C2C3-401C-BB80-7D8632BBB15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572000" cy="3413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286000" y="5791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-70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832A-9170-4984-AD2B-D478FDCF50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hado 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ataphon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eiro mode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comercial, especificamente para converter sinais digitais de computador em sinais analógicos para a transmissão através de suas redes de longa distânc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equipe liderada por vários fabricantes de computadores e o Pentágono desenvolveram 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mmon Business Oriented Languag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 primeira linguagem voltada para o uso em program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BM desenvolve o primeiro aparelho automático de produção em massa de transistores, em Nova Y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78AB-07DB-4479-B188-C0545BDB250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19280" y="2276640"/>
            <a:ext cx="590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óximos pass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o dos circuitos inte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BB29-2460-4D5B-B13F-B2630D5EB5A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or de r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5373720"/>
            <a:ext cx="7467480" cy="1191240"/>
          </a:xfrm>
          <a:prstGeom prst="rect">
            <a:avLst/>
          </a:prstGeom>
          <a:noFill/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a corrente passa pela bobina que envolve o eixo de ferro, produz-se a força magnética. Essa força atrai a peça de ferro em forma de L que gira em ângulo reto. Ao girar sobre este eixo, a tira junta os dois contatos e, desse modo, fecha o interruptor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3635640" cy="250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5F95-B9EF-4A2C-83D7-F1993F7D57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7280" y="1915920"/>
            <a:ext cx="5486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Só por volta d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1936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, as idéias de Babbage foram comprovadas, quando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Alan Tur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, publicou um artigo, pouco conhecido,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On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computable number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utador moderno nasce das idéias sobre algoritmos, publicadas em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37</a:t>
            </a:r>
            <a:r>
              <a:rPr b="0" lang="pt-BR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Alan Tur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dos planos d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John von Neuman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uma nova máquina de calcular que pela primeira vez inclui, além d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cálculos matemáticos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o processamento lógico de informaç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4360" y="1773360"/>
            <a:ext cx="1357200" cy="184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97600" y="4292640"/>
            <a:ext cx="1720800" cy="2084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093440" y="36385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lan Tu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88720" y="63752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John von Neuman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59D3-55F7-4D6C-A294-3F8D2884EA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5640" y="1915920"/>
            <a:ext cx="7620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eocupação de Tu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aber o que efetivamente a computação poderia fazer. As respostas vieram sob a forma teórica, de uma máquina conhecida como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uring Universal Mach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ssibilitava calcular qualquer número e função, de acordo com instruções apropriad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076640"/>
            <a:ext cx="7273800" cy="1227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lan Turing foi um dos fundadores da Informática, tendo apresentado contribuições importantes tanto em aspectos  teóricos como práticos da mesma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O prêmio Turing Award tem sido concedido pela ACM (</a:t>
            </a: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Association for Computing Machinery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) desde os anos sessenta a personalidades que se tenham distinguido no domínio da Informática e Ciências da Computação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805360"/>
            <a:ext cx="7272360" cy="696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John von Neumann foi um dos maiores matemáticos de todos os tempos, e as suas contribuições não se limitam aos computadores. Foi o inventor da Teoria dos Jogos, por exemplo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B109-456B-4FC3-9108-69FD0185D5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 Teste de 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teste consistia em submeter um operador, fechado em uma sala, a descobrir se quem respondia suas perguntas, introduzidas através do teclado, era um outro homem ou uma máquina. Sua intenção era de descobrir se podíamos atribuir à máquina a noção de inteligê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2976480" cy="395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187280" y="189000"/>
            <a:ext cx="5486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9BA0-39BE-4517-8684-4706237A55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6920" y="1988640"/>
            <a:ext cx="4876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4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Alan Turing e sua equipe) – construção do primeiro computador operacional para o serviço de inteligência britânico -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Heath Robinson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Heath Robins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utilizava tecnologia de relés e foi construído especificamente para decifrar mensagens alemãs (durante a 2</a:t>
            </a:r>
            <a:r>
              <a:rPr b="0" lang="pt-BR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Guerra Mundial) cifradas pela máquina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Enig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165400" cy="2628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4CFE-E80D-4590-9225-CEF0C1B19E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Alberto Lima</cp:lastModifiedBy>
  <dcterms:modified xsi:type="dcterms:W3CDTF">2013-06-13T12:38:45Z</dcterms:modified>
  <cp:revision>311</cp:revision>
  <dc:subject/>
  <dc:title>Slide sem título </dc:title>
</cp:coreProperties>
</file>