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C772-4FA6-4025-98F5-0448B614D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A513-9CEF-473B-BDEA-335BC21DB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6680-21E2-4A5D-BCA2-8FF19D85D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CE43-A4CD-4675-BB94-441E4071B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3C80A-8BA9-47D7-ABA1-729D099E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08B26-FE2B-4052-B540-9BA93A7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C3B41-BB78-4A87-8462-A37DB3E1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3D457-16D9-45C7-904C-5485CAC0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9538B-BAC3-44B7-8101-031D77CE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63600" y="206280"/>
            <a:ext cx="777240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DD06E-617B-4A56-9BB3-014DC0F1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3710-F8D8-433F-A69B-42086A7F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289A-4744-4103-88DB-E6071C97E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4CDDC-FA11-4DE9-9CDC-538F8EB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B158F-89E7-4D1F-A182-B31650E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E445D-E65A-4596-9E13-4A2D700A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89D3-0F7D-4684-8964-3F56E847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D3277-E91B-422C-AF78-D863EC6B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22C0-BCB0-430B-B3D7-C0D4F7120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43BD-8280-4FA9-9F97-B469DF502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FD78-7C83-4CA7-A53A-82C98E19C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63600" y="206280"/>
            <a:ext cx="777240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B84C-FD41-468F-B6A6-A68C8A26B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F070-61D0-4F78-B5D5-25E4C89EB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DA28-C4B6-432D-9073-4CACC1FA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7A59-9057-4406-8A91-D9CD9EE4F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9B37-8958-43C8-B55A-58665BEB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60640" cy="6858000"/>
            <a:chOff x="0" y="0"/>
            <a:chExt cx="1160640" cy="6858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116064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"/>
            <p:cNvGrpSpPr/>
            <p:nvPr/>
          </p:nvGrpSpPr>
          <p:grpSpPr>
            <a:xfrm>
              <a:off x="108000" y="5949720"/>
              <a:ext cx="863640" cy="836640"/>
              <a:chOff x="108000" y="5949720"/>
              <a:chExt cx="863640" cy="836640"/>
            </a:xfrm>
          </p:grpSpPr>
          <p:sp>
            <p:nvSpPr>
              <p:cNvPr id="7" name=""/>
              <p:cNvSpPr/>
              <p:nvPr/>
            </p:nvSpPr>
            <p:spPr>
              <a:xfrm>
                <a:off x="108000" y="6619320"/>
                <a:ext cx="863640" cy="167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6600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ffff00"/>
                    </a:solidFill>
                    <a:latin typeface="Humanst521 BT"/>
                  </a:rPr>
                  <a:t>DSC/CEEI/UFCG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6840" y="6215040"/>
                <a:ext cx="47160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flipV="1">
                <a:off x="149400" y="5949360"/>
                <a:ext cx="470160" cy="367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59360" y="6228000"/>
                <a:ext cx="47124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flipV="1">
                <a:off x="149760" y="5962320"/>
                <a:ext cx="472680" cy="3679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60640" cy="3357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4842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D9CE-7D4E-4B31-8B40-CB0FC5E140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56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33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14842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ISTÓRICO - EVOL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Os primórd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 Régis de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computacao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s logaritmos de Napier em escalas de madeira, marfim ou outro material (sacerdote inglês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William Oughtr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glaterra, 1633):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írculos de propor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írculos de proporção dão origem à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régua de cálc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logaritmos representados por traços e sua divisão e produto obtidos pela adição e subtração de compr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252E-FE0F-4C06-A447-4BADB050F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92320" y="609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égua de Cálculos: o primeiro computador ana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7960" y="4430880"/>
            <a:ext cx="6575400" cy="14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25680" y="1916280"/>
            <a:ext cx="193176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963960" y="2220840"/>
            <a:ext cx="4495680" cy="81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37E7-0FAE-4B3A-AB9D-479A1FA95A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79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s problemas surgidos durante a Revolução Francesa determinaram a necessidade de uma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unicação rápida, fiável e cifrá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irmãos Claude e Ignace Chappe desenvolvem um "aparelho" com um sistema de braços articulados que permitiam a codificação de 196 sinais difer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aparelho começaram a construir postos de transmissão, utilizando sinais ópticos, entre Lille e Paris. Os sinais ópticos "percorriam" 230 Km em dois minu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387A-BC7F-4E00-A6F7-1F7CA71E8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6000" y="5805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égrafo de Chappe e código alfanuméri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457440" cy="374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6DC2-3C42-464F-B023-DF7BFC217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eados do século 1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m computador não era uma máquina, mas uma pessoa, que tinha a função de fazer contas e arbitrar conflitos que envolvessem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licação do termo moderno ao computador só aconteceria a partir de 194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jornal inglê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ondon Tim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ublicou uma matéria sobre alguns equipamentos inteligentes que no futuro poderiam vir a substituir o esforço humano. O jornal chamou uma hipotética máquina pensante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O computador sempre foi um aperfeiçoamento constante de idéi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8E10-265E-49CD-83F1-3AC643908B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642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o instrumento moderno de calcular – uma somado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(Máquina de Pascal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ído p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laise Pasc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físico, matemático e filósofo francê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1806480" cy="227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087720" cy="1822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572000" y="5445000"/>
            <a:ext cx="4267080" cy="916920"/>
          </a:xfrm>
          <a:prstGeom prst="rect">
            <a:avLst/>
          </a:pr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positivo inteiramente mecânico, usava várias engrenagens, acionado por uma alavanc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5950080"/>
            <a:ext cx="2712960" cy="642600"/>
          </a:xfrm>
          <a:prstGeom prst="rect">
            <a:avLst/>
          </a:prstGeom>
          <a:noFill/>
          <a:ln cap="sq"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scal construiu a máquina com 19 an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0929-00E9-42FB-89A5-048A4534F1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áquina de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quina c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das dentadas, cada uma contendo algarismos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ia somar até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celas de cada vez, desde que o total não ultrapassas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999 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icação era feita a partir de soma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6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a feita somando-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zes o núme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88000" y="5157720"/>
            <a:ext cx="3097080" cy="1490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7486-AAD5-424F-899F-B3A190F288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e Pas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da ú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e 200 anos e foi sendo aperfeiçoada por diversos inven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m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entrada de dados dependia da eficiência da pessoa que estivesse batendo os números em suas tec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9B08-3A54-41E0-A3BE-98BF72C9C4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41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671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Gottfried Wilhelm Leibnitz (filósofo e um dos formuladores do cálculo integral) projetou a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imeira máquina de multiplicação e div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lém de soma e subt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002120" y="3619440"/>
            <a:ext cx="4417920" cy="1895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187164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954600" y="5734080"/>
            <a:ext cx="4541760" cy="642600"/>
          </a:xfrm>
          <a:prstGeom prst="rect">
            <a:avLst/>
          </a:prstGeom>
          <a:noFill/>
          <a:ln cap="sq"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quivalente às calculadoras de bolso que efetuam as quatro operaçõ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21F5-53B6-4E90-900F-41EFD6FA3D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02 - Jacquar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envolveu os cartões-perfurados para entrad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4038480" cy="2567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332000" y="4797360"/>
            <a:ext cx="2514600" cy="1743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908000" y="2781360"/>
            <a:ext cx="1289160" cy="1874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8915-6971-4EE9-8C7B-6C1B7786C4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68360" y="1700280"/>
            <a:ext cx="5462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imeira forma de cálc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Ába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tões de Nap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égua de Cálc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légrafo de Chap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e Pa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e Leibnit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tões de Jacqu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iferencial/ Ana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ódigo Mo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Álgebra de Bo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e Tabulação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-685080" y="3861360"/>
            <a:ext cx="4860720" cy="684360"/>
          </a:xfrm>
          <a:custGeom>
            <a:avLst/>
            <a:gdLst>
              <a:gd name="textAreaLeft" fmla="*/ 759240 w 4860720"/>
              <a:gd name="textAreaRight" fmla="*/ 4253400 w 4860720"/>
              <a:gd name="textAreaTop" fmla="*/ 171000 h 684360"/>
              <a:gd name="textAreaBottom" fmla="*/ 513360 h 68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d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D755-D312-41C6-943E-F0E33A733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18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o francês Charles Xavier Thomas de Colmar inventou um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alcul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permitia efetuar cálculos complexos, por pessoas pouco experientes, num intervalo de tempo reduz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a na Máquina de Pascal e os aperfeiçoamentos de  Leibnitz, podia efetuar as 4 operações aritméticas: adição, subtração, multiplicação e divi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90920" cy="141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6705720" y="4572000"/>
            <a:ext cx="198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ithmométre de Tho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7EE9-8904-4E8E-89F0-064438A3B8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22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harles Babbage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temático) inventa a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áquina Diferen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tilizando os cartões de Jacquard. Funções trigonométricas e logaritmos eram calculados na máqu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2801880" cy="2899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2398680" cy="25909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6313320"/>
            <a:ext cx="3867120" cy="36828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ra invenção -  Velocímet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33DD-0968-48BA-84FF-A2A29A8C37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izada para construir tabelas de números para navegação na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uída para executar um único algorit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método das diferenças finitas usando polinôm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étodo para disponibilizar informações na saí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perfurados em um prato de co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B8E4-FC69-456E-AC53-10180C0043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8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34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Babbage inventou a precursora dos computadores digitais de hoje, a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áquina Analíti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sava a base 10, máquina “mecânica”, trabalhava a vap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ogramação seqüencial de opera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um procedimento que hoje chamamos de sistema ope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 seu trabalho na máquina analítica, Babbage  é considerado um dos pioneiros dos computad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6237360"/>
            <a:ext cx="735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pt-PT" sz="2000" spc="-1" strike="noStrike">
                <a:solidFill>
                  <a:srgbClr val="000099"/>
                </a:solidFill>
                <a:latin typeface="Arial"/>
              </a:rPr>
              <a:t>As máquinas de Babbage nunca foram construídas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5A8D-A4D6-4518-BE59-600A69EA17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áquina Analítica de Babbag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eviu os passos que até hoje são a base do funcionamento de um computador, possuindo 4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limentação de dados, através de cartões perfur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saí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saída impressa e perfurada em cart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memó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1000 palavras de 50 dígitos DECIMAIS, capaz de armazenar variáveis e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comput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aceitava operandos da memória, operações – soma, subtração, multiplicação e divisão (somava dois desses números em 1 s) e enviava o resultado para 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34920" y="6307200"/>
            <a:ext cx="8101080" cy="337320"/>
          </a:xfrm>
          <a:prstGeom prst="rect">
            <a:avLst/>
          </a:prstGeom>
          <a:noFill/>
          <a:ln cap="sq"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Termos originais dos 4 componentes: 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store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 mill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input section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output section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EBD3-60BB-4FB6-BF3F-BF4E5AF619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948360" y="1916280"/>
            <a:ext cx="2057400" cy="3211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912000" y="515772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 primeiro "homem" a programar um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ador foi uma mulher!!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15640" y="1670040"/>
            <a:ext cx="583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Máquina Analí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-  programável  em linguagem de montagem simples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softwa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Ada Byron King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Matemática), compreendeu o funcionamento da Máquina Analítica e escreveu os melhores relatos sobre o proces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ompanheira de Babbage, iniciou o ambicioso projeto de construção da Máquina Analític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riou programas para a máquina -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primeira programadora de comput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uma das poucas mulheres a figurar na história do processamento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6124-D6FE-4034-984F-0B1490EE02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bb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avam muito além do seu tempo e não conseguiram financiamento para construir o seu Computador Analítico, que ficou apenas como uma belíssima idéia no papel 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le nunca foi concluí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le não tem pretensões de originar nada, mas pode processar qualquer coisa que nós soubermos programá-lo para realiz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a Augusta Byron, falando sobre o Engenho Analítico de Babbage, precursor dos modernos computadores (Londres, cerca de 18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CF87-A071-44E7-ABD7-7434437843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áquina de Babbage não foi construí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cnologia da época era incapaz de fornecer a precisão necess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bbage não dispunha de recursos para financiá-la, nem encontrou investidores dispostos a ir além de algumas doaçõ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s projetos e idéias foram a base para outros projetos anos a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935360" cy="2060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476360" y="5157720"/>
            <a:ext cx="4400640" cy="1191240"/>
          </a:xfrm>
          <a:prstGeom prst="rect">
            <a:avLst/>
          </a:pr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Em 1991, o Science Museum de Londres desenvolveu o Engenho Diferencial utilizando os planos de Babbage e funcionou perfeitam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971E-6B13-4BC7-B9AE-A7F0400159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15640" y="174096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37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Samuel F. B. Morse iniciou o desenvolvimento de um sistema telegráfico que utilizasse a energia elétrica para transmitir sinais à dist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ódigo Mor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inua a ser utiliz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ou célebre a mensagem enviada pelo operador telegráfico do Titanic antes do seu afundam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... --- ... SOS -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Save Our Souls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(salvai as nossas al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3352680" cy="1803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ACAC-3400-42BD-8B29-0910B70C83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pção dos fundamentos lógicos para a criação de programas: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lógica matemática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/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álgebra boole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atemático George Boole, Inglaterra,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5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imento de uma forma de armazenamento e processamento de dados utilizando relações binárias: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As leis do pensament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temático George Boole, Inglaterra, 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185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169524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BB6C-E735-45CD-9546-E17D45B730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67160" y="5734080"/>
            <a:ext cx="502920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iro ser humano a CALCULAR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utilizad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pilhamento de pedras para controlar a quantidade de ovelhas de seu reba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Calculus </a:t>
            </a:r>
            <a:r>
              <a:rPr b="0" i="1" lang="pt-BR" sz="28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at.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Pe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3714840"/>
            <a:ext cx="5791320" cy="137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8684-83C6-4D43-9CA2-E8D6AA2BE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169704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968920" cy="269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artões de Jacquard + conceito de impulsos elétricos para transmissão de d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onversão de dados em impulsos magnéticos nos cartões perfurad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ção de um tabulador que utiliza os cartões e torna mais rápido o processamento de estatís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5C29-9A29-45F7-A72F-6B1F7D9F34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42560" y="16700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 reconhecido no recenseamento americano de 1890. Eliminou  o trabalho braçal de tabular os milhões de dados que cole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resultados ficaram prontos em um tempo muito menor que normalmente levaria, gerando enorme economia (redução de 8 para 3 ano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1896, Hollerith fundou a "Tabulating Machine Company" para explorar suas invençõ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a empresa acaba sendo bem sucedida depois de seu computador mecânico vencer uma concorrência do governo Americano e em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2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orna-se a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International Business Machines Cor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IB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6408-78E4-4319-B749-FC55FE2863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19280" y="2276640"/>
            <a:ext cx="59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óximos pa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ntativas de substituir as partes mecânicas dos “computadores” por partes elét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F829-FABB-488B-A21B-9A4411B38D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56000" y="5556240"/>
            <a:ext cx="5029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a maneira que os seres humanos encontraram para mostrar a que quantidade estavam se referind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o dos dedos da m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Digitu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at.</a:t>
            </a:r>
            <a:r>
              <a:rPr b="0" i="1" lang="pt-BR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5410440" cy="135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6F45-096E-4EEA-A372-6DC294314E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8172360" cy="1295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a tentativa bem sucedida de criação de uma máquina de conta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ába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ina, cerca de 2500 a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5495760"/>
            <a:ext cx="5943600" cy="6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Penguin"/>
              </a:rPr>
              <a:t>Abacus</a:t>
            </a:r>
            <a:r>
              <a:rPr b="1" i="1" lang="pt-BR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– lat.</a:t>
            </a:r>
            <a:r>
              <a:rPr b="1" i="1" lang="pt-BR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tábua de argi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94200" y="3086280"/>
            <a:ext cx="3078000" cy="192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EAD2-69F1-4416-9BB2-CE53C9255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90920" y="6019920"/>
            <a:ext cx="5181480" cy="533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50560" y="1700280"/>
            <a:ext cx="788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erc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de 4 mil anos trá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iro sistema científico para contar e acumular grandes quant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desenvolvido por mercadores da Mesopotâmi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cnica utiliza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o faziam um sulco na areia e iam colocando nele sementes secas (ou contas) até chegar a d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is faziam um segundo sulco, onde colocavam uma só conta – que equivalia a 10 -, esvaziavam o primeiro sulco e iam repetindo a op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Origem da expressão Co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9162-9CCC-49B1-97CA-D9E7CC806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746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garismos atuais, conhecidos por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lgarismos arábi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m pouco mais de mil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ão pela qual os algarismos arábicos se tornaram o padrão numérico mundial 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derio militar dos ára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80D2-A299-4ABD-A1FD-7D8891E9E6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614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astões de Nap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riados como auxílio à multiplicação (matemático John Napier, inventor dos logaritm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bastões de Napier eram um conjunto de 9 bastões, um para cada dígito, que transformavam a multiplicação de dois números numa soma das tabuadas de cada dígi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1954080" cy="236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5744-B8AD-45FE-83EC-F5C4B3C66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8172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ulação da multiplica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384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Bastões de N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20840" y="2184480"/>
          <a:ext cx="457200" cy="414936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552760" y="58942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2760" y="5451480"/>
            <a:ext cx="492120" cy="442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2760" y="5011560"/>
            <a:ext cx="49212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2760" y="4554360"/>
            <a:ext cx="4921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1840" y="4111560"/>
            <a:ext cx="473040" cy="46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2760" y="367020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322884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2760" y="27874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184480"/>
            <a:ext cx="492120" cy="60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Pengui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2760" y="2184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52760" y="2787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2760" y="322884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52760" y="367020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52760" y="41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52760" y="45543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2760" y="50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2760" y="54514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52760" y="58942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52760" y="633564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52760" y="27874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52760" y="322884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52760" y="367020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52760" y="411156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552760" y="4554360"/>
            <a:ext cx="492120" cy="4572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552760" y="5011560"/>
            <a:ext cx="492120" cy="43992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52760" y="545148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52760" y="58942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276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488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727440" y="2185920"/>
          <a:ext cx="507960" cy="414972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23000" y="2190600"/>
          <a:ext cx="496800" cy="4146480"/>
        </p:xfrm>
        <a:graphic>
          <a:graphicData uri="http://schemas.openxmlformats.org/drawingml/2006/table">
            <a:tbl>
              <a:tblPr/>
              <a:tblGrid>
                <a:gridCol w="4968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955880" y="5794200"/>
            <a:ext cx="44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nguin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111480" y="5987520"/>
            <a:ext cx="584280" cy="101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81480" y="5987520"/>
            <a:ext cx="584280" cy="101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0800" y="5794200"/>
            <a:ext cx="44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ngui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08840" y="5727600"/>
            <a:ext cx="1473120" cy="62244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nguin"/>
              </a:rPr>
              <a:t>3.45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91040" y="2754360"/>
            <a:ext cx="2948040" cy="1957320"/>
          </a:xfrm>
          <a:prstGeom prst="rect">
            <a:avLst/>
          </a:prstGeom>
          <a:ln w="0">
            <a:noFill/>
          </a:ln>
          <a:effectLst>
            <a:outerShdw dist="63504" dir="19383909" blurRad="0" rotWithShape="0">
              <a:srgbClr val="b2b2b2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FD1E-BD17-4DD4-8FC2-8F9DD928FF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Alberto Lima</cp:lastModifiedBy>
  <dcterms:modified xsi:type="dcterms:W3CDTF">2013-06-13T12:36:23Z</dcterms:modified>
  <cp:revision>219</cp:revision>
  <dc:subject/>
  <dc:title>Introdução à Computação</dc:title>
</cp:coreProperties>
</file>