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EC4E-0F1D-4314-B268-3A91B23B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4E4-3217-4D2E-AB95-40C05A38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E05C-7E72-44BE-A935-FD6D9E9F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29A6-8665-4DE0-A8EE-D203BF35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1D278-C60A-4D62-B5D1-18AF4E0071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8B071-5BD3-4638-92B7-ADDE1652CA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67FD1-9BD0-4C24-9B14-08553D5340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CEEEB-3411-4E53-B73D-D2E6FF2162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C54A0-4D43-4DCD-A36F-CF7A7F8B78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528B4-040D-47C2-A073-8F6C007C90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C8486-9CCC-40AF-BB9E-B4042AEB31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A11-829B-4C16-8515-9BF55393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C9CAB-3FD7-451D-BC12-D1CCF16A70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2CE59-C816-4665-847F-F904CB581E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0AF1F-7621-4174-B9B3-CE6F4C2BD1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66EA0-2D2C-4666-A04A-AECC5B7FCB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74FD4-9724-4897-8B63-0D1C5C9900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A8C9-6DF8-4CA8-A308-4BDC378C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EDEE-1E63-4549-85A0-63645D14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F831-A846-481A-B4B4-2368B91B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F009-102B-494A-AA8B-93B064D0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72BF-0D21-45F1-B6EB-A3A1DC85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2FF5-6D99-43C2-9A9F-0A60B290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F543-F9ED-45E3-910F-F89586D7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-1375" t="0" r="0" b="0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A13C-D521-4B18-95AE-3FE728035339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34920" y="6237000"/>
            <a:ext cx="576360" cy="620640"/>
            <a:chOff x="34920" y="6237000"/>
            <a:chExt cx="576360" cy="620640"/>
          </a:xfrm>
        </p:grpSpPr>
        <p:sp>
          <p:nvSpPr>
            <p:cNvPr id="8" name=""/>
            <p:cNvSpPr/>
            <p:nvPr/>
          </p:nvSpPr>
          <p:spPr>
            <a:xfrm>
              <a:off x="34920" y="6733800"/>
              <a:ext cx="57636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67480" y="6433920"/>
              <a:ext cx="31464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61560" y="6236640"/>
              <a:ext cx="31356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69640" y="6443280"/>
              <a:ext cx="31464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63000" y="6246360"/>
              <a:ext cx="3153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rcRect l="-1375" t="0" r="0" b="0"/>
          <a:stretch/>
        </p:blipFill>
        <p:spPr>
          <a:xfrm>
            <a:off x="0" y="0"/>
            <a:ext cx="20606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9083-CC2A-4768-9A4B-7038A8E56349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24000" y="6308280"/>
            <a:ext cx="576000" cy="476640"/>
            <a:chOff x="324000" y="6308280"/>
            <a:chExt cx="576000" cy="476640"/>
          </a:xfrm>
        </p:grpSpPr>
        <p:sp>
          <p:nvSpPr>
            <p:cNvPr id="56" name=""/>
            <p:cNvSpPr/>
            <p:nvPr/>
          </p:nvSpPr>
          <p:spPr>
            <a:xfrm>
              <a:off x="324000" y="66898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6560" y="64594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351000" y="63079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8360" y="64666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352440" y="63154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 rot="16200000">
            <a:off x="-2583360" y="3996360"/>
            <a:ext cx="538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Fonte: José Francisco Salm Junior (Diretor de Engenharia de Sistemas Instituto Stel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obocode.sourceforge.net/" TargetMode="External"/><Relationship Id="rId2" Type="http://schemas.openxmlformats.org/officeDocument/2006/relationships/hyperlink" Target="http://robocode.sourceforge.net/" TargetMode="External"/><Relationship Id="rId3" Type="http://schemas.openxmlformats.org/officeDocument/2006/relationships/hyperlink" Target="http://robocode.sourceforge.net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Competição - Robo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etição - Resultad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187280" y="1700280"/>
          <a:ext cx="7201080" cy="4962600"/>
        </p:xfrm>
        <a:graphic>
          <a:graphicData uri="http://schemas.openxmlformats.org/drawingml/2006/table">
            <a:tbl>
              <a:tblPr/>
              <a:tblGrid>
                <a:gridCol w="5185080"/>
                <a:gridCol w="20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Lancel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Arthur, Rafael, Saul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Opulu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Clerton, Adauto, Thé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Pand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Diego, Estéfano, Ewerth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LCC04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rick, Gustavo, Viníci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Morpheu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lysson, Francisc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My Robo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agno, Fabrício, Paul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Da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ndréa, Dayane, Brun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Near Wall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elipe, David, Dani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Robô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lcione, Kátia, Leonar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Obliteratio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lan, Anderson, Rafael Danta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2727-9DCA-42DE-84DD-412CA1070A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etição - Roboco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042920" y="2060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Que é o Robocod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iente de simulação de batalha entre robôs que roda em qualquer plataforma que suporte Ja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idéia básica consiste em utilizar as classes base disponíveis pelo ambiente para criar o seu próprio robô e colocá-lo em batalha com outros robôs criados por outros desenvolvedores. 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6021360"/>
            <a:ext cx="7489800" cy="40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Site do robocode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robocode.sourceforge.net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Verdana"/>
                <a:hlinkClick r:id="rId3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227640" y="1700280"/>
            <a:ext cx="2283120" cy="85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A392-D2DF-40C2-8D21-61AB92BF2D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etição - Roboco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et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ão formadas equipes com, no máximo, 3 competi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iste em duas fases (em seqüênci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ção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tal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4259-1F37-425B-8618-BAF8C87370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etição - Roboco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robô será construído no laboratór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é permitido utilizar a interne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 para construção: 1h30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ódigo fonte de cada robô ficará disponível para a auditori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8B67-DBD2-4A90-8A5B-784586CEB5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etição - Roboco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1844640"/>
            <a:ext cx="77043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tal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s disputaram com os demai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stilo "duelo", com dois robôs em cada aren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batalha será disputada em um único jogo até a destruição de um dos robô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dois melhores robôs se enfrentarão na batalha fi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grupo poderá concorrer com apenas um rob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5FBE-5622-441A-9F5E-CC63B26C74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etição - Roboco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1844640"/>
            <a:ext cx="77043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m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equipe receberá uma pontuação em função da sua colocação na competi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Lug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2,5 pontos + prêmio sur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Lug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2,3 po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Lug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2,0 po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pt-BR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Lug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1,8 po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ntuação mínima: 1,0 po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6021360"/>
            <a:ext cx="5185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ntuação da atividade: 1,5 po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21AD-5D5A-4597-9A9D-9B8DABE2DD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etição - Roboco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042920" y="1844640"/>
            <a:ext cx="77043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tribuição das equi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tal de alunos: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anho da equipe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tal de equipes: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tal de duelos = 55 (C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1,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o estimado por duelo: 2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o total da competição: 110 min (~=2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7910-9765-4D2A-B5B4-5B553D53A4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etição - Roboco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1844640"/>
            <a:ext cx="77043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eti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t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9/09/08 (montagem), 10-12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0/09/08 (competição), 18-20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h30min: Montagem e entrega do rob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h: Competição e Prem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A3FF-65DE-4CC3-B44F-DBDE40915F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etição - Roboco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1773360"/>
            <a:ext cx="77043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90680" indent="-490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pes de Competido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Arthur, Rafael, Sa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Clerton, Adauto, Thé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Erick, Gustavo, Viníc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Magno, Fabrício, Pa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Andréa, Dayane, Brun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Diego, Estéfano, Ewerth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Alan, Anderson, Rafael Da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Felipe, David, Dan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Alcione, Kátia, Leona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Alysson, Franci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 Hélio, João Pa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3AC-9EEC-4CF5-A96B-BB577B7C56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 </cp:lastModifiedBy>
  <dcterms:modified xsi:type="dcterms:W3CDTF">2008-10-06T01:34:35Z</dcterms:modified>
  <cp:revision>695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