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10FB-8D47-494D-BC04-13682A71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664C-80AF-41B9-822F-06C2DD3E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F186-CF69-46B6-96EA-36D9BAEC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96C6-14C6-45A9-8069-F5246A98D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91BB62-580C-4757-9282-2FA64875D5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62549-2CE8-4C62-8878-D3EF9593BD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B145F-F93B-4809-A439-CEB24ABC0D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59EF9-3DCC-4BEC-A140-3EEC3E0933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D58EF-D17A-4769-B9B2-0CE8395FB9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1FF28-B751-422C-99E5-21BD268BEF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36CED-BA99-4BC4-BCA2-99F790B179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515E-EB32-4B73-BEBA-F11316D9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40521-8FEA-4E11-97B0-C435B4C169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52DDE-0051-46C8-9E8E-F759955495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1294B-B7D3-4A66-9DB1-173E6A61C6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F0EF5-8F12-46CA-9D82-C4B9E8A6B1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5BA35-694A-435F-A285-9726BAC7BD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F32B-9A2E-4B89-9128-33B71FD8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53BE-F719-4FE3-87FD-B238646F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157-822B-4BBE-A983-531816DF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DC46-A79B-4246-9679-BBAF065F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AE0-5FA9-4C2F-A7CB-542E4A16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F84E-8702-4A52-A5EF-E1D99DA7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1E9F-C681-4C2B-B765-3F616ECE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4133-BF32-4547-B01C-3FA7E263EDDB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74B9-979A-421E-8EC1-4EFAD602EE71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26920" y="6381360"/>
            <a:ext cx="576360" cy="476640"/>
            <a:chOff x="826920" y="6381360"/>
            <a:chExt cx="576360" cy="476640"/>
          </a:xfrm>
        </p:grpSpPr>
        <p:sp>
          <p:nvSpPr>
            <p:cNvPr id="56" name=""/>
            <p:cNvSpPr/>
            <p:nvPr/>
          </p:nvSpPr>
          <p:spPr>
            <a:xfrm>
              <a:off x="826920" y="6762960"/>
              <a:ext cx="57636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59480" y="65325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853920" y="638100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1640" y="65397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855360" y="638856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presentação do Conhecimento    (Adicional 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strução de Ontologi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finir atributos (sl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5252" b="3625"/>
          <a:stretch/>
        </p:blipFill>
        <p:spPr>
          <a:xfrm>
            <a:off x="1476360" y="2852640"/>
            <a:ext cx="2665440" cy="1922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427640" y="2637000"/>
            <a:ext cx="4083120" cy="250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B30B-A914-4E59-A0B9-450DAD2BC1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strução de Ontologi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finir rel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2565360"/>
            <a:ext cx="7416720" cy="286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6B1F-F876-4337-9312-F61E810C70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strução de Ontologi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8172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finir instânci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ele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finir axiom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entenças que são sempre verdadei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finir fun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ex: cálculo de um preç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4387-6EEE-4325-9970-2313813E83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4883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Implemetação - Ontologi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916360" y="1557360"/>
            <a:ext cx="3909960" cy="514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551D-2B77-40C6-A4AF-F4732798E8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strução de Ontologi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8172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finir instânci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ele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finir axiom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entenças que são sempre verdadei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finir funç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ex: cálculo de um preç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987A-AA20-4E7B-85D7-C73F03A109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licações de Ontologi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8172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torno de informação inteligente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áquinas de busca como o Google, usam ontologias para realizar consultas semânticas que melhoram as buscas clássicas por palavras-cha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cessamento de Linguagem Natur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Ontologias como WordNet (hhtp://www.cogsci.princeton.edu/~wn/ são usadas para representar estruturas gramaticais que permitem realizar análise semântica em textos reduzindo a ambiguidade semântica da linguagem natu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229A-35E5-44DF-9F17-B9DC3C577B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licações de Ontologi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640" y="1773000"/>
            <a:ext cx="7632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ércio Eletrônic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lacionamentos de negócio (compra/venda) entre entidades comerci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Yahoo, por exemplo, organiza seu conteúdo em categorias para apoiar seus usuários a navegar de acordo com o conteúdo pesquis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1E46-D516-449F-8E20-A93315C1D9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ntolog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informações complementa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ED15-4217-4ADE-94FE-75CF883064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ntolog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ão do vocabulário de um determinado domínio e suas conceitu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39F4-11B3-4815-8003-FFA9D3B6ED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mo construir uma ontolog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Determinar o domínio e o alc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numerar os termo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Definir classes e hierarqu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Definir atributos e rel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新細明體"/>
              </a:rPr>
              <a:t>Definir restrições (cardinalidade, tipo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B609-EA83-458C-ACC7-84497F8A4C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9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WL 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pt-BR" sz="3600" spc="-1" strike="noStrike">
                <a:solidFill>
                  <a:srgbClr val="000000"/>
                </a:solidFill>
                <a:latin typeface="Verdana"/>
              </a:rPr>
              <a:t>Web Ontology Language</a:t>
            </a: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nguagem recomendada pelo W3C  (10 de fevereiro de 2004) para representar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WL pode ser utilizada para expressar o significado dos termos em vocabulários e as relações entre e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teg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erramenta para criar e gerenciar ontolog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balha com várias linguagens inclusive OW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utras ferrament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OntoEdit, OilEd, KAON, OntoBui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8C98-5F70-457E-AFA4-D791FE18DE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115920"/>
            <a:ext cx="79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Ferramentas para Construção de Ontologias - Protégé2000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604200" cy="431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0D41-FAB1-4014-9761-C466F48A11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1280" y="115920"/>
            <a:ext cx="79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Ferramentas para Construção de Ontologias - OntoEdi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6018120" cy="419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8A43-CB06-4A5E-9D9F-C1472A35B7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strução de Ontologi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nvolver uma ontologia envolve (basicament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terminar o domínio e esco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mínio: Representação do Vin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copo: Aplicações que sugerem combinações entre vinhos e com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tros esco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judar clientes em restaurantes decidirem qual vinho ped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judar compradores de vinhos em garrafei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judar transações entre Produtor do vinho e Revendedor do vin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DB7E-26DA-45F3-8297-2A638B4CFC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Construção de Ontologia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finir classes na ont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ganizar as classes em uma taxonomia (subclasse-superclas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0" r="1873" b="0"/>
          <a:stretch/>
        </p:blipFill>
        <p:spPr>
          <a:xfrm>
            <a:off x="1403280" y="3284640"/>
            <a:ext cx="3816360" cy="260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4CE1-CC37-475A-944C-1620D6771F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3-19T03:43:37Z</dcterms:modified>
  <cp:revision>654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