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66B6-3781-47AB-B2E8-FE7817E5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A5FA-014D-4CD4-A8C6-7610481E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EC5-8BA7-4A82-9646-DEB25B4F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0EB5-1D1F-4DFF-82F9-61F50F68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95C3D-18EA-4AF8-A44D-9698D45E35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F5B0B-F4EB-4598-8BB1-0D72B51C38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DAB80-AACB-4256-AEED-798DA2CB3C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CB116-0F69-4E8F-AB6C-33BA8F72C8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59A62-3E07-4C39-8F0B-52009EBA88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6C190-0327-4BE9-B86C-AC460165B9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09684-A736-4B38-BB50-FDF65D851B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FD92-2C6C-4119-932D-B505D1F3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ABB8F-FBC1-427B-A8D3-7277FC1E4A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DB6BC-3618-4039-B662-B9B0F51856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2932A-5225-4677-A2C2-99635EDC5D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04963-2089-4C9C-A978-77118FBDCF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4DA2A-BA88-4CFF-8EE5-311EA51C8F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C5FC-B2F4-4DAB-B581-B6E5DBA0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A955-586B-4123-B3F6-41FC7D50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64D7-8ACA-4617-AA8D-8D045D27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815-5F59-4963-93F3-810DC7C6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22A-1472-4F92-B0B9-31AEF0B6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F01C-18A9-481B-933E-40D58AE8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BB2B-1FB7-4C81-BA87-82C60DC8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602C-E3CB-41E2-8025-8E8A78F12DEA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7821-DB9E-47A3-8385-E1CFD5DF8712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5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484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Representação do Conhecimento    (Adicional 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rafos E/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255-95F4-4432-A204-515125B738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Grafos E/OU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170028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dos para expressar as relações lógicas definidas pelos operadores E/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as premissas de uma implicação estiverem conectadas por um operado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les são chamados de nó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o graf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as premissas de uma implicação estiverem conectadas por um operado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les são chamados de nó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o graf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grafos E/OU são uma ferramenta importante para descrever os espaços de busca gerados por vários problemas de IA, incluindo aqueles solucionados por provadores de teoremas e sistemas especiali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DA7-89EF-48C3-84E2-1E7BEBE40D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Grafos E/OU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1557360"/>
            <a:ext cx="8244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s e Aplic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 para integração simbólica de funções matemáticas (MACSYM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“quebrar” uma expressão em subexpressões que possam ser integradas independentemente, com o resultado sendo combinado algebricamente numa expressão de sol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integração por partes, decomposição da integral de uma soma em uma soma de integr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dessa estratégia: nó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o graf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decomposição de um problema em subproblemas independent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B4A-50D0-4011-9C39-C7B870FE3C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Grafos E/OU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1628640"/>
            <a:ext cx="76327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s e Aplic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a classe de estratégi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implificação de uma expressão através de várias substituições algébr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qualquer expressão pode permitir várias substituições diferentes, cada uma representando uma estratégia independente para a solução, estas estratégias são representadas por nó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o gra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9C10-F880-49AF-A9D6-AAC1C1BFAB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Grafos E/OU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 rot="60000">
            <a:off x="2626920" y="1628280"/>
            <a:ext cx="4438800" cy="4459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58920" y="6093000"/>
            <a:ext cx="748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rafo E/OU de parte do espaço de estados para integrar uma função, de Nilsson 9197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EBA6-BCFE-4499-8751-7E3DC22028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3-19T03:42:45Z</dcterms:modified>
  <cp:revision>534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