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899A-C6FC-49C9-B6E0-E2093797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2B75-8B32-4060-A12E-0CFC788C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3110-8A41-4D34-BD1F-9BBD5332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AF0-925D-4392-B3B1-F72EBCEF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54A6-2A7D-4DCB-BDF1-E0EA9735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62C5-E8AD-4F2C-B055-DB08C32F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A43B-5912-4546-9844-E7C7FDB1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0166-5601-4CF5-A035-9C0C581E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2CB6-B107-485B-B4B4-9442D554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6DF6-03E4-4164-B654-E85DAC57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F908-C6A9-4D5A-B22D-678B8F3E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7AF1-FE1E-413F-8BC9-64F8B436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DC2F-7AEC-42F8-B86B-F37D99D8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90D1-3FD4-43AA-A366-99217D58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E3E4-E7B0-4893-9D0C-0FED180F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BB1C-FD0E-4EEA-B976-0211D6AD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C613-1741-4F14-BB5E-0B2FA0AE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B2B7-508E-4F91-B295-B08688E9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FE28-FE64-4690-8CA8-0F79E36A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3341-3C6D-427C-BD1A-05C1E448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246D-C790-48F7-9F50-AE734B1F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5D1C-93B1-4536-9641-EE98A7E6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2E8A-252E-499B-B129-348CEAB9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EFA5-6A39-41AE-9150-1246319B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407B-90CE-41C6-A3B5-6D2449DB89C3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108000" y="6165720"/>
            <a:ext cx="720720" cy="620640"/>
            <a:chOff x="1080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80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88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25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14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32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63640" y="1604880"/>
            <a:ext cx="5545080" cy="434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0B87-80EA-4940-9869-9E7C7220DE8B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927520"/>
            <a:ext cx="4199040" cy="698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356000" y="2923920"/>
            <a:ext cx="403236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22200" y="6192720"/>
            <a:ext cx="720720" cy="620640"/>
            <a:chOff x="322200" y="6192720"/>
            <a:chExt cx="720720" cy="620640"/>
          </a:xfrm>
        </p:grpSpPr>
        <p:sp>
          <p:nvSpPr>
            <p:cNvPr id="57" name=""/>
            <p:cNvSpPr/>
            <p:nvPr/>
          </p:nvSpPr>
          <p:spPr>
            <a:xfrm>
              <a:off x="322200" y="6689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3080" y="6389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357120" y="6192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5600" y="6399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357840" y="6201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3200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Considerações Fina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1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1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1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440" y="189000"/>
            <a:ext cx="7991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411280" y="2060640"/>
            <a:ext cx="43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nteligência Artificial I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144960" y="3219840"/>
            <a:ext cx="652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Verdana"/>
              </a:rPr>
              <a:t>Figura: Capa do Livro Russell, S., Norvig, P. </a:t>
            </a:r>
            <a:r>
              <a:rPr b="1" i="1" lang="pt-BR" sz="900" spc="-1" strike="noStrike">
                <a:solidFill>
                  <a:srgbClr val="000000"/>
                </a:solidFill>
                <a:latin typeface="Verdana"/>
              </a:rPr>
              <a:t>Artificial Intelligence – A Modern Approach</a:t>
            </a:r>
            <a:r>
              <a:rPr b="0" lang="pt-BR" sz="900" spc="-1" strike="noStrike">
                <a:solidFill>
                  <a:srgbClr val="000000"/>
                </a:solidFill>
                <a:latin typeface="Verdana"/>
              </a:rPr>
              <a:t>, Prentice-Ha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71640" y="333360"/>
            <a:ext cx="77151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luridisciplinaridade da 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25600" y="2514600"/>
            <a:ext cx="12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Probl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07120" y="22860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Aplica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36680" y="1828800"/>
            <a:ext cx="9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Taref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95560" y="1828800"/>
            <a:ext cx="124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Inspir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2209680"/>
            <a:ext cx="1447920" cy="415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Filosof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Matemá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Ló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Proba. e Estat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Cálc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Pesquisa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Oper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Econom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Soci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Lingüí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Psic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Bi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Automação 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Cont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Computaçã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tradi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2895480"/>
            <a:ext cx="1447920" cy="2863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Busca heurí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Representaçã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do conheciment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e Raciocíni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automá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Planeja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Aprendizagem 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Aquisição d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Conhec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Sistemas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Multi-Ag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Reconheciment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de Padr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2666880"/>
            <a:ext cx="1600200" cy="3649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Jo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Sistemas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Especiali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Percepçã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Comput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Vis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Processament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  de Vo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Integração d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  Sens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Processamento d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Linguagem Natu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Robó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Naveg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Manipul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67480" y="2209680"/>
            <a:ext cx="1371600" cy="353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Classific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Previs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Monitor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Diagnóstico 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Interpret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Conse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Escal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Aloc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Filtrag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Descob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Cont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Simul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6-06-07T16:36:11Z</dcterms:modified>
  <cp:revision>27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