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C635-B0DD-44CE-AAAF-631BB56F9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C15B-0075-41E9-9A34-0037A3855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E5FF-6AD1-43B6-AD65-72D43C5A7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2F5E-BE19-42BE-8BC6-2B5B54EA7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C30A9F-6FC1-42C6-9473-BB9A85DADAC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269EED-BE1C-40BD-BC5D-B3C207D4B82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34A700-4C75-4494-9D8A-6EF094BDCEF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507A6E-7686-4EE0-9662-26FBF7CDDD3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8A5F2A-847D-4D52-A6FB-0846B311EAA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D2FFB2-E212-433B-BAAF-23D4F485AED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797941-8A59-4CC0-98D0-7D4264C273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7F04-7B2F-4DF5-8775-6B6D9A612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7D221F-06E2-4E00-B6F6-BD02C7D2167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71B83B-036B-4827-BCCD-5E1036AC067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63FEA7-132D-415E-AE4D-62059114270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D6C93C-55E0-4662-BBC5-29E60132A3F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A44799-E3BE-4241-A7E8-42CE71E2F5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D2B0-9A6D-400A-AEDD-3CA08C4B3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3EF7-7ECD-497C-A321-C7BBAC091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7663-A9E6-4E05-B10E-5CADC436F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7FE0-F524-480E-B5BE-4F879E5C1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933F-C243-484A-B482-9842D1931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DD38-63DA-4F9E-83E8-F2CA584F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9B2A-E665-47ED-B13A-7697A030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"/>
          <p:cNvGraphicFramePr/>
          <p:nvPr/>
        </p:nvGraphicFramePr>
        <p:xfrm>
          <a:off x="0" y="-27000"/>
          <a:ext cx="900000" cy="688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27000"/>
                    <a:ext cx="900000" cy="68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0192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AFBF1-3B9E-4D7F-84EF-46DEDA5ACE20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34920" y="6165720"/>
            <a:ext cx="720720" cy="620640"/>
            <a:chOff x="34920" y="6165720"/>
            <a:chExt cx="720720" cy="620640"/>
          </a:xfrm>
        </p:grpSpPr>
        <p:sp>
          <p:nvSpPr>
            <p:cNvPr id="9" name=""/>
            <p:cNvSpPr/>
            <p:nvPr/>
          </p:nvSpPr>
          <p:spPr>
            <a:xfrm>
              <a:off x="34920" y="666252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25800" y="636228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flipV="1">
              <a:off x="69480" y="6165720"/>
              <a:ext cx="39240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28320" y="637200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H="1" flipV="1">
              <a:off x="70200" y="617472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-27000"/>
          <a:ext cx="2355840" cy="688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27000"/>
                    <a:ext cx="2355840" cy="68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9E841-A5EE-443F-A475-7D9B6917E42A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84360" y="2924280"/>
            <a:ext cx="3024360" cy="73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508720" y="2923920"/>
            <a:ext cx="3095640" cy="71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692360" y="6337080"/>
            <a:ext cx="576000" cy="476640"/>
            <a:chOff x="1692360" y="6337080"/>
            <a:chExt cx="576000" cy="476640"/>
          </a:xfrm>
        </p:grpSpPr>
        <p:sp>
          <p:nvSpPr>
            <p:cNvPr id="58" name=""/>
            <p:cNvSpPr/>
            <p:nvPr/>
          </p:nvSpPr>
          <p:spPr>
            <a:xfrm>
              <a:off x="1692360" y="6718680"/>
              <a:ext cx="576000" cy="950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24920" y="6488280"/>
              <a:ext cx="31464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1719360" y="6336720"/>
              <a:ext cx="313560" cy="209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6720" y="6495480"/>
              <a:ext cx="31428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flipV="1">
              <a:off x="1720800" y="6344280"/>
              <a:ext cx="315360" cy="2095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2700000" y="2179440"/>
            <a:ext cx="604836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Inteligência Artificial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Resolução de Problemas    (Busca - Prolo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16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27280" y="260280"/>
            <a:ext cx="619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-3083400" y="3307320"/>
            <a:ext cx="645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Verdana"/>
              </a:rPr>
              <a:t>Figura: Capa do Livro Hamburger, H., Richards, D. </a:t>
            </a:r>
            <a:r>
              <a:rPr b="1" i="1" lang="pt-BR" sz="800" spc="-1" strike="noStrike">
                <a:solidFill>
                  <a:srgbClr val="000000"/>
                </a:solidFill>
                <a:latin typeface="Verdana"/>
              </a:rPr>
              <a:t>Logic and Language Models for Computer Science</a:t>
            </a:r>
            <a:r>
              <a:rPr b="0" lang="pt-BR" sz="800" spc="-1" strike="noStrike">
                <a:solidFill>
                  <a:srgbClr val="000000"/>
                </a:solidFill>
                <a:latin typeface="Verdana"/>
              </a:rPr>
              <a:t>, Prentice Hal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042560" y="1628640"/>
            <a:ext cx="77151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% Implementa a Busca em Largu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resolve_largura(Inicio, Solucao) 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busca_largura( [ [Inicio] ], Soluca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busca_largura( [ [N|Caminho] | _], [N|Caminho]):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bjetivo(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busca_largura([ [N|Caminho]| Caminhos ], Solucao) 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bagof([M,N| Caminho]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(s(N,M),not(membro(M,[N|Caminho]))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NovosCaminhos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nc(Caminhos, NovosCaminhos, Caminhos1), !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busca_largura(Caminhos1, Solucao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busca_largura(Caminhos, Soluca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71640" y="6165720"/>
            <a:ext cx="78483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bagof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/3 (findall/3 e setof/3) - Encontra um conjunto de soluções ou instâncias de um termo tal que uma meta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rolog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seja verdadeir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971280" y="26028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Busca em Largura ...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5A6A-1E0B-4F27-B71F-2C22B1D438C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Busca em Largura - Exempl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58560" y="1844280"/>
            <a:ext cx="10666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(a,b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(a,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(b,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(b,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(c,f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(c,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11280" y="1871640"/>
            <a:ext cx="13716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(d,h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(e,i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(e,j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(f,k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bjetivo(j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bjetivo(f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3924360" y="2492280"/>
            <a:ext cx="4572000" cy="2590560"/>
            <a:chOff x="3924360" y="2492280"/>
            <a:chExt cx="4572000" cy="2590560"/>
          </a:xfrm>
        </p:grpSpPr>
        <p:sp>
          <p:nvSpPr>
            <p:cNvPr id="173" name=""/>
            <p:cNvSpPr/>
            <p:nvPr/>
          </p:nvSpPr>
          <p:spPr>
            <a:xfrm>
              <a:off x="6210360" y="2492280"/>
              <a:ext cx="457200" cy="4572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067360" y="310176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457880" y="378756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600880" y="378756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277040" y="310176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743880" y="3863880"/>
              <a:ext cx="457200" cy="457200"/>
            </a:xfrm>
            <a:prstGeom prst="ellipse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039160" y="378756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743880" y="45496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58080" y="4549680"/>
              <a:ext cx="457200" cy="457200"/>
            </a:xfrm>
            <a:prstGeom prst="ellipse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924360" y="462564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4762080" y="348264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448240" y="348264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4229280" y="4168440"/>
              <a:ext cx="3045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981760" y="4168440"/>
              <a:ext cx="2286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6972480" y="3482640"/>
              <a:ext cx="3808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658280" y="3482640"/>
              <a:ext cx="4572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972480" y="4321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91040" y="45496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5219640" y="4168440"/>
              <a:ext cx="4572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5372280" y="2796840"/>
              <a:ext cx="8380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667560" y="2796840"/>
              <a:ext cx="762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756E-E6FA-46BC-97F3-661CBDA4860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258560" y="1844280"/>
            <a:ext cx="10666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(a,b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(a,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(b,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(b,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(c,f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(c,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11280" y="1871640"/>
            <a:ext cx="13716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(d,h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(e,i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(e,j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(f,k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bjetivo(j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bjetivo(f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3924360" y="1700280"/>
            <a:ext cx="4572000" cy="2590560"/>
            <a:chOff x="3924360" y="1700280"/>
            <a:chExt cx="4572000" cy="2590560"/>
          </a:xfrm>
        </p:grpSpPr>
        <p:sp>
          <p:nvSpPr>
            <p:cNvPr id="197" name=""/>
            <p:cNvSpPr/>
            <p:nvPr/>
          </p:nvSpPr>
          <p:spPr>
            <a:xfrm>
              <a:off x="6210360" y="1700280"/>
              <a:ext cx="457200" cy="4572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067360" y="230976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457880" y="299556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600880" y="299556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77040" y="230976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743880" y="3071880"/>
              <a:ext cx="457200" cy="457200"/>
            </a:xfrm>
            <a:prstGeom prst="ellipse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039160" y="299556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43880" y="37576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058080" y="3757680"/>
              <a:ext cx="457200" cy="457200"/>
            </a:xfrm>
            <a:prstGeom prst="ellipse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924360" y="383364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4762080" y="269064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448240" y="269064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4229280" y="3376440"/>
              <a:ext cx="3045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81760" y="3376440"/>
              <a:ext cx="2286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6972480" y="2690640"/>
              <a:ext cx="3808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658280" y="2690640"/>
              <a:ext cx="4572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972480" y="3529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991040" y="37576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5219640" y="3376440"/>
              <a:ext cx="4572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5372280" y="2004840"/>
              <a:ext cx="8380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667560" y="2004840"/>
              <a:ext cx="762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1187280" y="4797360"/>
            <a:ext cx="59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?- resolve_largura(a,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332000" y="52293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 = [f,c,a]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 = [j,e,b,a]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Busca em Largura - Exempl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573F-4BA2-4CCD-8E52-E6E18F3B6D5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m Busca de Soluçõ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1116000" y="1773360"/>
            <a:ext cx="71280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ópic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mplementação em Pro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usca em Profund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usca em Larg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B817-CBEF-4895-9A7A-64328C3623D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Busca em Profundidade ...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71280" y="1628640"/>
            <a:ext cx="771516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5000"/>
          </a:bodyPr>
          <a:p>
            <a:pPr marL="5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Representação em Prolog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20" indent="-51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a encontrar um caminho de solução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o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de um dado nó para algum nó objetivo, tem-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1240" indent="-42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é um nó objetivo, então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o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=[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1240" indent="-42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 há um nó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sucessor de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tal que há um caminho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ol1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e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para algum nó-objetivo, então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o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=[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ol1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1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usca_profundidade(N,[N]) :- objetivo(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usca_profundidade(N,[N|Sol1]) :- s(N,N1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usca_profundidade(N1,Sol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E479-0D5C-4D1D-BF6A-744CB4D17BF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63280" y="201600"/>
            <a:ext cx="8172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Busca em Profundidade - Exempl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58560" y="1844280"/>
            <a:ext cx="10666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(a,b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(a,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(b,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(b,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(c,f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(c,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411280" y="1871640"/>
            <a:ext cx="13716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(d,h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(e,i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(e,j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(f,k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bjetivo(j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bjetivo(f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176720" y="1846440"/>
            <a:ext cx="4572000" cy="2590560"/>
            <a:chOff x="4176720" y="1846440"/>
            <a:chExt cx="4572000" cy="2590560"/>
          </a:xfrm>
        </p:grpSpPr>
        <p:sp>
          <p:nvSpPr>
            <p:cNvPr id="111" name=""/>
            <p:cNvSpPr/>
            <p:nvPr/>
          </p:nvSpPr>
          <p:spPr>
            <a:xfrm>
              <a:off x="6462720" y="1846440"/>
              <a:ext cx="457200" cy="4572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19720" y="24559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710240" y="31417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853240" y="31417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29400" y="24559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996240" y="3218040"/>
              <a:ext cx="457200" cy="457200"/>
            </a:xfrm>
            <a:prstGeom prst="ellipse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291520" y="31417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996240" y="390384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310440" y="3903840"/>
              <a:ext cx="457200" cy="457200"/>
            </a:xfrm>
            <a:prstGeom prst="ellipse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76720" y="3979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5014440" y="283680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00600" y="283680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4481640" y="3522600"/>
              <a:ext cx="3045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234120" y="3522600"/>
              <a:ext cx="2286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7224840" y="2836800"/>
              <a:ext cx="3808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910640" y="2836800"/>
              <a:ext cx="4572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224840" y="3675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243400" y="390384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5472000" y="3522600"/>
              <a:ext cx="4572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5624640" y="2151000"/>
              <a:ext cx="8380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919920" y="2151000"/>
              <a:ext cx="762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1187280" y="4869000"/>
            <a:ext cx="432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?-busca_profundidade(a,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76360" y="5300640"/>
            <a:ext cx="3429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=[a,b,e,j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=[a,c,f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DE2F-DD4D-460E-A3EC-3B526FBE54A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Busca em Largura ...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42560" y="1557000"/>
            <a:ext cx="7921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Representação em Prolog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ão é tão fácil de programar em Prolog quanto à busca em profundid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Motiv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é necessário manter um conjunto de nós candidatos alternativos e não apenas um nó candidato como na busca em profund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conjunto de nós candidatos é constituído por todos os nós de um dado nível da árvore de bus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te conjunto de caminhos candidatos não é suficiente caso se deseje extrair um caminho de solução do processo de bus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o invés de manter um conjunto de nós candidatos, deve-se manter um conjunto de caminhos-candida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5542-EE6C-492F-8118-6751BF4E324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Busca em Largura ...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7921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O predicad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usca_largura(Caminhos,Soluca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é satisfeito se algum caminho de um conjunto de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aminho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candidatos pode ser estendido até um nó objetivo.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olução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é um destes caminhos estendi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Implementaçã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aminho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será representado por uma lista e cada caminho candidato será uma lista de nós na ordem inver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cabeça de um caminho será o nó mais recentemente gerado e o último elemento será o nó inicial da bus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busca é iniciada com um conjunto de candidatos com um único elemento:  [ [NoInicial]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6591-B6AF-4C07-BDAF-EA9D3AAA59D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Busca em Largura ...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Dado um conjunto de caminhos candida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 o primeiro caminho contém um nó-objetivo como cabeça, estão este caminho é uma solução para o probl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so contrário, remove-se o primeiro caminho do conjunto de candidatos e gera-se o conjunto de todas as possíveis extensões de um passo deste caminho, acrescentando-se estas extensões ao final do conjunto de candidatos e executa-se a busca em largura neste conjunto de caminhos candidatos atualiz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D280-17E2-4BD6-B6D1-41CFDC2BCA6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Busca em Largura ...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71280" y="1557360"/>
            <a:ext cx="78483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7000"/>
          </a:bodyPr>
          <a:p>
            <a:pPr marL="123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. Conjunto de Candidatos inicia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[[a]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31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3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2. Gera extensões de [a]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[ [b,a], [c,a]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31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3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3. Remove o 1</a:t>
            </a:r>
            <a:r>
              <a:rPr b="0" lang="pt-BR" sz="2000" spc="-1" strike="noStrike" u="sng" baseline="30000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caminho candidato, [b,a], e gera extensões deste caminho, colocando-as no final do conjunto: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3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[ [c,a], [d,b,a], [e,b,a]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31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3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4. Remove [c,a] e acrescenta sua extensão ao final do conjunto de candidatos, produzind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3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[ [d,b,a], [e,b,a], [f,c,a], [g,c,a]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31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3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5. Em passos posteriores, [d,b,a] e [e,b,a] são estendidos e o conjunto de candidatos torna-se: [ [f,c,a], [g,c,a], [h,d,b,a], [i,e,b,a], [j,e,b,a]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31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3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6. O processo de busca encontra [f,c,a] que contém o nó-objetiv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 Portanto, este caminho é apresentado como uma solu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5292720" y="1125360"/>
            <a:ext cx="3352320" cy="1752840"/>
            <a:chOff x="5292720" y="1125360"/>
            <a:chExt cx="3352320" cy="1752840"/>
          </a:xfrm>
        </p:grpSpPr>
        <p:sp>
          <p:nvSpPr>
            <p:cNvPr id="143" name=""/>
            <p:cNvSpPr/>
            <p:nvPr/>
          </p:nvSpPr>
          <p:spPr>
            <a:xfrm>
              <a:off x="6968880" y="1125360"/>
              <a:ext cx="335160" cy="30924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130800" y="1537560"/>
              <a:ext cx="335160" cy="309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83680" y="2001600"/>
              <a:ext cx="335160" cy="309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522120" y="2001600"/>
              <a:ext cx="335160" cy="309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751520" y="1537560"/>
              <a:ext cx="335160" cy="309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60200" y="2053080"/>
              <a:ext cx="335160" cy="309240"/>
            </a:xfrm>
            <a:prstGeom prst="ellipse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309880" y="2001600"/>
              <a:ext cx="335160" cy="309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360200" y="2517120"/>
              <a:ext cx="335160" cy="309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857280" y="2517120"/>
              <a:ext cx="335160" cy="309240"/>
            </a:xfrm>
            <a:prstGeom prst="ellipse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292720" y="2568960"/>
              <a:ext cx="335160" cy="309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5907240" y="1795320"/>
              <a:ext cx="223200" cy="20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10160" y="1795320"/>
              <a:ext cx="223200" cy="20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5515920" y="2259360"/>
              <a:ext cx="223560" cy="30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801120" y="2259360"/>
              <a:ext cx="167400" cy="2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7527600" y="1795320"/>
              <a:ext cx="279000" cy="2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030880" y="1795320"/>
              <a:ext cx="335160" cy="2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527960" y="2362680"/>
              <a:ext cx="0" cy="15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075000" y="2517120"/>
              <a:ext cx="335160" cy="309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6242400" y="2259360"/>
              <a:ext cx="335160" cy="2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6354000" y="1331640"/>
              <a:ext cx="614520" cy="20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304040" y="1331640"/>
              <a:ext cx="558720" cy="20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5250-BA72-4BC2-93C6-EBD090D1BDA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115640" y="184428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lementação em Prolog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% Determina se elemento X é membro de uma l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embro(X,[X|C]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embro(X,[_|C]) :- membro(X,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% Anexa duas listas produzindo uma tercei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nc([ ],L,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nc([X|L1],L2,[X|L3]) :- conc(L1,L2,L3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971280" y="26028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Busca em Largura ...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196C-50A2-43CA-9EC7-D324A53C01A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USE</cp:lastModifiedBy>
  <dcterms:modified xsi:type="dcterms:W3CDTF">2008-02-06T08:52:04Z</dcterms:modified>
  <cp:revision>421</cp:revision>
  <dc:subject/>
  <dc:title>Inteligência Artificial 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