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595-D913-471A-9DF3-563F5E0A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016-AF1D-41A3-8A13-51FD2E71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8B2-CEA4-4351-A156-ABF020B0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A3B-C232-41E9-974C-88672654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D5A83-BA52-417E-BDE6-7F08824C98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E8185-9679-495D-9744-1A6797D60F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3DBFE-2A79-4B12-B87E-BC6E010F98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896CE-B1B0-4D89-A865-C5A5A04A2F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127C6-41C2-4C20-B370-2CFD4A84BE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5B8D2-5808-4D7F-AE29-2B467C54C8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EAB93-8FC5-4BB3-961F-1765A37616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1F7-FDA7-4390-A500-14DEBD11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13479-C800-4012-9E52-0A2061E2EF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8EF24-D05F-4F85-97E3-ECFE9679C5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2D82A-8A03-494F-8717-D6F063617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850B3-64D2-4365-8134-6C4AFB9331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A20F4-57F0-4FC6-BA48-FE9D6B07D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E25-13AC-4750-9B2D-DA53A95A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719-132A-473A-A1F4-8A32AC72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9A9-8FB8-4F69-AE42-A62CE6FC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8F7-9119-4CBC-825A-E78CD4C7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91E-D5FD-4478-A148-48283570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59A-11AB-47E4-BAB4-9656DA29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53D-34B3-4C08-93EF-11FD719D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33CA-9AAF-4388-BC02-A280A10F595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289C-53F9-4A43-93F1-916E2D96D3C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A Distribu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1600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oção Fraca de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nalidade restrita a si próprio (egoísmo ou autism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onomia restrita: controle de seu estado in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oção Forte de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çõ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entalísticas: postura intencional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-mecanicista e útil,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lo emprego de crenças, desejos e intenções/escolhas (BD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nestidade e senso de equ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nalidade e aprendizado/adapt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 complexos e expl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ulti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44D-E251-4541-9FC1-261A19B7A0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visão de soluções em IA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5722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AD se divide em três sub-á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istribuída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ag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A Paral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C7E-21AA-40C6-BD0C-35E434323A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solução Distribuída de Problemas (RD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gentes são concebidos para solucionar um determinado problema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ração entre agentes é realizada seja por troca de mensagens, seja por meio do compartilhamento de dados com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41D-1987-4982-A836-032F074D0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solução Distribuída de Problemas (RD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gentes são executados de modo concor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gentes cooperam, dividindo entre si as diversas partes do problema orig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a noçã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role glob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41E-2998-40D1-80DE-92A43E95EA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DP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920"/>
            <a:ext cx="2057400" cy="10666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752480"/>
            <a:ext cx="2057400" cy="10670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3276720"/>
            <a:ext cx="2057400" cy="10666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3276720"/>
            <a:ext cx="2057400" cy="10666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276720"/>
            <a:ext cx="2057400" cy="10666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59280" y="4941720"/>
            <a:ext cx="3809880" cy="1831680"/>
            <a:chOff x="3059280" y="4941720"/>
            <a:chExt cx="3809880" cy="1831680"/>
          </a:xfrm>
        </p:grpSpPr>
        <p:sp>
          <p:nvSpPr>
            <p:cNvPr id="133" name=""/>
            <p:cNvSpPr/>
            <p:nvPr/>
          </p:nvSpPr>
          <p:spPr>
            <a:xfrm>
              <a:off x="3059280" y="4941720"/>
              <a:ext cx="3809880" cy="18316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0160" y="5704560"/>
              <a:ext cx="457200" cy="30528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02280" y="5246640"/>
              <a:ext cx="457200" cy="30528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73680" y="6086520"/>
              <a:ext cx="457200" cy="304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9480" y="5781240"/>
              <a:ext cx="457200" cy="30528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45280" y="6086520"/>
              <a:ext cx="457200" cy="304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68960" y="5170680"/>
              <a:ext cx="457200" cy="304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31080" y="5628600"/>
              <a:ext cx="457200" cy="304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113360" y="1964160"/>
            <a:ext cx="178236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isão 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b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648320"/>
            <a:ext cx="8001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9640" y="201060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cep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2440" y="513468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13716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819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85640" y="2286000"/>
            <a:ext cx="167652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209680"/>
            <a:ext cx="152388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197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054-4604-438D-95B0-3527587EEA0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agentes (SMA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gentes são concebidos independentemente de um problema particular a ser resolv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cepção das interações também é realizada independentemente de uma aplicação-alvo particu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iste um controle global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816-2AF2-4D36-BFA4-23C775BC60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M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143000" y="1705680"/>
            <a:ext cx="8001000" cy="4675680"/>
            <a:chOff x="1143000" y="1705680"/>
            <a:chExt cx="8001000" cy="4675680"/>
          </a:xfrm>
        </p:grpSpPr>
        <p:sp>
          <p:nvSpPr>
            <p:cNvPr id="154" name=""/>
            <p:cNvSpPr/>
            <p:nvPr/>
          </p:nvSpPr>
          <p:spPr>
            <a:xfrm>
              <a:off x="6553080" y="2666880"/>
              <a:ext cx="2057400" cy="10670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jeto d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Organizaçõ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62520" y="2666880"/>
              <a:ext cx="2057400" cy="10670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jeto d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Interaçõ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7920" y="2666880"/>
              <a:ext cx="2057400" cy="10670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jeto 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Ag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059280" y="4476600"/>
              <a:ext cx="3809880" cy="1904760"/>
              <a:chOff x="3059280" y="4476600"/>
              <a:chExt cx="3809880" cy="1904760"/>
            </a:xfrm>
          </p:grpSpPr>
          <p:sp>
            <p:nvSpPr>
              <p:cNvPr id="158" name=""/>
              <p:cNvSpPr/>
              <p:nvPr/>
            </p:nvSpPr>
            <p:spPr>
              <a:xfrm>
                <a:off x="3059280" y="4476600"/>
                <a:ext cx="3809880" cy="1904760"/>
              </a:xfrm>
              <a:prstGeom prst="ellipse">
                <a:avLst/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40160" y="5270040"/>
                <a:ext cx="457200" cy="31752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02280" y="4793760"/>
                <a:ext cx="457200" cy="31752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73680" y="5667120"/>
                <a:ext cx="457200" cy="31716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59480" y="5349600"/>
                <a:ext cx="457200" cy="31752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45280" y="5667120"/>
                <a:ext cx="457200" cy="31716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68960" y="4714560"/>
                <a:ext cx="457200" cy="31716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31080" y="5190840"/>
                <a:ext cx="457200" cy="317160"/>
              </a:xfrm>
              <a:prstGeom prst="smileyFace">
                <a:avLst>
                  <a:gd name="adj" fmla="val 9282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143000" y="4038480"/>
              <a:ext cx="8001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59640" y="17056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cep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52440" y="452520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solu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880" y="38098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92F-B41D-44EE-A98F-5D1BACC1EC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Paralela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35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ntra-se no desenvolvimento de algoritmos, linguagens e arquiteturas de computador paral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trabalhos de pesquisa em IAP procuram resolver os problemas de desempenho dos sistemas de 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6C7-7D18-405D-8381-0D1E4578BE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D - Quando usa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706400"/>
            <a:ext cx="771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comple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idir e conqui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jogo dos 8 números, ordenaçã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intrinsecamente distribu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jogos com personagens, administração de sistemas, controle de tráfeg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exigindo rápido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busca na internet, grupo musica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com domínios de conhecimento ou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agente para cada tipo de conhecimento/tare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usina nu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0A9-E3E6-4D4B-9287-0E6139E5F4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Linguagens e Protocolos de Agent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6000" y="1850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trução de ag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/C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rolog, Smalltalk e 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unicação de ag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L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gent Communication Langua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ceu de uma tentativa de definir um padrão para a comunicação de ag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KQML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Knowledge Query and Manipulation Langua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 linguagem e protocolo para trocar informações e conhec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KIF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Knowledge Interchange Forma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 descrita em três camadas: caracteres e express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ransferência de ag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TP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gent Transfer Protoco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942-E93D-4324-93D5-5339D80BAF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A Distribu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95D-ED4C-4D4E-B59B-06E39AF7CE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6920" y="1546200"/>
            <a:ext cx="76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ção de dados e planejamento distribuí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Ds distribuídos e S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teamento, equilíbrio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peração de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mada de decisão distribuí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al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gnóstico e monit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ótica: visão e trajet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por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de eletri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Tele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stência a 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ulação de compo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eração, cartografia, im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CDA-2745-4624-A275-4F8E3E1324E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em IA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sência de metodologias de projeto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erteza e conf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ação e linguagens ainda não sedime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agem de outros ag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veamento cognitivo/ re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informações devem ser globais e quai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executar, planejar e coorde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: coerência e cooperação, através d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ordena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forte ligação com planejamento e escalonamen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C5F-5CE0-488C-9A0E-85C4CCBCA6E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Distribuíd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6000" y="2492280"/>
            <a:ext cx="7345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 significa dizer que um determinado problema pode ser melhor resolvido com uma abordagem multiag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DAF-B6FF-45F9-A255-BF837AD864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Cláss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488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 IA clássica, um sistema inteligente correspondia a uma metáfora de 1 pesso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de 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áfora do pensad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que uma máquina pen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que uma máquina sabe alguma coi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táfora basicamente 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essoa ou entidade resolve 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ligênci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omizada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trita a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cr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pectos de sua própria raciona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59C-5E73-4A9B-95CC-DFACA5170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Distribuíd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497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opulação d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ônomos que podem intera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áfora da organizaçã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ça a ação e a interação entre 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da aos macro aspectos dos agentes: agentes enquanto socie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pirada também em lingüística, sociologia, economia,filosofia, biologia e ... Redes Neurai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táfora basicamente soc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7FD-CFC7-4D5B-BE1A-9F0F3FDEC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 Distribuíd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AD parte do princípio de que ter um número de indivíduos maior que um é útil quando se pretende resolver problemas grandes e complex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agentes podem interagir entre si para atingir o objetivo para o qual o sistema foi conceb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7AB-5680-4392-BA63-96A32493E7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e S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7920" y="1599840"/>
            <a:ext cx="378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bó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dução 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e Linguagem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Especi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1640" y="1599840"/>
            <a:ext cx="378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conexão de máquinas, sistemas, red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terogene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rtilhament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Distribuí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l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pa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551-EC33-406C-B9C9-8EDB90E9A4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: Centralizada ou Distribuíd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um fa(e)z um pouco, e... somos 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proveitamos muito o trabalho alh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rnet nos faz trabalhar de forma mais inteligente (nenhum componente é crít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: Há alguns cuja solução é inerentemente distribuída ou fica mais fácil distribuin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os centralizados ou distribuídos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44E-7732-4B81-A023-A9117CED25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Distribuída (IAD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IA paralela, nem Sistemas Distribuí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m gru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través de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ope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iferente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labo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 interatividade e capacidade de comun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- meios que garantam a convergência: Estruturas de autoridade e control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ividi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de conhecimento 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805-4A2A-4952-9AD6-34CC6BADFE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tivações de Multi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nços científicos: grandes redes heterogêneas abertas, concorrência, sistemas distribuídos, bibliotecas dig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dependências compl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há controle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ão de recursos e de racion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grandes e complexos, experi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s disti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peração de informações(IR), Mineração de D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 de sistemas naturais e sociais, jogo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D03-ABB5-4E55-9381-2D69B26FC57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11-07T16:46:03Z</dcterms:modified>
  <cp:revision>661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