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E57-AF41-4391-8420-F782634D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057-2B9A-4DB5-BBA6-6D51AFE9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457-AE88-4B4F-9E84-B05D9F8D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466-241F-44C3-B8E4-EF1B3061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E5403-7B48-44F3-A5E2-7A78F94CB0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4EE18-F270-4397-A278-5E93BFC840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86662-250F-4E9F-AE55-EC5FB8A8A8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E034F-10DE-4566-9E9B-D663A45FC3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5A97B-F8DA-4EB0-B29D-E95E67D5B8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27563-75CD-40B5-AB07-B9CC92A0C3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1510E-CBCD-4CBA-A2C6-373927CCEF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D6C-51C4-4699-A54D-739E65D1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AE168-842A-430D-AB61-868AE681BA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59C06-8949-48D7-B5EB-DF9C0945EF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27EDD-13EF-4B78-B863-8085DD3250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56A66-50AB-4533-A16E-1273326D70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71620-DE49-455F-8024-CFA3A0D563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33E-5965-4AE4-AEA6-4C3059CE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0BD-698E-4329-AD61-E4FE45E7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DD2-D0B0-48FD-8184-73141693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8D4-5623-4AD1-A2F9-DBE7A5E5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B06-4F46-4D56-A29D-3CF3DFF9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EEC-F0BC-4479-B0B8-0AFF6F2F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6AC-B457-400D-8891-3B4C6223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42CC-59F2-4C48-8810-70E4620CC05D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19FB-546E-4BDD-AE30-1F51EAB0F4A4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826920" y="6308280"/>
            <a:ext cx="649440" cy="476640"/>
            <a:chOff x="826920" y="6308280"/>
            <a:chExt cx="649440" cy="476640"/>
          </a:xfrm>
        </p:grpSpPr>
        <p:sp>
          <p:nvSpPr>
            <p:cNvPr id="56" name=""/>
            <p:cNvSpPr/>
            <p:nvPr/>
          </p:nvSpPr>
          <p:spPr>
            <a:xfrm>
              <a:off x="826920" y="6689880"/>
              <a:ext cx="64944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89000" y="6459480"/>
              <a:ext cx="35460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8240" y="6307920"/>
              <a:ext cx="35352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91160" y="6466680"/>
              <a:ext cx="3542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8960" y="6315480"/>
              <a:ext cx="35568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prendiz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I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, Ilustração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des Neurais Artificiais e Operações Boolean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483920"/>
            <a:ext cx="756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operações booleanas (OU, E, OU_EXCLUSIVO) podem ser implementadas por Redes Neurais Artificiais e ilustram o comportamento destas, em especial 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erceptro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erceptron Multi-Camad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duas classes de problem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envolve conjuntos linearmente separáveis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lida com os não linearmente separ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38480" y="3789360"/>
            <a:ext cx="1685880" cy="2603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467800" y="6437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Percept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3240360" cy="2522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497920" y="6437160"/>
            <a:ext cx="25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Verdana"/>
              </a:rPr>
              <a:t>Perceptron Multi-Cam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571-85D9-4CD9-AE94-DF7081DAB0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mulando Portas Lógicas com Redes Neurais (Função OU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56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rceptro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erceptron pode simular algumas portas lógicas. Para tanto, será utilizado o conjunto de treinamento abaixo, o qual, na verdade, é uma tabela-ver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ção O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quitetura utilizada para a construção do perceptr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mada de entrada (dois neurônios), é necessário apenas um neurônio na saída, o qual responderá com os valores 0 ou 1, de acordo com a tabela-verdade para 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635280" y="3141720"/>
            <a:ext cx="4176720" cy="169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439-ED32-4A5D-9370-CB710FEBC0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mulando Portas Lógicas com Redes Neurais (Função OU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1765080" y="1556640"/>
            <a:ext cx="57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aço de decisão para o Perceptron em questã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4392360" cy="3454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32000" y="5732280"/>
            <a:ext cx="7199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 pares (0,1); (1,0); (1,1) ficaram separados pela ret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 (0,0). Como cada par representa uma entrada à rede, esta representação gráfica ilustra o processo que ocorre durante o treinamento: a ret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responsável por separar as classes, é deslocada até alguma posição que defina corretamente a divisão do espaço de entra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01D-78CA-4CA8-B738-1918C5638D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mulando Portas Lógicas com Redes Neurais (Função OU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1058400" y="1628280"/>
            <a:ext cx="78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quema de um Perceptron após o treinamento mostrando os pesos e os bias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4032360" cy="2628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87280" y="5376240"/>
            <a:ext cx="763272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Perceptron tembém pode ser treinado para a porta E, para isto deve-se apenas alterar o conjunto de treinamento para a tabela-verdade da função E, e o Perceptron responderá de forma correta. As operações E, OU e também as portas NÃO E e NÃO OU, que são combinações das portas NÃO-E e NÃO-OU, que funcionam como a inversa das funções E e OU, são funções aplicadas a um espaço linearmente separável, como foi mostrado no gráfico do espaço de decisão do Perceptr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32720" y="2346480"/>
            <a:ext cx="2087280" cy="22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bias" - neurônio especial da camada de entrada que serve para aumentar os graus de liberdade, permitindo uma melhor adaptação, por parte da rede neural, ao conhecimento à ela forneci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052-0A6A-4877-8366-E8CE5E91B6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956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operação OU-EXCLUSIVO (XOR), produz um espaço de entrada não-linearmente separável e, portanto, não pode ser simulada por um Perceptr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operação XOR demonstra a capacidade do Perceptron Multi-Camadas em solucionar problemas não-linearmente separáveis.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92720" y="3716280"/>
            <a:ext cx="3097080" cy="2751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mulando Portas Lógicas com Redes Neurais (Função XOR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476360" y="3716280"/>
            <a:ext cx="3311640" cy="16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B67-960B-4781-932C-DC2A639736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junto de treinamento utilizado é mostrado em detalhes (em lugar de 0 é utilizado 0,1 e, em vez de 1, 0.9):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mulando Portas Lógicas com Redes Neurais (Função XOR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3889440" cy="1577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60036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51B-7F45-4E7D-9BD1-6C1C48F8E6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tado final da rede após o treinamento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mulando Portas Lógicas com Redes Neurais (Função XOR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4680000" cy="3119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16000" y="5802120"/>
            <a:ext cx="7632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 esta arquitetura simples do Perceptron Multi-Camadas, a rede responde corretamente a problemas não-linearmente separáveis. Porém, para casos mais complexos, surge a necessidade de uma modelagem específica, podendo ser utilizadas mais unidades e mais camadas, com o objetivo de que se alcance o resultado espera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BF3-C098-4A2C-B242-5E3C5018DD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es Ne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638-0177-4941-B724-AECEA09FF5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1628640"/>
            <a:ext cx="7561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utura do neurônio arti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trutura de um neurônio é formada por um conjunto de links de conexão com outros neurônios (sinap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links podem ser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ada (dentritos): há um peso associado a cada link (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aída (axônio): o peso da saída é dado por uma função de ati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neurônios podem ser conectados diretamente ao ambiente 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função de transferência que dispara a 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9698-E82C-4D4D-9FE1-037C5C2146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do a soma dos pesos dos links de entrada (função de entrada) atingem um certo limiar o neurônio é disparado ativando a saída (função de ativ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es entrada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os entrada =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função ati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saída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2520720" cy="143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58920" y="5229360"/>
            <a:ext cx="74898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ção de transferência nos neurônios biológicos seria basicamente zero ou um, ou seja, há pulso sendo transmitido pelo axônio (um) quando a somatória suplanta um certo limiar, ou não há pulso sendo transmitido (zero) quando estiver abaixo do limiar. Ne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 de função de transferência tem-se a funçã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6A6-0AC6-45B3-A188-4500C3BB16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7200720" cy="4164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16000" y="1628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É importante lembrar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2276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ões de Ativa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EE1-BC57-4403-AD18-7B4CE2873C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e de memória associativa com pesos fix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nde a associar valores de entrada com valores de s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riz de pesos é determinada pela multiplicação do vetor de entrada com o de s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3094200" cy="1068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76360" y="5084640"/>
            <a:ext cx="54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vetores de saída no conjunto de trei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 vetor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 = índice dos link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= índice do neurônios de 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índice do conjunto de trei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1D4-7779-4718-B781-B8B3D6B4AB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42920" y="177300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N deve aprender as seguintes associ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ro -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hoven - Mú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ens - Pin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ção binária dos 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ro [1,-1,1,-1,1] = b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tura [1, -1, 1, -1] = a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hoven [1,1,1,-1,-1] = b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úsica [1,1,-1,-1] = a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ens [1,1,-1,-1,1] = b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tura [1,-1,-1,1] = a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0000" y="1773360"/>
            <a:ext cx="3384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áveis: m = 1,..,3; j=1,..,5; i=1,..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r como função de transferência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W - alguns ex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92720" y="4076640"/>
            <a:ext cx="3600360" cy="1924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1564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 - Ilustr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26B-F7FB-424B-9525-A6203B3C27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403280" y="1773360"/>
            <a:ext cx="7080120" cy="4254480"/>
            <a:chOff x="1403280" y="1773360"/>
            <a:chExt cx="7080120" cy="425448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1474560" y="1773360"/>
              <a:ext cx="700884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03280" y="5661000"/>
              <a:ext cx="8636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 - Ilustr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C07-CD0C-4335-857A-4E633F1684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7513920" cy="3798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58920" y="15573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oritmo de aprendizado supervisionado para redes de uma ca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 - Ilustr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192-C297-4C8F-B963-206FC499B9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9-01T10:21:54Z</dcterms:modified>
  <cp:revision>687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