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gif" ContentType="image/gif"/>
  <Override PartName="/ppt/media/image8.wmf" ContentType="image/x-wmf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4CB4-BEFD-4257-BB26-6A9F4ED3C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47EA-3C85-4EBB-B374-C648FB3B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02AD-4BE0-49BC-A07A-D0D97C432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8612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946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7756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78612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946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DF9B-1A98-4C8F-9AAD-04E98F1E9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BB488-E664-4F77-BDD3-FEB5E9F058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43E86-8209-4034-AF3B-48747E65A2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0394F-0D16-41B3-9783-1316E85C2B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24EF0-8B2C-4D14-B47E-8DDA457B74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615FA-D317-4137-B4A1-47026E717E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87280" y="277920"/>
            <a:ext cx="7715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42FAD-B756-4B2E-9523-ED306E81C9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AAE8A-7F29-4809-B658-9ECEC58EF0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196B-7DF5-4FE6-82B0-D6EACF72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809D4-3F0B-44BE-AA64-FE26755BBA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2E433-B864-44DF-9ACF-A773AB8BBD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5FDA2-EB59-43AF-AF1B-4802964AB7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8B459-0B37-4D83-8799-BCBC3973D8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78612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946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7756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78612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946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B7E6C-941B-4162-AC07-29272D0692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B538-C3BA-4D86-A239-F21AC4D1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C090-9048-41B9-B5E1-83F4E400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3384-04DA-4EE4-A223-448ED9DC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87280" y="277920"/>
            <a:ext cx="7715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62DB-11FE-4F77-B817-28B30B97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1693-1C65-44BD-A09C-0774B341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9D11-A748-4C3A-BE1C-B8B48194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6505-02C4-439A-A248-52493E4A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433F-953A-4F0A-A88C-9479F1422CE7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06200" y="6165720"/>
            <a:ext cx="720720" cy="620640"/>
            <a:chOff x="1062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62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EEI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70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07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996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14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66B5-0A9C-424F-B586-CBA21F3383DA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26920" y="6308280"/>
            <a:ext cx="649440" cy="476640"/>
            <a:chOff x="826920" y="6308280"/>
            <a:chExt cx="649440" cy="476640"/>
          </a:xfrm>
        </p:grpSpPr>
        <p:sp>
          <p:nvSpPr>
            <p:cNvPr id="56" name=""/>
            <p:cNvSpPr/>
            <p:nvPr/>
          </p:nvSpPr>
          <p:spPr>
            <a:xfrm>
              <a:off x="826920" y="6689880"/>
              <a:ext cx="64944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89000" y="6459480"/>
              <a:ext cx="35460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858240" y="6307920"/>
              <a:ext cx="35352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91160" y="6466680"/>
              <a:ext cx="3542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858960" y="6315480"/>
              <a:ext cx="35568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nd.com/neurosolutions/products/ns/nnandnsvideo.html" TargetMode="External"/><Relationship Id="rId2" Type="http://schemas.openxmlformats.org/officeDocument/2006/relationships/hyperlink" Target="http://fbim.fh-regensburg.de/~saj39122/begrolu/kohonen.html" TargetMode="Externa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neuron.eng.wayne.edu/software.html" TargetMode="External"/><Relationship Id="rId2" Type="http://schemas.openxmlformats.org/officeDocument/2006/relationships/hyperlink" Target="http://neuron.eng.wayne.edu/java/Perceptron/New38.html" TargetMode="External"/><Relationship Id="rId3" Type="http://schemas.openxmlformats.org/officeDocument/2006/relationships/hyperlink" Target="http://neuron.eng.wayne.edu/java/Perceptron/New38.html" TargetMode="External"/><Relationship Id="rId4" Type="http://schemas.openxmlformats.org/officeDocument/2006/relationships/hyperlink" Target="http://neuron.eng.wayne.edu/bpImageCompression9PLUS/bp9PLUS.html" TargetMode="External"/><Relationship Id="rId5" Type="http://schemas.openxmlformats.org/officeDocument/2006/relationships/hyperlink" Target="http://neuron.eng.wayne.edu/Hamming/voting.html" TargetMode="External"/><Relationship Id="rId6" Type="http://schemas.openxmlformats.org/officeDocument/2006/relationships/hyperlink" Target="http://www.jooneworld.com/" TargetMode="External"/><Relationship Id="rId7" Type="http://schemas.openxmlformats.org/officeDocument/2006/relationships/hyperlink" Target="http://www.jooneworld.com/docs/sampleEditor.html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Aprendizag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Parte I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Neurais Artifici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7920" y="1599840"/>
            <a:ext cx="7701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unida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alc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soma ponderada de suas entra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pois, aplica uma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função de ativ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Georgia"/>
              </a:rPr>
              <a:t>g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a essa soma para derivar a saí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905120" y="2343240"/>
                <a:ext cx="177948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833480" y="4292640"/>
                <a:ext cx="30592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32B6-BA92-4DDB-96C4-139DFFB9C8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 função de ativ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eorgia"/>
              </a:rPr>
              <a:t>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projetada para atender a dois propós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eja-se a unidade “ativa” (próxima de =1) quando as entradas “corretas” forem recebidas e “inativa” (próxima de 0) quando as entradas “erradas” forem receb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ativação precisa ser não-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63640" y="4076640"/>
            <a:ext cx="5888160" cy="2569320"/>
            <a:chOff x="1763640" y="4076640"/>
            <a:chExt cx="5888160" cy="256932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1763640" y="4076640"/>
              <a:ext cx="5799240" cy="221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340000" y="6308640"/>
              <a:ext cx="53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função de limiar (a)                     função sigmóide 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BC47-EFBB-43A7-B7A2-082BD62E81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ais de entrad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0 ou 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o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ores re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ad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ste modelo, o nível de ativida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é dado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...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aída y é dada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1, 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 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0, 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Neurônio Artifici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EC07-B16A-48AD-B16D-4DE81BE333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Aplica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7280" y="177300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bem simplifica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uponha que você está em uma encruzilhada com quatro caminhos a seguir, e precisa escolher o mais fáci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você nunca andou em nenhum deles, o peso de cada um é 1, ou seja, tanto faz escolher qualquer u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ocê escolhe um deles, e anda até descobrir um lago em que deve atravessar a nado. Pela dificuldade, você deve aumentar o peso deste caminho para 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do outra pessoa chegar na mesma encruzilhada, saberá que o caminho de maior peso é o mais difícil a segu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rede neural “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prend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” a determinar os pesos de acordo com as movimentações entre as paradas.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BE6B-7874-48B3-A85F-CD3D9E20FB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7280" y="1773360"/>
            <a:ext cx="7715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de Neural - Organização em Camadas (Exemplo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366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5737320" cy="3257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Neurais Artifi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C0F7-12B7-41D1-976E-3B19B3D3D5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87280" y="169992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camadas são classificadas em três grupos (usualmente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ada de Entra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nde os padrões são apresentados à red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adas Intermediárias ou Escondid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nde é feita a maior parte do processamento, através das conexões ponderadas; podem ser consideradas como extratoras de característica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ada de Saí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nde o resultado final é concluído e apresent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Neurais Artifi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F83D-63C2-47DB-B0EE-E29FBAD641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87280" y="169992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Redes Neurais:  Classificação dos Modelos Conexion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relação à estrutura da re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des de uma única cam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des de múltiplas cam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des do tipo uni-direc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des do tipo recorr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des com estrutura estática (não altera a sua estrutu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des com estrutura dinâmica (altera a estrutu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des com conexões de ordem sup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Neurais Artifi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9209-F1A6-463C-8539-3CCED7FF07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struturas de re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des acíclicas ou redes de alimentação dire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0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presentam uma função de sua entrada atua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550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ÃO têm nenhum estado interno além dos pes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550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des cíclicas ou redes recorr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0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tilizam suas saídas para realimentar suas próprias entrad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550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íveis de ativação da rede formam um sistema dinâm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57600" indent="-28476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de atingir um estado estável ou exibir oscilaçõ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50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resposta da rede a uma determinada entrada pode depender de entradas anteriores (como um flip-flop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C3E9-BE82-4D8C-A5C8-30F18EBFCA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de alimentação diret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 uma função de suas entr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dos os valores de entrada 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 rede calc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= g(W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3,5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+ W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4,5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= g(W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3,5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(W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,3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+ W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,3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+ W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4,5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(W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,4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+ W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,4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700360" y="2276640"/>
            <a:ext cx="4400640" cy="225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3CED-381F-4007-9B52-0F0FB19CD7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de alimentação diret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7280" y="169992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pressando a saída de cada unidade oculta como uma função de suas entradas percebe-se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uma função das entradas da re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pesos da rede atuam com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râmetr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ssa fun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rede calcula 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justando os pesos muda-se a função que a rede represen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rendizag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CDE0-DB8C-4E76-AA64-2A6C283124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rendiz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des Ne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282C-5376-4055-B2A7-BCD546CF04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187280" y="177300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cessos de Aprend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priedade mais importante das redes neurais é a habilidade de aprender com seu ambiente e com isso melhorar seu desempenh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o é feito através de um processo iterativo de ajustes aplicado a seus pesos, 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inamen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aprendizado ocorre quando a rede neural atinge uma solução generalizada para uma classe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Neurais Artifi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140E-EF02-4714-8577-F08B6E3F58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249200" y="191592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lgoritmo de Aprend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junto de regras bem definidas para a solução de um problema de aprendiz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em muitos tipos de algoritmos de aprendizado específicos para determinados modelos de redes neur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algoritmos diferem entre si principalmente pelo modo como os pesos são modific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Neurais Artifi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E78B-B2B9-4FD3-9130-9D3DCE1ED2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143000" y="1706400"/>
            <a:ext cx="7966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Redes Neurais: Classificação - Aprend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relação ao aprendiz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rendizado supervisio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rendizado semi-supervisio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rendizado não supervisio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rendizado instantân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rendizado por pac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rendizado contínu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rendizado 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rendizado: aproximação de fun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rendizado: classif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ar apenas uma base de exemplos de aprend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ar uma base de aprendizado e uma base de teste de generaliz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Neurais Artifi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9D50-E89D-4D67-9232-B8FE97CDD7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87280" y="184428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Redes Neurais:  Classificação dos Modelos Conexion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relação as unidades da re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des baseadas em Perceptrons (MLP -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ulti-Layer Perceptro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des baseadas em Protótipos (RBF -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Radial Basis Functio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Neurais Artifi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62FA-B95B-457E-B74F-D402893427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916360" y="1700280"/>
            <a:ext cx="5905440" cy="4935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332000" y="184464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s de Redes Neur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Neurais Artifi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18F9-2E6C-4DC1-AD0E-26069081A76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187280" y="169992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plicações Pr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onhecimento de Padrões: Caracteres, Imagens, Voz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de Auxílio ao Diagnóstico: Médico, Falhas Mecânica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obótica Inteli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visão: Tempo, Cotações da Bolsa de Valore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de Cont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amento de Si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cessamento de Linguagem Na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Neurais Artifi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9415-352C-4CD4-B2B2-1084A3D3B04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116000" y="1699920"/>
            <a:ext cx="7956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plicações Pr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://www.nd.com/neurosolutions/products/ns/nnandnsvideo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fbim.fh-regensburg.de/~saj39122/begrolu/kohone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Neurais Artifi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1903-63E4-4DBA-9634-7F0F5EEF23B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187280" y="177300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 de uso prático no Brasi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Visanet, operadora de cartões de crédi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empresa implantou um sistema de rede neural, batizado de Lynx, que detecta possíveis fraudes em transações com cartã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ase de dados fornece um histórico e o hábito de consumo de cada número de cartão de crédito Visa emitido no paí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úmero de transações anteriores: mais de 850 milhõ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ão emitidos alertas para os bancos toda vez que o Lynx detecta variáveis fora dos padrões e, portanto, a possibilidade de frau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sistema compara o comportamento de cada transação com os padrões armazenados na base de dad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ma despesa em um estabelecimento comercial nunca utilizado antes por determinado cartão, por exemplo, gera uma variáve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cadastro e o histórico do próprio estabelecimento comercial geram outras variáveis ­ que levam em conta fatores como a ocorrência de casos anteriores de frau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oma dessas variáveis resulta em um índice de probabilidade de fraude que vai de 1% a 100%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Aplica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1116000" y="6385320"/>
            <a:ext cx="7632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ynx (lince) - animal que os antigos acreditavam ter o poder de enxergar através de pared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5BB0-5526-4BA5-B5A2-9B7A9126B76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42560" y="170640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Reconhecimento de fala – reconhecer 1 de 10 vogais entre h_d (em inglê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1 e F2: parâmetros retirados da análise espectral do som da palav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8897760" cy="32418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Aplica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E45D-876C-4590-ACC6-34FBBACFEC4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Neural Networks Java Applet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Perceptron</a:t>
            </a:r>
            <a:r>
              <a:rPr b="0" lang="pt-BR" sz="20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 Learning Rule (CNNL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Image Compression Using Backprop (CNN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Generalizations of the Hamming Associative Memory (CNNL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Joone - Java Object Oriented Neural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cc00"/>
                </a:solidFill>
                <a:uFillTx/>
                <a:latin typeface="Arial"/>
                <a:hlinkClick r:id="rId7"/>
              </a:rPr>
              <a:t>Porta X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mulador de Redes Neurais: SNNS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tuttgart Neural Network Simulat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Aplica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1090440" y="6385320"/>
            <a:ext cx="78494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te: Java Demonstrations of Neural Net Concepts, http://neuron.eng.wayne.edu/software.htm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D782-A1F6-4D2E-945D-23B5D46514F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Neur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419640" y="3390840"/>
          <a:ext cx="5040000" cy="33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3390840"/>
                    <a:ext cx="504000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187280" y="4221000"/>
            <a:ext cx="20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mponentes de um neurô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1600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uma célula do cérebro cuja principal função é coletar, processar e disseminar sinais elétr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redita-se que a capacidade de processamento de informações no cérebro vem de redes de neurôn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2C52-BB8E-4B01-ACF0-F05D1BA1C5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187280" y="1555560"/>
            <a:ext cx="771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 que utilizá-las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ização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dem aprender através de conjuntos de exemplos e apresentar respostas coerentes para entradas não vistas durante o treinamento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ptabilidad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dem adaptar-se a um novo ambiente através de alterações em seus pesos sinápticos. Também podem ser projetadas para alterarem seus pesos em tempo real ou para operarem em ambientes que variem com o temp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ção Contextua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am as informações contextuais de forma natural, uma vez que o processamento de um neurônio é afetado pelo processamento de outros neurônios da rede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formidad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mesma notação é utilizada em diferentes domínios de  aplicações; os neurônios são encontrados em todas as redes neurais; é possivel utilizar os mesmos algoritmos de aprendizagem e teorias em diversas apllicações; através da integração homogênea de módulos, podemos construir redes modulares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Neurais Artifi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F790-BE9C-45B1-8CD1-E827323254D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187280" y="169992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Vanta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quisição automática de conhecimentos empíricos a partir de uma base de exemplos de aprendizado referente a um proble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nipulação de dados quantitativos, aproximados e mesmo incorretos com uma degradação gradual das respost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rande poder de representação de conhecimentos através da criação de relações ponderadas entre as entradas do siste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Neurais Artifi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F6DE-43AF-4C38-959F-661F63FE216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87280" y="169992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Desvanta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ficuldade de configuração das redes em relação à sua estrutura inicial e também no que se refere aos parâmetros dos algoritmos de aprendizad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ficuldade de explicitar os conhecimentos adquiridos pela rede através de uma linguagem compreensível para um ser human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ficuldade de convergência (bloqueios) e instabilidade, inerentes aos algoritmos de otimização empregad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ntidão” do processo de aprendizado / adapt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Neurais Artifi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7530-5D47-4B40-9ECE-51ADF21130A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rendiz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6912000" cy="39225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258920" y="1557360"/>
            <a:ext cx="60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Sistemas Inteligentes Híbri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5CDB-DF03-4BB5-AD7E-1574B2BD3D1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rendiz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54560" y="1844640"/>
            <a:ext cx="8355960" cy="4687920"/>
            <a:chOff x="754560" y="1844640"/>
            <a:chExt cx="8355960" cy="4687920"/>
          </a:xfrm>
        </p:grpSpPr>
        <p:sp>
          <p:nvSpPr>
            <p:cNvPr id="189" name=""/>
            <p:cNvSpPr/>
            <p:nvPr/>
          </p:nvSpPr>
          <p:spPr>
            <a:xfrm>
              <a:off x="5754600" y="2514600"/>
              <a:ext cx="2087640" cy="1219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04800" y="5157720"/>
              <a:ext cx="1944720" cy="750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Sistemas baseados 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Redes Neura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730760" y="2474640"/>
              <a:ext cx="0" cy="3429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68280" y="3048120"/>
              <a:ext cx="1439280" cy="531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Red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Bayesia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97840" y="4437000"/>
              <a:ext cx="1392120" cy="531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Algoritm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genét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50440" y="3048120"/>
              <a:ext cx="1631160" cy="531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Sistem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Especialis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47200" y="3008160"/>
              <a:ext cx="1353960" cy="750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Sistem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Nebulo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(fuzz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92160" y="4608360"/>
              <a:ext cx="2181600" cy="832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Sistemas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Aprendizag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simbólica indu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84840" y="2590920"/>
              <a:ext cx="2038320" cy="311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Sistemas de PL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28680" y="4078440"/>
              <a:ext cx="55562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08840" y="1844640"/>
              <a:ext cx="4342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conhecimento intensional (regra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364120" y="6165720"/>
              <a:ext cx="4795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conhecimento extensional (exemplo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9640" y="3922560"/>
              <a:ext cx="1370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simból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4560" y="3860640"/>
              <a:ext cx="1329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numér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45920" y="4532400"/>
              <a:ext cx="1224360" cy="750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Sistem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base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em ca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36120" y="3962520"/>
              <a:ext cx="896760" cy="311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Robô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7F37-2869-4CAB-8F2B-F140404AC98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mponentes de um Neurô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xôni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transmissão de sinais a partir do corpo celular; poucas ramificações e comprid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ndri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conduzem sinais para a célula; têm muitas ramificações (zonas receptiva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naps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estruturas funcionais elementares que mediam as conexões entre os neurôn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Neur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4E72-67F6-4708-8D42-9682B6BB5D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87280" y="191592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sticidade de um neurôni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– capacidade de adaptação ao amb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canismos de Plasticidade (cérebro de um adul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iação de novas conexões sináp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dificação das sinapses 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sticidade - essencial para as Redes Neurais Artifi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Neur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0498-94EE-415A-876F-EB32915494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Neurociência computacion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7280" y="169992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elo matemático do neurônio criado por McCulloch e Pitts (194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esse nas propriedades mais abstratas da 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abilidade para executar computação distribuí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abilidade para tolerar entradas ruido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Habilidade para apr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ma das formas mais populares e efetivas de sistemas de aprendiz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FE11-AF39-4818-AE20-B9A44923DE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1547640" y="1916280"/>
          <a:ext cx="6840720" cy="47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916280"/>
                    <a:ext cx="684072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1476360" y="1557360"/>
            <a:ext cx="43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spiração Bi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Neurais Artifici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5EBE-3D8B-45DC-BB2A-C3C42AC9B9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86920" y="1628640"/>
            <a:ext cx="7642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eurônio artificial projetado por McCulloch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Pit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94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140360" y="3284640"/>
            <a:ext cx="4897440" cy="1714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116000" y="2205000"/>
            <a:ext cx="30970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ais são apresentados à entra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a sinal é multiplicado por um número, ou peso, que indica a sua influência na saída da unidad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 feita a soma ponderada dos sinais que produz um nível de atividad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este nível de atividade exceder um certo limite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resh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 unidade produz uma determinada resposta de saí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24360" y="530064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unção de ativ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877080" y="4363920"/>
            <a:ext cx="6476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Neurônio Artifici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B6D8-66B0-4D56-8C27-61B8D789CE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Neurônio Artifici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159876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para” quando uma combinação linear de suas entradas excede algum limi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 rot="21540000">
            <a:off x="1476360" y="2997000"/>
            <a:ext cx="7164360" cy="299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32F5-CC13-4E05-B29F-4037953C00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8-29T09:55:16Z</dcterms:modified>
  <cp:revision>696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