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3EC-074A-45B0-9139-5CE71751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909-1A8F-4216-9BE7-362E903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559-A392-4DC0-943B-2E5347AB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302-411B-4B9F-A5A9-8BEDB9D5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C6558-8AB8-4140-842C-1D2645C3F3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09C3A-6F53-4089-8EDB-95A06ABB7C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59E6B-FD00-4962-9E68-464767F9B4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007B4-9D34-417B-BC9F-6F9B2AA010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0C2F-FA1E-4A16-AACD-FA41822D7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8E0A1-A5E9-4482-BE4B-91B0C6D8E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46E77-91AF-47FD-8E75-2830EDC31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1C8-3C41-4A49-88E9-0A4DD1C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FA506-8056-48CC-824B-89F3FAB5F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0077D-6480-4DA9-828E-72FC96C00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26C73-8021-4818-8C2E-808B138F7C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72DC4-76C5-4C04-872F-A73D034673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51046-77C2-49B9-AEEE-5AAFBE939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19E-8C7F-4B2E-90FB-0236628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983-C666-47BD-B6C0-5610BF58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1BF-D83D-40EB-B757-DF6F73D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D82-BB56-408B-8402-470D6880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34C-C8E9-41E4-8ACB-F932145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972-7B5D-4DD3-8885-86FDAB67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3DF-41AE-427B-BC49-98DE3F2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F8C4-B909-489B-B5AD-317D4CCC774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0666-4D1F-4F57-A0A1-F3AA11260F3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65440"/>
            <a:ext cx="576360" cy="476640"/>
            <a:chOff x="900000" y="626544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900000" y="664704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2560" y="64166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27000" y="626508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4720" y="64238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28440" y="627264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.ualberta.ca/~aixplore/learning/DecisionTrees/Applet/DecisionTreeApplet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 - Ex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129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292720" y="1773360"/>
                <a:ext cx="30751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1619280" y="2205000"/>
            <a:ext cx="5977080" cy="4146480"/>
            <a:chOff x="1619280" y="2205000"/>
            <a:chExt cx="5977080" cy="41464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619280" y="2205000"/>
              <a:ext cx="5977080" cy="41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435640" y="2349360"/>
              <a:ext cx="20160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4000" y="2421000"/>
              <a:ext cx="144720" cy="71280"/>
            </a:xfrm>
            <a:custGeom>
              <a:avLst/>
              <a:gdLst/>
              <a:ahLst/>
              <a:rect l="l" t="t" r="r" b="b"/>
              <a:pathLst>
                <a:path w="151" h="98">
                  <a:moveTo>
                    <a:pt x="0" y="0"/>
                  </a:moveTo>
                  <a:cubicBezTo>
                    <a:pt x="60" y="42"/>
                    <a:pt x="121" y="84"/>
                    <a:pt x="136" y="91"/>
                  </a:cubicBezTo>
                  <a:cubicBezTo>
                    <a:pt x="151" y="98"/>
                    <a:pt x="121" y="71"/>
                    <a:pt x="91" y="45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16000" y="638172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ção da Entropia a medida que a proporção de positivos e negativos se alt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2EE-4ED8-4494-98A6-D2228382C8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destinatário sabe que o exemplo selecionado será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nhuma mensagem precisa ser envi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opia é 0 (mín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0.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 bit é necessário para indicar se o exemplo selecionado é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opia é 1 (máx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0.8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tão uma coleção de mensagens podem ser codificadas usando-se - em média menos de um bit - códigos mais curtos para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 mais longos para  </a:t>
            </a:r>
            <a:r>
              <a:rPr b="0" lang="pt-B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260360" y="6093000"/>
            <a:ext cx="7272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ia(S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&gt; especifica o número mínimo de bits de informação necessário para codificar uma classificação de um membro arbitrário de 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C4C-CDD4-4CEE-88E8-35723AF4A4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e a redução na entrop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anho(S,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ignifica a redução esperada na entropi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rdenando pelo atributo 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responder à pergunta anterior, "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o escolher o melhor atributo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 é usado o ga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ada iteração do algoritmo é escolhido o atributo que apresente uma maior ganh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58920" y="3141720"/>
                <a:ext cx="7655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ho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alore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tropi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260360" y="6141960"/>
            <a:ext cx="727236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b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 valore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) é o conjunto de todos possíveis valores para o atributo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, 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é o subconjunto d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para qual o atributo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em valor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820-3F46-4628-AE58-D0A9EDC1E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a impureza do conjunto de tre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umindo o valor máximo (1) quando existem tantos elementos positivos como negativos, e o valor mínimo (0) quando todos os elementos são da mesm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anho de 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dução esperada no valor da Entropia, devido à ordenação do conjunto de treino segundo os valores do atribu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856-E80A-435A-8659-0B47D585C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imeiro pas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são analisados todos os atributos, começando pel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6360" y="2349360"/>
                <a:ext cx="5256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opi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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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332000" y="3597120"/>
            <a:ext cx="3025800" cy="2137320"/>
            <a:chOff x="1332000" y="3597120"/>
            <a:chExt cx="3025800" cy="2137320"/>
          </a:xfrm>
        </p:grpSpPr>
        <p:sp>
          <p:nvSpPr>
            <p:cNvPr id="174" name=""/>
            <p:cNvSpPr/>
            <p:nvPr/>
          </p:nvSpPr>
          <p:spPr>
            <a:xfrm>
              <a:off x="1981080" y="3597120"/>
              <a:ext cx="14400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Umidade 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2000" y="43178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6360" y="43178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79640" y="395748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0360" y="395748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0" y="49068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3+, 4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16360" y="49068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6+, 1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1080" y="467640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5440" y="467640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33440" y="539712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985       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5877000"/>
                <a:ext cx="5236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Umidad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Umidad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1"/>
          <a:srcRect l="40396" t="38195" r="21208" b="20466"/>
          <a:stretch/>
        </p:blipFill>
        <p:spPr>
          <a:xfrm>
            <a:off x="5580000" y="3284640"/>
            <a:ext cx="2952720" cy="2384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4965" t="56903" r="77316" b="39174"/>
          <a:stretch/>
        </p:blipFill>
        <p:spPr>
          <a:xfrm>
            <a:off x="6372360" y="6308640"/>
            <a:ext cx="2340000" cy="389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516720" y="6021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bs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6021360"/>
            <a:ext cx="230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3E5-8DCF-40F8-95F7-1820181C80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42560" y="1483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lculando o ganho para todos os atribut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que o tem maior ganho é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pecto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56000" y="2421000"/>
                <a:ext cx="1145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6035760"/>
                <a:ext cx="6120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spect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,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spect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" descr=""/>
          <p:cNvPicPr/>
          <p:nvPr/>
        </p:nvPicPr>
        <p:blipFill>
          <a:blip r:embed="rId1"/>
          <a:srcRect l="40396" t="38195" r="21208" b="20466"/>
          <a:stretch/>
        </p:blipFill>
        <p:spPr>
          <a:xfrm>
            <a:off x="6084720" y="3659040"/>
            <a:ext cx="28800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114560" y="3284640"/>
            <a:ext cx="4033800" cy="2052000"/>
            <a:chOff x="1114560" y="3284640"/>
            <a:chExt cx="4033800" cy="2052000"/>
          </a:xfrm>
        </p:grpSpPr>
        <p:sp>
          <p:nvSpPr>
            <p:cNvPr id="195" name=""/>
            <p:cNvSpPr/>
            <p:nvPr/>
          </p:nvSpPr>
          <p:spPr>
            <a:xfrm>
              <a:off x="2482920" y="3284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0560" y="3932280"/>
              <a:ext cx="10080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54560" y="3932280"/>
              <a:ext cx="1152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24360" y="3932280"/>
              <a:ext cx="1079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30920" y="3645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63640" y="3645000"/>
              <a:ext cx="1366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30920" y="3645000"/>
              <a:ext cx="1368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57480" y="4508640"/>
              <a:ext cx="11541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2+, 3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56000" y="4508640"/>
              <a:ext cx="1150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4+, 0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4560" y="4999320"/>
              <a:ext cx="40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971      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       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9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51640" y="4508640"/>
              <a:ext cx="1150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3+, 2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528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3092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928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64000" y="1989000"/>
                <a:ext cx="302436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midade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ento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8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specto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7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>
            <a:off x="7667280" y="3284640"/>
            <a:ext cx="863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35280" y="522900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5445000"/>
            <a:ext cx="7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445000"/>
            <a:ext cx="792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941-2CC2-4009-AE6A-856807458F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42560" y="1483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próximo passo o atribu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pec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já não é conside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07960" y="1844640"/>
            <a:ext cx="7223040" cy="2677680"/>
            <a:chOff x="1407960" y="1844640"/>
            <a:chExt cx="7223040" cy="2677680"/>
          </a:xfrm>
        </p:grpSpPr>
        <p:sp>
          <p:nvSpPr>
            <p:cNvPr id="217" name=""/>
            <p:cNvSpPr/>
            <p:nvPr/>
          </p:nvSpPr>
          <p:spPr>
            <a:xfrm>
              <a:off x="4210200" y="22176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95640" y="30830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0200" y="30830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7480" y="30830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95640" y="38736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97480" y="38736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9280" y="257796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769840" y="2577960"/>
              <a:ext cx="208908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9280" y="2577960"/>
              <a:ext cx="20876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43280" y="34416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46920" y="34416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1640" y="3860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93960" y="350028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2+, 3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10320" y="350028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4+, 0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59280" y="3427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99400" y="350028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3+, 2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3720" y="184464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9+, 5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30840" y="22287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[D1, D2, ...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7960" y="4221000"/>
              <a:ext cx="2043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Sol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1, D2, D8, D9, D1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4760" y="4221000"/>
              <a:ext cx="204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Nuvens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3, D7, D12, D1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6160" y="4221000"/>
              <a:ext cx="227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Chuva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4, D5, D6, D10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32000" y="4788000"/>
                <a:ext cx="71276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l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midade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l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em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 flipH="1" flipV="1">
            <a:off x="4140360" y="6444720"/>
            <a:ext cx="86328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281-6559-4B65-8A03-6529E5497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m todos os nós a entropia for nula, o algoritmo para e obtêm-se a seguinte Árvore de decis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26440" y="2637000"/>
            <a:ext cx="7752600" cy="3771360"/>
            <a:chOff x="1126440" y="2637000"/>
            <a:chExt cx="7752600" cy="3771360"/>
          </a:xfrm>
        </p:grpSpPr>
        <p:sp>
          <p:nvSpPr>
            <p:cNvPr id="243" name=""/>
            <p:cNvSpPr/>
            <p:nvPr/>
          </p:nvSpPr>
          <p:spPr>
            <a:xfrm>
              <a:off x="4205160" y="2637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90600" y="35020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5160" y="35020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92800" y="35020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0600" y="4292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Um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69880" y="50133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54240" y="50133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92800" y="4292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V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30960" y="501336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ra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5320" y="501336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or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8960" y="567540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19680" y="566100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6400" y="566100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4240" y="429264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4040" y="566100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54600" y="2997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765160" y="2997360"/>
              <a:ext cx="2089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54600" y="2997360"/>
              <a:ext cx="2087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8600" y="386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42240" y="386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117880" y="465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38600" y="4653000"/>
              <a:ext cx="86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788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352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8004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440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53160" y="3860640"/>
              <a:ext cx="1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078240" y="465300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42240" y="465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24360" y="263700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[D1, D2, ...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7000" y="4653000"/>
              <a:ext cx="204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Nuvens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3, D7, D12, D1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6440" y="6093000"/>
              <a:ext cx="1716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Sol,Elevada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1, D2, D8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83840" y="6107040"/>
              <a:ext cx="1512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Sol,Normal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9, D1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6640" y="6093000"/>
              <a:ext cx="1566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Chuva,Fraco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6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38720" y="6093000"/>
              <a:ext cx="184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Chuva,Forte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4, D5, D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532-8EF7-43AD-ABC4-AECF138DF9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implem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cs.ualberta.ca/%7Eaixplore/learning/DecisionTrees/Applet/DecisionTreeApple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8A4-BC33-41F6-B6E0-5E715C043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 - 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D56-5511-41C4-8625-800D8C249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1773360"/>
            <a:ext cx="7201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a uma Árvore de decisão (Ad) para o seguinte problema: Decidir se vou Jogar Tê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âmetros do ambi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specto do Céu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Temperatur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midade 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V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F77-42FB-405D-B5D3-852D84DE6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3213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xemplos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6524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GFB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59280" y="1773360"/>
          <a:ext cx="5616360" cy="4522680"/>
        </p:xfrm>
        <a:graphic>
          <a:graphicData uri="http://schemas.openxmlformats.org/drawingml/2006/table">
            <a:tbl>
              <a:tblPr/>
              <a:tblGrid>
                <a:gridCol w="576360"/>
                <a:gridCol w="1008000"/>
                <a:gridCol w="1008000"/>
                <a:gridCol w="1152360"/>
                <a:gridCol w="863640"/>
                <a:gridCol w="10080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gar Tên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D5D-6213-44DF-94D1-F8C76A58E6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1337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Árvore de Decisão para Jogar Tê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4920" y="2924280"/>
            <a:ext cx="6842160" cy="3375360"/>
            <a:chOff x="1474920" y="2924280"/>
            <a:chExt cx="6842160" cy="3375360"/>
          </a:xfrm>
        </p:grpSpPr>
        <p:sp>
          <p:nvSpPr>
            <p:cNvPr id="112" name=""/>
            <p:cNvSpPr/>
            <p:nvPr/>
          </p:nvSpPr>
          <p:spPr>
            <a:xfrm>
              <a:off x="4210200" y="2924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5640" y="3789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0200" y="3789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97840" y="3789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5640" y="45795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Um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7492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928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7840" y="45795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V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564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ra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000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or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4000" y="596232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24720" y="594828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1080" y="594828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9280" y="594828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9080" y="594828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9640" y="328428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70200" y="3284280"/>
              <a:ext cx="208944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59640" y="3284280"/>
              <a:ext cx="208728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43280" y="41479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46920" y="41479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122560" y="4939920"/>
              <a:ext cx="72072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43280" y="4939920"/>
              <a:ext cx="863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256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856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508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6944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9640" y="414792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82920" y="4939920"/>
              <a:ext cx="863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6920" y="4939920"/>
              <a:ext cx="72072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919-7A5A-465D-AE16-275A68ABE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construir a 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 ID3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ductive decision tre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um dos mais utilizados para a construção de 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ssos do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eçar com todos os exemplos de trei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her o teste (atributo) que melhor divide os exemplos, ou seja agrupar exemplos da mesma classe ou exemplos semelhant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 o atributo escolhido, criar um nó filho para cada valor possível do atribu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portar os exemplos para cada filho tendo em conta o valor do filh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etir o procedimento para cada filho não "puro". Um filho é puro quando cada atributo X tem o mesmo valor em todos os exemplo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6EB-E7D9-49FC-A550-F9587E204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scolher o melhor atribu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93E-1C18-46C6-BF7B-9618A3CA8E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ntropia de um conjunto pode ser definida como sendo uma medida do grau de impureza do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 conceito define a medida de "falta de informação", mais precisamente o número de bits necessários, em média, para representar a informação em falta, usando codificação ó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opia é uma medida da aleatoriedade de uma vari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E56-E082-4D4C-A97F-7BBB8AB93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um conjun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instâncias pertencentes à class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probabilida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em-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o conjunto de exemplo de trei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a porção de exemplos positiv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é a porção de exemplos negat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ntropia(S) = 0 se existe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l qu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ssumido que 0 * log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2997360"/>
                <a:ext cx="3894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0000" y="4149720"/>
                <a:ext cx="5429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877080" y="5084640"/>
            <a:ext cx="1871640" cy="143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= 1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, por exemplo, o receptor sabe que o exemplo tirado será positivo, assim não há necessidade de enviar mensagem, e a entropia é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43640" y="5660640"/>
            <a:ext cx="36036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087-3F40-43E7-B8BC-6E97A68F3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9T09:53:42Z</dcterms:modified>
  <cp:revision>73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