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692-EC46-4F34-BA4E-33049B93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6A3-F973-4E6C-A6C0-6F9DB396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A3E-E69F-4A52-9BDD-6CD60EE1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B3F-0554-4FBB-A754-5C6BF425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651FD-5B48-404D-B583-169109AF0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E6FDF-9260-4FC7-B1B8-A5E065D1A2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8A008-55A8-442F-9CC8-E45303CDE1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5665D-3F49-483F-938F-6707148C7E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3518C-9E79-4EA1-A700-72E4145ABC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2DF8D-2E72-43E4-899B-1FB4E30D56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0CEBE-3043-4D88-8219-73EA47C598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FD6-2C6B-407B-9ECA-01792E9B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A3145-5CE4-437A-BDAB-38A734CE9D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2D2DB-D028-46FC-B5CE-BDA24C76C0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FD669-996D-414C-A753-CA37AE2852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5231C-6A02-43F7-98DD-71BC59B763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5337D-3A12-44CF-B1DB-AA33CA1363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319-883A-456D-A89F-AFED7DE3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FBB-C887-4689-8A7C-71D9B669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3C5-9346-4091-8EDD-8A42AB75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19C-E69F-4544-A451-E8AB2164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43C-2BB5-418D-B8E5-7AD5453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17A-01D8-4F05-9FD4-3F99C9F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05E-5F84-452D-BA3F-3F45E40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AA66-3AA4-4ECE-801C-E61A228CD3A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5DCF-CB51-4FC2-8F30-27FD8B8793D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65440"/>
            <a:ext cx="576360" cy="476640"/>
            <a:chOff x="900000" y="626544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900000" y="664704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2560" y="64166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27000" y="626508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4720" y="64238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28440" y="627264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domínio do restau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objetivo é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definição para o predicado met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perar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a definição é expressa como uma árvore de dec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3573360"/>
            <a:ext cx="3652920" cy="26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846-B533-49EA-9B29-D5A5BCBE74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sperar ou não uma mesa em um restaur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ributos disponí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há um outro restaurante apropriado por per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o restaurante tem uma área de bar confortável para esper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x/Sa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verdadeiro às sextas e sáb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mi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Estamos com f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Quantas pessoas estão no restaur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faixa de preços do restau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hoven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Está chovendo do lado de f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erv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Fizemos uma reser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Qual o tipo do restaur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pera estima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espera estimada pelo g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58560" y="260280"/>
            <a:ext cx="504036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 Restaurante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21A-73BF-4548-9AA6-7B779BD809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6920" y="101520"/>
            <a:ext cx="396108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Restaurante ..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43080" y="1052640"/>
            <a:ext cx="7576920" cy="5567400"/>
            <a:chOff x="1243080" y="1052640"/>
            <a:chExt cx="7576920" cy="5567400"/>
          </a:xfrm>
        </p:grpSpPr>
        <p:sp>
          <p:nvSpPr>
            <p:cNvPr id="125" name=""/>
            <p:cNvSpPr/>
            <p:nvPr/>
          </p:nvSpPr>
          <p:spPr>
            <a:xfrm>
              <a:off x="3244680" y="1052640"/>
              <a:ext cx="10908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lient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84160" y="5399280"/>
              <a:ext cx="663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a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1280" y="4281480"/>
              <a:ext cx="1208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Sex/Sab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11120" y="4260960"/>
              <a:ext cx="11876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serv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3440" y="3245040"/>
              <a:ext cx="1149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Famint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4360" y="3238560"/>
              <a:ext cx="13813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lternativ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2057400"/>
              <a:ext cx="2004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speraEstimad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30960" y="5399280"/>
              <a:ext cx="13255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hovend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27640" y="625176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43080" y="625176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0280" y="53992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43120" y="320364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49600" y="203832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16640" y="53992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93960" y="539928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7280" y="53992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5680" y="429732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70680" y="324180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62120" y="203832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720" y="4287960"/>
              <a:ext cx="13809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lternativ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4360" y="625176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66840" y="625176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25" idx="2"/>
              <a:endCxn id="137" idx="0"/>
            </p:cNvCxnSpPr>
            <p:nvPr/>
          </p:nvCxnSpPr>
          <p:spPr>
            <a:xfrm flipH="1">
              <a:off x="2980440" y="1428480"/>
              <a:ext cx="81036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>
              <a:stCxn id="125" idx="2"/>
              <a:endCxn id="143" idx="0"/>
            </p:cNvCxnSpPr>
            <p:nvPr/>
          </p:nvCxnSpPr>
          <p:spPr>
            <a:xfrm>
              <a:off x="3790440" y="1428480"/>
              <a:ext cx="396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25" idx="2"/>
              <a:endCxn id="131" idx="0"/>
            </p:cNvCxnSpPr>
            <p:nvPr/>
          </p:nvCxnSpPr>
          <p:spPr>
            <a:xfrm>
              <a:off x="3790800" y="1428840"/>
              <a:ext cx="1556640" cy="629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31" idx="2"/>
              <a:endCxn id="136" idx="0"/>
            </p:cNvCxnSpPr>
            <p:nvPr/>
          </p:nvCxnSpPr>
          <p:spPr>
            <a:xfrm flipH="1">
              <a:off x="2073960" y="2433240"/>
              <a:ext cx="3272760" cy="77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31" idx="2"/>
              <a:endCxn id="130" idx="0"/>
            </p:cNvCxnSpPr>
            <p:nvPr/>
          </p:nvCxnSpPr>
          <p:spPr>
            <a:xfrm flipH="1">
              <a:off x="4074120" y="2433600"/>
              <a:ext cx="1272600" cy="80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31" idx="2"/>
              <a:endCxn id="129" idx="0"/>
            </p:cNvCxnSpPr>
            <p:nvPr/>
          </p:nvCxnSpPr>
          <p:spPr>
            <a:xfrm>
              <a:off x="5346720" y="2433600"/>
              <a:ext cx="972000" cy="81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31" idx="2"/>
              <a:endCxn id="142" idx="0"/>
            </p:cNvCxnSpPr>
            <p:nvPr/>
          </p:nvCxnSpPr>
          <p:spPr>
            <a:xfrm>
              <a:off x="5346360" y="2433240"/>
              <a:ext cx="2856600" cy="80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30" idx="2"/>
              <a:endCxn id="128" idx="0"/>
            </p:cNvCxnSpPr>
            <p:nvPr/>
          </p:nvCxnSpPr>
          <p:spPr>
            <a:xfrm flipH="1">
              <a:off x="2804400" y="3614400"/>
              <a:ext cx="127044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30" idx="2"/>
              <a:endCxn id="127" idx="0"/>
            </p:cNvCxnSpPr>
            <p:nvPr/>
          </p:nvCxnSpPr>
          <p:spPr>
            <a:xfrm>
              <a:off x="4074480" y="3614760"/>
              <a:ext cx="381960" cy="66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29" idx="2"/>
              <a:endCxn id="141" idx="0"/>
            </p:cNvCxnSpPr>
            <p:nvPr/>
          </p:nvCxnSpPr>
          <p:spPr>
            <a:xfrm flipH="1">
              <a:off x="5727240" y="3621240"/>
              <a:ext cx="591120" cy="67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29" idx="2"/>
              <a:endCxn id="144" idx="0"/>
            </p:cNvCxnSpPr>
            <p:nvPr/>
          </p:nvCxnSpPr>
          <p:spPr>
            <a:xfrm>
              <a:off x="6318000" y="3621240"/>
              <a:ext cx="889920" cy="66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28" idx="2"/>
              <a:endCxn id="126" idx="0"/>
            </p:cNvCxnSpPr>
            <p:nvPr/>
          </p:nvCxnSpPr>
          <p:spPr>
            <a:xfrm flipH="1">
              <a:off x="2115720" y="4636800"/>
              <a:ext cx="6897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"/>
            <p:cNvCxnSpPr>
              <a:stCxn id="128" idx="2"/>
              <a:endCxn id="140" idx="0"/>
            </p:cNvCxnSpPr>
            <p:nvPr/>
          </p:nvCxnSpPr>
          <p:spPr>
            <a:xfrm>
              <a:off x="2804760" y="4636800"/>
              <a:ext cx="1544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" name=""/>
            <p:cNvCxnSpPr>
              <a:stCxn id="127" idx="2"/>
              <a:endCxn id="135" idx="0"/>
            </p:cNvCxnSpPr>
            <p:nvPr/>
          </p:nvCxnSpPr>
          <p:spPr>
            <a:xfrm flipH="1">
              <a:off x="4101480" y="4657680"/>
              <a:ext cx="354960" cy="74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"/>
            <p:cNvCxnSpPr>
              <a:stCxn id="127" idx="2"/>
              <a:endCxn id="139" idx="0"/>
            </p:cNvCxnSpPr>
            <p:nvPr/>
          </p:nvCxnSpPr>
          <p:spPr>
            <a:xfrm>
              <a:off x="4455720" y="4657680"/>
              <a:ext cx="470520" cy="74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" name=""/>
            <p:cNvCxnSpPr>
              <a:stCxn id="144" idx="2"/>
              <a:endCxn id="138" idx="0"/>
            </p:cNvCxnSpPr>
            <p:nvPr/>
          </p:nvCxnSpPr>
          <p:spPr>
            <a:xfrm flipH="1">
              <a:off x="6747480" y="4664160"/>
              <a:ext cx="459720" cy="73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"/>
            <p:cNvCxnSpPr>
              <a:stCxn id="144" idx="2"/>
              <a:endCxn id="132" idx="0"/>
            </p:cNvCxnSpPr>
            <p:nvPr/>
          </p:nvCxnSpPr>
          <p:spPr>
            <a:xfrm>
              <a:off x="7206840" y="4664160"/>
              <a:ext cx="687960" cy="73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"/>
            <p:cNvCxnSpPr>
              <a:stCxn id="126" idx="2"/>
              <a:endCxn id="134" idx="0"/>
            </p:cNvCxnSpPr>
            <p:nvPr/>
          </p:nvCxnSpPr>
          <p:spPr>
            <a:xfrm flipH="1">
              <a:off x="1574280" y="5775120"/>
              <a:ext cx="54216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" name=""/>
            <p:cNvCxnSpPr>
              <a:stCxn id="126" idx="2"/>
              <a:endCxn id="146" idx="0"/>
            </p:cNvCxnSpPr>
            <p:nvPr/>
          </p:nvCxnSpPr>
          <p:spPr>
            <a:xfrm>
              <a:off x="2115720" y="5775120"/>
              <a:ext cx="38340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" name=""/>
            <p:cNvCxnSpPr>
              <a:stCxn id="132" idx="2"/>
              <a:endCxn id="133" idx="0"/>
            </p:cNvCxnSpPr>
            <p:nvPr/>
          </p:nvCxnSpPr>
          <p:spPr>
            <a:xfrm flipH="1">
              <a:off x="7459200" y="5775120"/>
              <a:ext cx="43560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"/>
            <p:cNvCxnSpPr>
              <a:stCxn id="132" idx="2"/>
              <a:endCxn id="145" idx="0"/>
            </p:cNvCxnSpPr>
            <p:nvPr/>
          </p:nvCxnSpPr>
          <p:spPr>
            <a:xfrm>
              <a:off x="7894440" y="5775120"/>
              <a:ext cx="50256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2306520" y="1559160"/>
              <a:ext cx="32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enhum           alguns        che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41440" y="2703600"/>
              <a:ext cx="638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&gt;60                               30-60            10-30            0-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08080" y="3828960"/>
              <a:ext cx="638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            Sim             Não        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93960" y="4857840"/>
              <a:ext cx="63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Sim        Não          Sim                      Não   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7840" y="5819760"/>
              <a:ext cx="16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05400" y="5781600"/>
              <a:ext cx="16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84F-BB27-4AE7-A6FF-9AE3B641C7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pressividade de 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hipótese de árvore de decisão específica para o predicado met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aiEspera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ser vista como uma asserção da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∀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iEsper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(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v 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v ... v 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da condição 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 é uma conjunção de testes que pode corresponder a um caminho da raiz até uma folha da árvore com resultado positi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árvore pode ser representada por uma conjunção de implicações individuais que correspondem aos caminhos que vão da raiz até o nó folh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03280" y="5950080"/>
            <a:ext cx="7228080" cy="68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4B7-1718-48D0-B77B-BEA8EEE1C7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pressividade de 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7455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possível utilizar árvores de decisão para representar testes que se referem a dois ou mais objeto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∃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Perto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r) ^ Preço(r, p) ^ Preço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 ^ MaisBarato(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494-574B-4FD7-9B20-BE85DFBF6A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27080" y="706320"/>
          <a:ext cx="8889840" cy="6024600"/>
        </p:xfrm>
        <a:graphic>
          <a:graphicData uri="http://schemas.openxmlformats.org/drawingml/2006/table">
            <a:tbl>
              <a:tblPr/>
              <a:tblGrid>
                <a:gridCol w="612720"/>
                <a:gridCol w="712800"/>
                <a:gridCol w="754200"/>
                <a:gridCol w="671400"/>
                <a:gridCol w="753840"/>
                <a:gridCol w="628920"/>
                <a:gridCol w="733320"/>
                <a:gridCol w="768240"/>
                <a:gridCol w="723960"/>
                <a:gridCol w="765360"/>
                <a:gridCol w="871560"/>
                <a:gridCol w="8935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2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junto de treinamento para o exemplo do restau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5D7-3E62-4012-9C60-9DBA9F0AFA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licação do algoritmo de aprendiz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554280" y="1846440"/>
            <a:ext cx="27291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M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im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 3  4  6  8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Não</a:t>
            </a: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2  5  7  9 10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7920" y="1844640"/>
            <a:ext cx="1452600" cy="73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lternativa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3400" y="2773440"/>
            <a:ext cx="10000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 4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2  5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58080" y="2773440"/>
            <a:ext cx="9828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  6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7  9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2"/>
            <a:endCxn id="184" idx="0"/>
          </p:cNvCxnSpPr>
          <p:nvPr/>
        </p:nvCxnSpPr>
        <p:spPr>
          <a:xfrm flipH="1">
            <a:off x="7182720" y="2311200"/>
            <a:ext cx="57204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3" idx="2"/>
            <a:endCxn id="185" idx="0"/>
          </p:cNvCxnSpPr>
          <p:nvPr/>
        </p:nvCxnSpPr>
        <p:spPr>
          <a:xfrm>
            <a:off x="7754760" y="2311200"/>
            <a:ext cx="59616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918480" y="232884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im            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00000" y="1851120"/>
          <a:ext cx="2508120" cy="4746600"/>
        </p:xfrm>
        <a:graphic>
          <a:graphicData uri="http://schemas.openxmlformats.org/drawingml/2006/table">
            <a:tbl>
              <a:tblPr/>
              <a:tblGrid>
                <a:gridCol w="507960"/>
                <a:gridCol w="666720"/>
                <a:gridCol w="666720"/>
                <a:gridCol w="66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7542360" y="4116240"/>
            <a:ext cx="79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ar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7240" y="5103720"/>
            <a:ext cx="10000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  6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7  9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81920" y="5103720"/>
            <a:ext cx="9828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 4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2  5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0" idx="2"/>
            <a:endCxn id="191" idx="0"/>
          </p:cNvCxnSpPr>
          <p:nvPr/>
        </p:nvCxnSpPr>
        <p:spPr>
          <a:xfrm flipH="1">
            <a:off x="7306920" y="4583160"/>
            <a:ext cx="63576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90" idx="2"/>
            <a:endCxn id="192" idx="0"/>
          </p:cNvCxnSpPr>
          <p:nvPr/>
        </p:nvCxnSpPr>
        <p:spPr>
          <a:xfrm>
            <a:off x="7941960" y="4583160"/>
            <a:ext cx="53244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7042320" y="465948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im            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02280" y="4118040"/>
            <a:ext cx="1176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ex/Sab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13040" y="5105520"/>
            <a:ext cx="10000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4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5  9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88080" y="5105520"/>
            <a:ext cx="11286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 3  6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2  7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6" idx="2"/>
            <a:endCxn id="197" idx="0"/>
          </p:cNvCxnSpPr>
          <p:nvPr/>
        </p:nvCxnSpPr>
        <p:spPr>
          <a:xfrm flipH="1">
            <a:off x="4212720" y="4584240"/>
            <a:ext cx="57888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96" idx="2"/>
            <a:endCxn id="198" idx="0"/>
          </p:cNvCxnSpPr>
          <p:nvPr/>
        </p:nvCxnSpPr>
        <p:spPr>
          <a:xfrm>
            <a:off x="4791240" y="4584240"/>
            <a:ext cx="6624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3948120" y="46609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im            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D15-053F-4F96-8D8C-2F14E74644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sos a considerar na escolha de um novo atribu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existem alguns exemplos positivos e alguns negativos, escolha o melhor atributo para dividi-l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todos os exemplos restantes forem positivos (ou negativos), terminam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resta nenhum exemplo, nenhum exemplo deste tipo foi observado, retornamos a maioria do nó p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resta nenhum atributo mas há exemplos positivos e negativos – descrições iguais com classificações diferentes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uí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s 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507-608C-41D9-9802-5D1418444A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1160" y="374760"/>
            <a:ext cx="9007560" cy="62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PRENDIZAGEM-EM-AD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, atributos, padr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torn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uma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junto de 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tribu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junto de 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dr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valor-padrão para o predicado de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vaz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ão retorn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dr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todos o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têm a mesma classificaçã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ão retorn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ific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tribu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vaz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ão retorn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ALOR-DA-MAIORIA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ESCOLHER-ATRIBUTO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tributos, exempl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árvo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uma nova ad com teste de raiz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VALOR-DA-MAIORIA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alor v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{elementos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melhor = v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ubárvo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APRENDIZAGEM-EM-AD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tribu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icionar uma ramificação 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árvo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rótulo v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subárvor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ubárvo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torn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árv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0B2-AED6-45A5-BCDE-839E7375264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62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 resultante da aplicação do algoritm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49320" y="1773360"/>
            <a:ext cx="6232320" cy="4551120"/>
            <a:chOff x="949320" y="1773360"/>
            <a:chExt cx="6232320" cy="4551120"/>
          </a:xfrm>
        </p:grpSpPr>
        <p:sp>
          <p:nvSpPr>
            <p:cNvPr id="207" name=""/>
            <p:cNvSpPr/>
            <p:nvPr/>
          </p:nvSpPr>
          <p:spPr>
            <a:xfrm>
              <a:off x="1887480" y="1773360"/>
              <a:ext cx="10904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lient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32240" y="2798640"/>
              <a:ext cx="1149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Famint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2040" y="275904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04920" y="275904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05160" y="3841560"/>
              <a:ext cx="835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Tip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2" name=""/>
            <p:cNvCxnSpPr>
              <a:stCxn id="207" idx="2"/>
              <a:endCxn id="209" idx="0"/>
            </p:cNvCxnSpPr>
            <p:nvPr/>
          </p:nvCxnSpPr>
          <p:spPr>
            <a:xfrm flipH="1">
              <a:off x="1623240" y="2148840"/>
              <a:ext cx="81036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3" name=""/>
            <p:cNvCxnSpPr>
              <a:stCxn id="207" idx="2"/>
              <a:endCxn id="210" idx="0"/>
            </p:cNvCxnSpPr>
            <p:nvPr/>
          </p:nvCxnSpPr>
          <p:spPr>
            <a:xfrm>
              <a:off x="2433240" y="2148840"/>
              <a:ext cx="396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" name=""/>
            <p:cNvCxnSpPr>
              <a:stCxn id="207" idx="2"/>
              <a:endCxn id="208" idx="0"/>
            </p:cNvCxnSpPr>
            <p:nvPr/>
          </p:nvCxnSpPr>
          <p:spPr>
            <a:xfrm>
              <a:off x="2433600" y="2148840"/>
              <a:ext cx="1573920" cy="6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5" name=""/>
            <p:cNvCxnSpPr>
              <a:stCxn id="208" idx="2"/>
              <a:endCxn id="216" idx="0"/>
            </p:cNvCxnSpPr>
            <p:nvPr/>
          </p:nvCxnSpPr>
          <p:spPr>
            <a:xfrm flipH="1">
              <a:off x="3411000" y="3174480"/>
              <a:ext cx="596160" cy="68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7" name=""/>
            <p:cNvCxnSpPr>
              <a:stCxn id="208" idx="2"/>
              <a:endCxn id="211" idx="0"/>
            </p:cNvCxnSpPr>
            <p:nvPr/>
          </p:nvCxnSpPr>
          <p:spPr>
            <a:xfrm>
              <a:off x="4006440" y="3174480"/>
              <a:ext cx="616680" cy="66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8" name=""/>
            <p:cNvSpPr/>
            <p:nvPr/>
          </p:nvSpPr>
          <p:spPr>
            <a:xfrm>
              <a:off x="949320" y="2279520"/>
              <a:ext cx="32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enhum           alguns        che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79800" y="38638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90520" y="49798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8640" y="49798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18160" y="49798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06760" y="4979880"/>
              <a:ext cx="1165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Sex/sab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3320" y="595440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18200" y="595620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11" idx="2"/>
              <a:endCxn id="219" idx="0"/>
            </p:cNvCxnSpPr>
            <p:nvPr/>
          </p:nvCxnSpPr>
          <p:spPr>
            <a:xfrm flipH="1">
              <a:off x="1522080" y="4217760"/>
              <a:ext cx="31010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" name=""/>
            <p:cNvCxnSpPr>
              <a:stCxn id="211" idx="2"/>
              <a:endCxn id="220" idx="0"/>
            </p:cNvCxnSpPr>
            <p:nvPr/>
          </p:nvCxnSpPr>
          <p:spPr>
            <a:xfrm flipH="1">
              <a:off x="3129840" y="4217760"/>
              <a:ext cx="149292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" name=""/>
            <p:cNvCxnSpPr>
              <a:stCxn id="211" idx="2"/>
              <a:endCxn id="222" idx="0"/>
            </p:cNvCxnSpPr>
            <p:nvPr/>
          </p:nvCxnSpPr>
          <p:spPr>
            <a:xfrm>
              <a:off x="4622400" y="4217760"/>
              <a:ext cx="36756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" name=""/>
            <p:cNvCxnSpPr>
              <a:stCxn id="211" idx="2"/>
              <a:endCxn id="221" idx="0"/>
            </p:cNvCxnSpPr>
            <p:nvPr/>
          </p:nvCxnSpPr>
          <p:spPr>
            <a:xfrm>
              <a:off x="4622400" y="4217760"/>
              <a:ext cx="22280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9" name=""/>
            <p:cNvCxnSpPr>
              <a:stCxn id="222" idx="2"/>
              <a:endCxn id="223" idx="0"/>
            </p:cNvCxnSpPr>
            <p:nvPr/>
          </p:nvCxnSpPr>
          <p:spPr>
            <a:xfrm flipH="1">
              <a:off x="4574520" y="5355720"/>
              <a:ext cx="4150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0" name=""/>
            <p:cNvCxnSpPr>
              <a:stCxn id="222" idx="2"/>
              <a:endCxn id="224" idx="0"/>
            </p:cNvCxnSpPr>
            <p:nvPr/>
          </p:nvCxnSpPr>
          <p:spPr>
            <a:xfrm>
              <a:off x="4989600" y="5356080"/>
              <a:ext cx="560880" cy="60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1" name=""/>
            <p:cNvSpPr/>
            <p:nvPr/>
          </p:nvSpPr>
          <p:spPr>
            <a:xfrm>
              <a:off x="3232080" y="3325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14440" y="4375080"/>
              <a:ext cx="459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Fra                    Ita        Tai            H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16440" y="5499000"/>
              <a:ext cx="20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443560" y="1916280"/>
            <a:ext cx="344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algoritmo poderia encontrar uma Ad diferente para o mesmo conjunto de treinam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3789360"/>
            <a:ext cx="17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l se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7D2-5F55-4632-A4C3-1437E80BD0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iz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vores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4BD-FDB8-4DE9-915D-D0FB685402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 árvore result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792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diferente da árvor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a hipótese concorda com todos os ex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é consideravelmente mais simples do que a árvor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hoven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ser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icaram de fora porque a árvore não necessita destes para classificar os ex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nunca viu um caso de espera de 0-10 min e o restaurante ch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um caso no qual faminto é falso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 que não devemos esp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9BB-2209-4673-B43F-CD0E5C4F1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40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scolha de testes de atribut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quema de aprendizagem da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ado para minimizar a profundidade da árvore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éia: escolher o atributo que melhor fornece uma classificação exata dos ex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perfei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ivide os exemplos em conjuntos que são todos positivos ou todos neg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ão é perfeito, mas é “bastante bo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inúti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ixa os conjuntos de exemplos com a mesma proporção do conjunto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 atributo “realmente inút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763-F651-464B-B161-57E1E96574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algoritmo de aprendiz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bom algoritmo se ele produz hipóteses que classificam (predizem) bem exemplos ainda não v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edição é boa se ela se torna verdad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valiar a qualidade de uma hipót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os checar sua previsão com uma classificação correta que já conhe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exemplos conhecidos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junto de 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E61-0F7F-409F-8B05-D1EDDDC975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etodologia para avaliação de desempenho de um algoritm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etar um grande conjunto de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di-lo em dois conjuntos disj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treinamento e conjunto de t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r o algoritmo ao conjunto de treinamento, gerando uma hipóte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r a quantidade de exemplos do conjunto de teste classificados corretamente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etir as etapas 2 a 4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erentes tamanhos de conjuntos de trei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erentes conjuntos de treinamento de cada tama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539-DAF3-4D84-8DEA-86113A475C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urva de aprendiz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traçada com o conjunto de dados obtidos da metodologi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treinamento aumenta =&gt; qualidade da previsão aum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om sinal de que existe um padrão nos dados e o algoritmo está capturando este padr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7B9-5CD9-4B84-A651-C1B67F9D07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urva de aprendiz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753080" cy="3418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187280" y="6021360"/>
            <a:ext cx="7272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bservação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 bom sinal de que existe realmente algum padrão nos dados e de que o algoritmo de aprendizagem o está incorpor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1557360"/>
            <a:ext cx="79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rva de aprendizagem para o algoritmo de árvore de decisão sobre 100 exemplos gerados aleatoriamente no domínio do restaurante. O gráfico resume 20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1F6-70B8-4DE2-AA0D-7D58A5E8E9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gerais: </a:t>
            </a: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overfit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966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verfitt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hiper-especializaçã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encontrar uma “regularidade” muito restrita nos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uç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idação cru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47640" y="4437000"/>
            <a:ext cx="6340680" cy="16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2D1-1D5D-4CDE-BA86-7B2803C629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057400" y="5257800"/>
            <a:ext cx="4800600" cy="761760"/>
            <a:chOff x="2057400" y="5257800"/>
            <a:chExt cx="4800600" cy="761760"/>
          </a:xfrm>
        </p:grpSpPr>
        <p:sp>
          <p:nvSpPr>
            <p:cNvPr id="254" name=""/>
            <p:cNvSpPr/>
            <p:nvPr/>
          </p:nvSpPr>
          <p:spPr>
            <a:xfrm>
              <a:off x="2057400" y="5257800"/>
              <a:ext cx="4800600" cy="76176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5257800"/>
              <a:ext cx="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5410080"/>
              <a:ext cx="19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rei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1480" y="5410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es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Validação Cruzad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8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e para evita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verfitting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para averiguar robustez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) Divide o conjunto de exemplos em dois sub-conjuntos: conjuntos de treinamento (TR) e de teste (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Usa indução para gerar hipótese H sobre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) Mede percentagem de erro de H aplicada à 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) Repete passos 1-3 com diferentes tamanhos de TE e TR, e tendo elemento escolhidos aleato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DB8-BAF7-4370-9D72-2D36BEB604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s Prát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nóstico médico e de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peração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A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 de separação de gás-óleo em plataformas de petról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loto automático de um Ces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einado por três pilo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ve um desempenho melhor do que os trê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B76-ACB7-4447-BA15-E2906B0449FE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1706400"/>
            <a:ext cx="7416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ução mediante árvores de dec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ma das formas mais simples de algoritmos de aprendizagem e também de muito su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 objeto ou situação descrito por um conjunto de propriedades ou atribu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a deci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Árvore de decisã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 formada por um conjunto de nós de decisão, perguntas, que permitem a classificação de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7D1-DD75-43FF-9143-956AE37D47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70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48480" indent="-348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prendizagem de uma árvore de decisão com 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000" indent="-2124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tuações em que se têm exemplos previamente classificados com regras desconhecidas que se pretendem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prender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descobri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2124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sas classificações podem ter sido feitas por um especialista que queremos imitar ou traduzir em medidas difíceis ou caras de obter (por exemplo, medidas realizadas por testes destrutiv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2124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de-se substituir o especialista por uma árvore de decis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0">
              <a:spcBef>
                <a:spcPts val="400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prendizagem, Estimação, Treinamento: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Partindo de exemplos, "adivinhar" a ár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Árvore de Decisão: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Conjunto de “nós de decisão” e “folhas” que implementam um modelo de classificação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66D-74DB-4435-B5AE-DC373CC51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632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e um conjunto de propriedades, decide sim ou n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e árvores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nó interno testa um a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ramo corresponde a um valor do a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folha atribui uma classif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9E4-9790-490A-B785-A6BE9C6A3C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xempl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descrito pelos valores dos atributos e o valor 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edicado m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do predicado meta - cham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ific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ex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edicado meta é verdadeiro para algum exemplo, tem-se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xemplo positiv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contrári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xemplo nega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junto completo de exemplos é cham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junto de trein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131-072F-42B0-AF96-B2867DF523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pressividade de 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715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função booleana pode ser escrita como uma árvore de deci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553080" cy="36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E47-9700-42EA-A39A-3BC1775844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problema com a Ad triv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 de aprendizagem em árvore de decisão (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déia é testar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ributo mais importante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ele que faz a maior diferença para a classificação de um ex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r a classificação correta com pequeno nº de testes = caminhos curtos e árvore pequ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5516640"/>
            <a:ext cx="7201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itaçã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árvore memoriza as observações. Ela não extrai qualquer padrão dos exemplos e, assim, não podemos esperar que ela esteja apta a extrapolar para exemplos não vistos 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51C-4E13-47EC-B8C2-5314338D35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pressividade de 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vores de decisão servem para alguns tipos de funções e não são boas para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lizmente, não existe uma espécie de representação que seja eficiente para todos os tipos de fun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E93-6AE1-4EBD-8521-3F71E357F1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8-22T10:09:39Z</dcterms:modified>
  <cp:revision>71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