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ACD8-5B4C-4E66-A25B-55478BBD48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0453-39B7-409C-8436-33ECBC34B3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BDE0-E6EA-40F5-8F18-FCAF30C24C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1C94-0BD7-4770-AF4E-2E6B6E9B23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6EDA-201D-4908-AB1A-D62B9167D5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671D-BE44-4E60-88A2-A93FFFEF49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8B09-ACC1-4CB0-B2FE-D61A1C6C49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9BD5-91DD-428E-BF25-E480C8F0DF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0866-5752-48C7-8003-8C2ADDC2B4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933F-AC0A-43AA-8176-1F4D406E60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45B9-1E5A-4420-8436-AD671C974D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2B4D-9D97-41C6-A8A0-A039EE16BC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3E2D-40E7-4DA1-8BDB-3126F6C667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F8F9-22FC-4E10-A3AA-78E954A1BF0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CB43-93CD-405B-8915-417528CC6D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437D-9A8B-4DAB-9F5B-0B90567E76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452E-A8D3-4BCA-A922-525FA8BF21D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4D78-4643-4C09-BFA3-4099759EF00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B524-F756-40B8-9FB6-FA0A7A2E55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789F-36CB-4657-8E23-21464E8EE5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869A-4DB8-41B2-ADC5-A9069817F0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EA8E-CD6F-4A9C-95F6-2FF92FC0B5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0A6D-8206-4F75-9CEB-71A275BCE0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959C-F1C4-4B11-8F5C-E942148059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biose – cooperação mútua entre pessoas ou grupos em uma socie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A09-0301-4724-88C7-F1FF3206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FA3-2C17-4FFA-9A9A-4E63C1DD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C3F-37FE-4D74-AE26-F489122E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BEC-3806-4669-B10E-EAD9CDF4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CDD27-ECB3-4C6D-8156-4130C9E108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B0632-D4D4-48F5-8CAA-F5F1C5AEEB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D17D-665E-47FC-9DB8-CA87C37874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28E5F-FFDB-482E-AAFB-C8DBE6412F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0FE0E-35C9-43EF-A0FC-6594A8FFFA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2E99D-01A3-4776-AC26-51281CDCC5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91E6E-B63F-4BBE-AF9C-3745A6D61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3CC-1166-4980-BF9B-8DC793BA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68C23-3CFE-42EB-A6E3-517543FD94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BC207-AD42-4B8E-932E-5241DE2E0C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81C8C-CD1B-43E8-8B85-007DE4FCF3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E8E6F-880E-40F4-B4AF-7EA7B6852B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D503B-F571-41ED-9536-EF60466B0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C73-E01D-4E98-BD50-204CFBC1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2CB-0BCD-43AE-AA39-51DABA94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AC9-1842-443A-A36C-54C75E11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4FB-3243-44C0-B316-0A17986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856-65CF-45BE-B457-3E6EA82F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178-0424-465B-8726-64BE6E7D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6E7-7322-4451-880F-9D91F604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1ACF-0744-4B59-B5AD-203E4D0E8CD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D327-1625-4E3C-A0ED-0BF267BAECD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ia de probabilidades – é o modelo mais tradicional para o tratamento da informação inc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 um evento             , a probabilidade de ocorrênci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descrita por uma medida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[0,1], que satisfaz os seguintes axio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692360" y="4005360"/>
                <a:ext cx="6335640" cy="24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X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0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A,B  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X,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∅</m:t>
                        </m:r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08360" y="2637000"/>
                <a:ext cx="1006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 </m:t>
                    </m:r>
                    <m:r>
                      <m:t xml:space="preserve">⊆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D15-F8E3-4953-B62A-78C31B9F81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632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ir dos axiomas anteriores, pode-se derivar as seguintes proprie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47640" y="2924280"/>
                <a:ext cx="6553440" cy="26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/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X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-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/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A,B  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X,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DBB-FF03-4421-9B6F-BB88981C6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stribuição de probabil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[0,1] caracteriza a probabilidade dos eventos sobre um domínio discre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aso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50920" y="5013360"/>
                <a:ext cx="5327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  </m:t>
                        </m:r>
                      </m:e>
                    </m:nary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132000" y="2997360"/>
                <a:ext cx="37450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A  </m:t>
                    </m:r>
                    <m:r>
                      <m:t xml:space="preserve">⊆</m:t>
                    </m:r>
                    <m:r>
                      <m:rPr>
                        <m:lit/>
                        <m:nor/>
                      </m:rPr>
                      <m:t xml:space="preserve">X, 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FFC-DA93-401A-B8EC-6F135BE33E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848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edida de probabilidade tem 2 interpret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requentis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representa o limite da frequência da ocorrência do even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uma seqüência infinita de experimentos indep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jet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representa a crença de um determinado indivíduo na ocorrênci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neste caso supõe-se que o indivíduo, que fornece as probabilidades aos eventos 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ja capaz de exprimi-las de forma que estas obedeçam aos axioma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5F2-AE6E-46D9-A9FC-F5E2F1C298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785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eorema de Bay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  provê a base para o tratamento da imperfeição da informação em diversos sistemas baseados em conhec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teorema computa a probabilidade de um dado evento, dado um conjunto de observ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6E1-328D-4924-96F9-DC8F32DE69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4680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ema de Bayes. Se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2637000"/>
            <a:ext cx="763416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-  a probabilidade de que a hipótese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seja verdadeira dada a evidência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) -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probabilidade de que a evidência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será observada se a hipótese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for verdadei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i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) -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probabilidade “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a priori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” de que a hipótese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é verdadeira na ausência de qualquer evidência específ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1D1-091D-4314-9B6F-EA926A59AA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ema de Ba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istemas baseados em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71640" y="1916280"/>
                <a:ext cx="3818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92360" y="4005360"/>
                <a:ext cx="58690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116000" y="5516640"/>
            <a:ext cx="7632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k -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número de hipóteses possí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representam, respectivamente, novas evidências e evidências anteriores, em relação a um dado momento do proce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871-D53E-4522-82B7-66982D4948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uponha que no meio da noite dispare o alarme contra ladrões de uma casa. Deseja-se então saber quais são as chances de que esteja havendo uma tentativa de rou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existam 95% de chances de que o alarme dispare quando uma tentativa de roubo ocor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em 1% das vezes o alarme dispara por outros motiv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que no bairro existe uma chance em 10.000 de uma dada casa ser assaltada em um dado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5FA-01B1-4A74-8DCA-4EDFD1B2B7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-se entã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270080" y="2421000"/>
                <a:ext cx="6851520" cy="31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larme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roub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larme</m:t>
                        </m:r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ubo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oub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ntão</m:t>
                        </m: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oubo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larm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94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883-0F9A-473E-8F5D-31FCB6B076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valor pode parecer estranho, mas ele pode ser intuitivamente entendido quando verifica-se que as chances de haver um roubo e do alarme tocar (0,000095) são muito pequenas em relação às chances de haver um alarme falso (0,01)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862-00B5-43D2-AB81-FACEC16B31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95640" y="3357720"/>
            <a:ext cx="5040360" cy="720720"/>
            <a:chOff x="2195640" y="3357720"/>
            <a:chExt cx="5040360" cy="720720"/>
          </a:xfrm>
        </p:grpSpPr>
        <p:sp>
          <p:nvSpPr>
            <p:cNvPr id="109" name=""/>
            <p:cNvSpPr/>
            <p:nvPr/>
          </p:nvSpPr>
          <p:spPr>
            <a:xfrm>
              <a:off x="2195640" y="3357720"/>
              <a:ext cx="5040360" cy="720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68360" y="3430440"/>
              <a:ext cx="4967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omo agir em meio à incertez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367-B7CF-4E93-8027-812545BA6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1600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médico sab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ingite causa torcicolo em 50% das ve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a pessoa é aleatoriamente selecionada da população dos EUA, há 1/50.000 de chance da pessoa ter mening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a pessoa é aleatoriamente selecionada da população dos EUA, há 5% de chance da pessoa ter torcico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probabilidade de que a causa subjacente seja meningi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2BD-6E6C-46DF-B37E-0613E6ABEB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600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= 1/5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= 1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=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álcul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ecorre diretamente do Teorema de Ba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68360" y="5229360"/>
                <a:ext cx="5015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×</m:t>
                        </m:r>
                        <m:r>
                          <m:t xml:space="preserve">0,5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617-9099-4328-B98A-989DA60C74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Probabi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os dos sistemas baseados em conhecimento mais famosos têm o enfoque bayesiano como base para o tratamento da informação imperfeita, como, por exemplo, o MYCIN e o PROSP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sistema MYCIN, tanto regras como fatos têm associados um par 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B M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ede a “crença” na hipótese (o próprio fato, ou conclusão de uma regra quando a premissa é completamente satisfe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ede a “crença” na negação dessa hipóte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áquina de inferência então não somente cria novos fatos, mas também um par [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B M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 para este novo fato, utilizando uma variação formalmente imperfeita, porém eficaz, da regra de Bay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BC0-0B56-445F-AE8B-3F784A0A2B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ia dos conjuntos nebulos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bjetiva permitir graduações na pertinência de um elemento a uma da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ia dos conjuntos “cláss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um elemento pertence (1) ou não-pertence (0) a um conj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ia nebul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rau de pertinência passa a ser dado por um valor no intervalo de números reais [0,1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098-BF60-48E4-8AA1-320FA208EE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ras: Decisões binárias (sim ou n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se não tivermos certez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dição x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t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ção y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fiança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Regr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uzz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: Se o objeto é redondo então é uma b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: Se o objeto é muito redondo então é uma bola com grande probabi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zzy Logi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wor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atemático para lidar com esta incert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B9E-07BF-464E-B152-10F4309AEA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 um universo de discurs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m subconjunto nebulos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definido por uma função de pertinência que associa a cada elemen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gra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compreendido entre 0 e 1, com o qual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rtence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F4D-3A56-4E9F-8E9B-5A4675B22B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do que se deseja modelar o conceito “alto” aplicado a pesso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ualmente, uma pessoa que mede mais de 1,75m é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alta se tiver menos de 1,6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á uma pessoa que mede entre 1,60m e 1,75m será considerada mais alta quanto mais a altura está próxima de 1,7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AD6-D1AD-46FA-B1FB-9CCB38224A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70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possível modelar o conceito “alto” pelo conjunto nebulos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finido no intervalo de 0,5m a 2,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7640" y="2924280"/>
                <a:ext cx="6193080" cy="26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     , </m:t>
                            </m:r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     , 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17B-E58A-42B9-A7E7-CB14F14AC5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ficamente, o conjunto nebulos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de ser representado 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6375240" cy="2522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579-7A98-4056-924F-323738AE73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7724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epresentação gráfica dos Conjuntos Fuzzy discret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203640" y="5445000"/>
            <a:ext cx="5029200" cy="1182600"/>
            <a:chOff x="3203640" y="5445000"/>
            <a:chExt cx="5029200" cy="1182600"/>
          </a:xfrm>
        </p:grpSpPr>
        <p:sp>
          <p:nvSpPr>
            <p:cNvPr id="182" name=""/>
            <p:cNvSpPr/>
            <p:nvPr/>
          </p:nvSpPr>
          <p:spPr>
            <a:xfrm>
              <a:off x="3203640" y="5445000"/>
              <a:ext cx="5029200" cy="11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Unicode MS"/>
                </a:rPr>
                <a:t>A(u) =   0,0                     , se módulo(x) &gt;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Unicode MS"/>
                </a:rPr>
                <a:t>   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 Unicode MS"/>
                </a:rPr>
                <a:t>(5 – módulo(x))/5, se módulo(x) &lt;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79680" y="5554440"/>
              <a:ext cx="76320" cy="685800"/>
            </a:xfrm>
            <a:custGeom>
              <a:avLst/>
              <a:gdLst/>
              <a:ahLst/>
              <a:rect l="l" t="t" r="r" b="b"/>
              <a:pathLst>
                <a:path w="213" h="1907">
                  <a:moveTo>
                    <a:pt x="212" y="0"/>
                  </a:moveTo>
                  <a:cubicBezTo>
                    <a:pt x="159" y="0"/>
                    <a:pt x="106" y="79"/>
                    <a:pt x="106" y="158"/>
                  </a:cubicBezTo>
                  <a:lnTo>
                    <a:pt x="106" y="794"/>
                  </a:lnTo>
                  <a:cubicBezTo>
                    <a:pt x="106" y="873"/>
                    <a:pt x="53" y="953"/>
                    <a:pt x="0" y="953"/>
                  </a:cubicBezTo>
                  <a:cubicBezTo>
                    <a:pt x="53" y="953"/>
                    <a:pt x="106" y="1032"/>
                    <a:pt x="106" y="1111"/>
                  </a:cubicBezTo>
                  <a:lnTo>
                    <a:pt x="106" y="1747"/>
                  </a:lnTo>
                  <a:cubicBezTo>
                    <a:pt x="106" y="1826"/>
                    <a:pt x="159" y="1906"/>
                    <a:pt x="212" y="19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187280" y="1844640"/>
            <a:ext cx="7041960" cy="3333600"/>
            <a:chOff x="1187280" y="1844640"/>
            <a:chExt cx="7041960" cy="3333600"/>
          </a:xfrm>
        </p:grpSpPr>
        <p:sp>
          <p:nvSpPr>
            <p:cNvPr id="185" name=""/>
            <p:cNvSpPr/>
            <p:nvPr/>
          </p:nvSpPr>
          <p:spPr>
            <a:xfrm flipV="1">
              <a:off x="4601520" y="1912320"/>
              <a:ext cx="1080" cy="32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87280" y="4205160"/>
              <a:ext cx="6828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2560" y="2295720"/>
              <a:ext cx="8535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 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13880" y="4274280"/>
              <a:ext cx="1208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20360" y="4274280"/>
              <a:ext cx="1208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9864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90240" y="413532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220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6792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5600" y="413532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988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9988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84880" y="413532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91480" y="413532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7684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6916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560" y="41353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16760" y="4205160"/>
              <a:ext cx="604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37160" y="1844640"/>
              <a:ext cx="60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 Unicode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30240" y="2469240"/>
              <a:ext cx="14220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760" y="2816280"/>
              <a:ext cx="142200" cy="13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68360" y="316368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9240" y="35107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5760" y="3857760"/>
              <a:ext cx="141840" cy="13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15000" y="2816280"/>
              <a:ext cx="141840" cy="13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8480" y="316368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77240" y="3510720"/>
              <a:ext cx="141840" cy="13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6360" y="3857760"/>
              <a:ext cx="141840" cy="13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4C7-1CA5-49F9-8DEC-6B0E21D2E56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mento d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aciocínio Estatí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344-0AD0-41E7-B7FF-98591DCF3B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6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epresentação gráfica dos Conjuntos Fuzzy contínu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479600" y="2174760"/>
            <a:ext cx="5230800" cy="2270160"/>
          </a:xfrm>
          <a:prstGeom prst="roundRect">
            <a:avLst>
              <a:gd name="adj" fmla="val 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60360" y="4444920"/>
            <a:ext cx="5959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4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5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6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7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8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.9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2428920"/>
            <a:ext cx="50796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9600" y="4284720"/>
            <a:ext cx="26146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070520" y="2546280"/>
            <a:ext cx="1477800" cy="1735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79600" y="2565360"/>
            <a:ext cx="1743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22720" y="2571840"/>
            <a:ext cx="1671480" cy="170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94200" y="4284720"/>
            <a:ext cx="1816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676760" y="3308400"/>
            <a:ext cx="0" cy="113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477440" y="3570120"/>
            <a:ext cx="34909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477440" y="4043520"/>
            <a:ext cx="34909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48320" y="2565360"/>
            <a:ext cx="116208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50880" y="2174760"/>
            <a:ext cx="1090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21400" y="2174760"/>
            <a:ext cx="1089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 Unicode MS"/>
              </a:rPr>
              <a:t>A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5084640"/>
            <a:ext cx="266544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Uma pessoa de 1,77m pode se considerada tanto 20% baixa quanto 40% 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67280" y="3481560"/>
            <a:ext cx="6541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932000" y="4797000"/>
            <a:ext cx="8636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9A9-9CAD-4B6B-9ACF-14F7ADC4B6A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rmalmente, uma BC Fuzzy é representada por meio de regras de prod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ra de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266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antecedente&gt;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conseqüent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ecedente: composto por um conjunto de condi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üente: composto por um conjunto de ações ou diagnós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do as condições da regra são satisfeitas (mesmo que parcialmente) dizemos que a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gra é disparad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que determina o processamento do conseqüente da regra pelo sistema de inferência fuz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B01-D705-40E3-956A-3BBF088BF9A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istemas fuzzy - f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71640" y="1690560"/>
            <a:ext cx="7884720" cy="4617720"/>
            <a:chOff x="971640" y="1690560"/>
            <a:chExt cx="7884720" cy="4617720"/>
          </a:xfrm>
        </p:grpSpPr>
        <p:grpSp>
          <p:nvGrpSpPr>
            <p:cNvPr id="235" name=""/>
            <p:cNvGrpSpPr/>
            <p:nvPr/>
          </p:nvGrpSpPr>
          <p:grpSpPr>
            <a:xfrm>
              <a:off x="1095480" y="1690560"/>
              <a:ext cx="1542600" cy="701280"/>
              <a:chOff x="1095480" y="1690560"/>
              <a:chExt cx="1542600" cy="701280"/>
            </a:xfrm>
          </p:grpSpPr>
          <p:sp>
            <p:nvSpPr>
              <p:cNvPr id="236" name=""/>
              <p:cNvSpPr/>
              <p:nvPr/>
            </p:nvSpPr>
            <p:spPr>
              <a:xfrm>
                <a:off x="1095480" y="1690560"/>
                <a:ext cx="1542600" cy="7012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95480" y="1690560"/>
                <a:ext cx="154260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Entradas do siste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240680" y="1771560"/>
              <a:ext cx="1456920" cy="703080"/>
              <a:chOff x="7240680" y="1771560"/>
              <a:chExt cx="1456920" cy="703080"/>
            </a:xfrm>
          </p:grpSpPr>
          <p:sp>
            <p:nvSpPr>
              <p:cNvPr id="239" name=""/>
              <p:cNvSpPr/>
              <p:nvPr/>
            </p:nvSpPr>
            <p:spPr>
              <a:xfrm>
                <a:off x="7240680" y="1771560"/>
                <a:ext cx="1456920" cy="7030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40680" y="1771560"/>
                <a:ext cx="14569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Saídas do siste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71640" y="3068640"/>
              <a:ext cx="1799640" cy="1213920"/>
              <a:chOff x="971640" y="3068640"/>
              <a:chExt cx="1799640" cy="1213920"/>
            </a:xfrm>
          </p:grpSpPr>
          <p:sp>
            <p:nvSpPr>
              <p:cNvPr id="242" name=""/>
              <p:cNvSpPr/>
              <p:nvPr/>
            </p:nvSpPr>
            <p:spPr>
              <a:xfrm>
                <a:off x="971640" y="3068640"/>
                <a:ext cx="1799640" cy="1213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38400" y="3249000"/>
                <a:ext cx="1266480" cy="855000"/>
              </a:xfrm>
              <a:prstGeom prst="roundRect">
                <a:avLst>
                  <a:gd name="adj" fmla="val 1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Fuzzifica-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074000" y="3068640"/>
              <a:ext cx="1782360" cy="1213920"/>
              <a:chOff x="7074000" y="3068640"/>
              <a:chExt cx="1782360" cy="1213920"/>
            </a:xfrm>
          </p:grpSpPr>
          <p:sp>
            <p:nvSpPr>
              <p:cNvPr id="245" name=""/>
              <p:cNvSpPr/>
              <p:nvPr/>
            </p:nvSpPr>
            <p:spPr>
              <a:xfrm>
                <a:off x="7074000" y="3068640"/>
                <a:ext cx="1782360" cy="1213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38240" y="3249000"/>
                <a:ext cx="1254240" cy="855000"/>
              </a:xfrm>
              <a:prstGeom prst="roundRect">
                <a:avLst>
                  <a:gd name="adj" fmla="val 1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Defuzzifi-c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052880" y="2987640"/>
              <a:ext cx="1714320" cy="701280"/>
              <a:chOff x="4052880" y="2987640"/>
              <a:chExt cx="1714320" cy="701280"/>
            </a:xfrm>
          </p:grpSpPr>
          <p:sp>
            <p:nvSpPr>
              <p:cNvPr id="248" name=""/>
              <p:cNvSpPr/>
              <p:nvPr/>
            </p:nvSpPr>
            <p:spPr>
              <a:xfrm>
                <a:off x="4052880" y="2987640"/>
                <a:ext cx="1714320" cy="7012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52880" y="2987640"/>
                <a:ext cx="17143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Funções de pertinênc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052880" y="3681360"/>
              <a:ext cx="1714320" cy="701280"/>
              <a:chOff x="4052880" y="3681360"/>
              <a:chExt cx="1714320" cy="701280"/>
            </a:xfrm>
          </p:grpSpPr>
          <p:sp>
            <p:nvSpPr>
              <p:cNvPr id="251" name=""/>
              <p:cNvSpPr/>
              <p:nvPr/>
            </p:nvSpPr>
            <p:spPr>
              <a:xfrm>
                <a:off x="4052880" y="3681360"/>
                <a:ext cx="1714320" cy="7012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52880" y="3681360"/>
                <a:ext cx="17143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Conjunto de regr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095480" y="5356080"/>
              <a:ext cx="1542600" cy="703080"/>
              <a:chOff x="1095480" y="5356080"/>
              <a:chExt cx="1542600" cy="703080"/>
            </a:xfrm>
          </p:grpSpPr>
          <p:sp>
            <p:nvSpPr>
              <p:cNvPr id="254" name=""/>
              <p:cNvSpPr/>
              <p:nvPr/>
            </p:nvSpPr>
            <p:spPr>
              <a:xfrm>
                <a:off x="1095480" y="5356080"/>
                <a:ext cx="1542600" cy="7030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095480" y="5356080"/>
                <a:ext cx="154260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Níveis de pertinênc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202520" y="5356080"/>
              <a:ext cx="1542600" cy="703080"/>
              <a:chOff x="7202520" y="5356080"/>
              <a:chExt cx="1542600" cy="703080"/>
            </a:xfrm>
          </p:grpSpPr>
          <p:sp>
            <p:nvSpPr>
              <p:cNvPr id="257" name=""/>
              <p:cNvSpPr/>
              <p:nvPr/>
            </p:nvSpPr>
            <p:spPr>
              <a:xfrm>
                <a:off x="7202520" y="5356080"/>
                <a:ext cx="1542600" cy="703080"/>
              </a:xfrm>
              <a:prstGeom prst="roundRect">
                <a:avLst>
                  <a:gd name="adj" fmla="val 236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02520" y="5356080"/>
                <a:ext cx="154260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Níveis de saí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095720" y="5094360"/>
              <a:ext cx="1626840" cy="1213920"/>
              <a:chOff x="4095720" y="5094360"/>
              <a:chExt cx="1626840" cy="1213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095720" y="5094360"/>
                <a:ext cx="1626840" cy="1213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36200" y="5274720"/>
                <a:ext cx="1145520" cy="854640"/>
              </a:xfrm>
              <a:prstGeom prst="roundRect">
                <a:avLst>
                  <a:gd name="adj" fmla="val 1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Avalia-ção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Unicode MS"/>
                  </a:rPr>
                  <a:t>das regr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2" name=""/>
            <p:cNvCxnSpPr>
              <a:stCxn id="236" idx="2"/>
              <a:endCxn id="242" idx="0"/>
            </p:cNvCxnSpPr>
            <p:nvPr/>
          </p:nvCxnSpPr>
          <p:spPr>
            <a:xfrm>
              <a:off x="1866600" y="2401920"/>
              <a:ext cx="6840" cy="658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2" idx="4"/>
              <a:endCxn id="254" idx="0"/>
            </p:cNvCxnSpPr>
            <p:nvPr/>
          </p:nvCxnSpPr>
          <p:spPr>
            <a:xfrm flipH="1">
              <a:off x="1866240" y="4294080"/>
              <a:ext cx="6840" cy="1053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4" idx="3"/>
              <a:endCxn id="260" idx="1"/>
            </p:cNvCxnSpPr>
            <p:nvPr/>
          </p:nvCxnSpPr>
          <p:spPr>
            <a:xfrm flipV="1">
              <a:off x="2638440" y="5701680"/>
              <a:ext cx="145800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0" idx="3"/>
              <a:endCxn id="257" idx="1"/>
            </p:cNvCxnSpPr>
            <p:nvPr/>
          </p:nvCxnSpPr>
          <p:spPr>
            <a:xfrm>
              <a:off x="5724360" y="5702040"/>
              <a:ext cx="147888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7" idx="0"/>
              <a:endCxn id="245" idx="2"/>
            </p:cNvCxnSpPr>
            <p:nvPr/>
          </p:nvCxnSpPr>
          <p:spPr>
            <a:xfrm flipH="1" flipV="1">
              <a:off x="7965720" y="4284360"/>
              <a:ext cx="7200" cy="1072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45" idx="0"/>
              <a:endCxn id="239" idx="2"/>
            </p:cNvCxnSpPr>
            <p:nvPr/>
          </p:nvCxnSpPr>
          <p:spPr>
            <a:xfrm flipV="1">
              <a:off x="7965720" y="2474280"/>
              <a:ext cx="3960" cy="592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"/>
            <p:cNvSpPr/>
            <p:nvPr/>
          </p:nvSpPr>
          <p:spPr>
            <a:xfrm>
              <a:off x="2843280" y="3141720"/>
              <a:ext cx="1168200" cy="515880"/>
            </a:xfrm>
            <a:custGeom>
              <a:avLst/>
              <a:gdLst/>
              <a:ahLst/>
              <a:rect l="l" t="t" r="r" b="b"/>
              <a:pathLst>
                <a:path w="2883" h="1343">
                  <a:moveTo>
                    <a:pt x="2882" y="511"/>
                  </a:moveTo>
                  <a:lnTo>
                    <a:pt x="773" y="1087"/>
                  </a:lnTo>
                  <a:lnTo>
                    <a:pt x="843" y="1342"/>
                  </a:lnTo>
                  <a:lnTo>
                    <a:pt x="0" y="1023"/>
                  </a:lnTo>
                  <a:lnTo>
                    <a:pt x="564" y="320"/>
                  </a:lnTo>
                  <a:lnTo>
                    <a:pt x="634" y="575"/>
                  </a:lnTo>
                  <a:lnTo>
                    <a:pt x="2743" y="0"/>
                  </a:lnTo>
                  <a:lnTo>
                    <a:pt x="2461" y="351"/>
                  </a:lnTo>
                  <a:lnTo>
                    <a:pt x="2882" y="511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73760" y="3182760"/>
              <a:ext cx="1206360" cy="522360"/>
            </a:xfrm>
            <a:custGeom>
              <a:avLst/>
              <a:gdLst/>
              <a:ahLst/>
              <a:rect l="l" t="t" r="r" b="b"/>
              <a:pathLst>
                <a:path w="2977" h="1363">
                  <a:moveTo>
                    <a:pt x="0" y="511"/>
                  </a:moveTo>
                  <a:lnTo>
                    <a:pt x="2179" y="1106"/>
                  </a:lnTo>
                  <a:lnTo>
                    <a:pt x="2109" y="1362"/>
                  </a:lnTo>
                  <a:lnTo>
                    <a:pt x="2976" y="1049"/>
                  </a:lnTo>
                  <a:lnTo>
                    <a:pt x="2388" y="339"/>
                  </a:lnTo>
                  <a:lnTo>
                    <a:pt x="2318" y="595"/>
                  </a:lnTo>
                  <a:lnTo>
                    <a:pt x="139" y="0"/>
                  </a:lnTo>
                  <a:lnTo>
                    <a:pt x="432" y="355"/>
                  </a:lnTo>
                  <a:lnTo>
                    <a:pt x="0" y="511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72080" y="4430880"/>
              <a:ext cx="430200" cy="582480"/>
            </a:xfrm>
            <a:custGeom>
              <a:avLst/>
              <a:gdLst/>
              <a:ahLst/>
              <a:rect l="l" t="t" r="r" b="b"/>
              <a:pathLst>
                <a:path w="1061" h="1523">
                  <a:moveTo>
                    <a:pt x="795" y="0"/>
                  </a:moveTo>
                  <a:lnTo>
                    <a:pt x="795" y="1141"/>
                  </a:lnTo>
                  <a:lnTo>
                    <a:pt x="1060" y="1141"/>
                  </a:lnTo>
                  <a:lnTo>
                    <a:pt x="530" y="1522"/>
                  </a:lnTo>
                  <a:lnTo>
                    <a:pt x="0" y="1141"/>
                  </a:lnTo>
                  <a:lnTo>
                    <a:pt x="265" y="1141"/>
                  </a:lnTo>
                  <a:lnTo>
                    <a:pt x="265" y="0"/>
                  </a:lnTo>
                  <a:lnTo>
                    <a:pt x="530" y="190"/>
                  </a:lnTo>
                  <a:lnTo>
                    <a:pt x="795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960-D2C0-4D5D-9AA0-208AAF42122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istemas fuzzy - f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ágio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zzificação: mapeia cada entrada de dados ao sistema em uma ou mais funções de pertin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regras de um conjunto de regras (predefinidas) são avaliadas verificando quais são aplicávei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ão fortemente cada regra deve ser disparada dependendo de como foi ativada cada função de pertin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-261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uzzificação: calcula a saída, baseada nos valores mapeados em funções de pertinência de saída e em função das regras que foram dispa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C3E-93AD-41ED-AC7C-3B3DDFC686C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042920" y="1628280"/>
            <a:ext cx="77169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e de velocidade de um venti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elocidade depende da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763640" y="3500280"/>
            <a:ext cx="6097320" cy="2565720"/>
            <a:chOff x="1763640" y="3500280"/>
            <a:chExt cx="6097320" cy="2565720"/>
          </a:xfrm>
        </p:grpSpPr>
        <p:grpSp>
          <p:nvGrpSpPr>
            <p:cNvPr id="275" name=""/>
            <p:cNvGrpSpPr/>
            <p:nvPr/>
          </p:nvGrpSpPr>
          <p:grpSpPr>
            <a:xfrm>
              <a:off x="5268600" y="5405400"/>
              <a:ext cx="2590920" cy="395280"/>
              <a:chOff x="5268600" y="5405400"/>
              <a:chExt cx="2590920" cy="395280"/>
            </a:xfrm>
          </p:grpSpPr>
          <p:sp>
            <p:nvSpPr>
              <p:cNvPr id="276" name=""/>
              <p:cNvSpPr/>
              <p:nvPr/>
            </p:nvSpPr>
            <p:spPr>
              <a:xfrm>
                <a:off x="5268600" y="5405400"/>
                <a:ext cx="259092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68600" y="5405400"/>
                <a:ext cx="2590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516120" y="5405400"/>
              <a:ext cx="1752480" cy="395280"/>
              <a:chOff x="3516120" y="5405400"/>
              <a:chExt cx="1752480" cy="395280"/>
            </a:xfrm>
          </p:grpSpPr>
          <p:sp>
            <p:nvSpPr>
              <p:cNvPr id="279" name=""/>
              <p:cNvSpPr/>
              <p:nvPr/>
            </p:nvSpPr>
            <p:spPr>
              <a:xfrm>
                <a:off x="3516120" y="540540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16120" y="540540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Rápi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763640" y="5405400"/>
              <a:ext cx="1752480" cy="660600"/>
              <a:chOff x="1763640" y="5405400"/>
              <a:chExt cx="1752480" cy="660600"/>
            </a:xfrm>
          </p:grpSpPr>
          <p:sp>
            <p:nvSpPr>
              <p:cNvPr id="282" name=""/>
              <p:cNvSpPr/>
              <p:nvPr/>
            </p:nvSpPr>
            <p:spPr>
              <a:xfrm>
                <a:off x="1763640" y="540540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763640" y="5405400"/>
                <a:ext cx="175248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Muito qu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268600" y="4991040"/>
              <a:ext cx="2590920" cy="414360"/>
              <a:chOff x="5268600" y="4991040"/>
              <a:chExt cx="2590920" cy="414360"/>
            </a:xfrm>
          </p:grpSpPr>
          <p:sp>
            <p:nvSpPr>
              <p:cNvPr id="285" name=""/>
              <p:cNvSpPr/>
              <p:nvPr/>
            </p:nvSpPr>
            <p:spPr>
              <a:xfrm>
                <a:off x="5268600" y="4991040"/>
                <a:ext cx="2590920" cy="41436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68600" y="4991040"/>
                <a:ext cx="2590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516120" y="4991040"/>
              <a:ext cx="1752480" cy="414360"/>
              <a:chOff x="3516120" y="4991040"/>
              <a:chExt cx="1752480" cy="414360"/>
            </a:xfrm>
          </p:grpSpPr>
          <p:sp>
            <p:nvSpPr>
              <p:cNvPr id="288" name=""/>
              <p:cNvSpPr/>
              <p:nvPr/>
            </p:nvSpPr>
            <p:spPr>
              <a:xfrm>
                <a:off x="3516120" y="4991040"/>
                <a:ext cx="1752480" cy="41436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16120" y="499104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Méd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763640" y="4991040"/>
              <a:ext cx="1752480" cy="414360"/>
              <a:chOff x="1763640" y="4991040"/>
              <a:chExt cx="1752480" cy="414360"/>
            </a:xfrm>
          </p:grpSpPr>
          <p:sp>
            <p:nvSpPr>
              <p:cNvPr id="291" name=""/>
              <p:cNvSpPr/>
              <p:nvPr/>
            </p:nvSpPr>
            <p:spPr>
              <a:xfrm>
                <a:off x="1763640" y="4991040"/>
                <a:ext cx="1752480" cy="41436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63640" y="499104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Qu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268600" y="4595760"/>
              <a:ext cx="2590920" cy="395280"/>
              <a:chOff x="5268600" y="4595760"/>
              <a:chExt cx="2590920" cy="395280"/>
            </a:xfrm>
          </p:grpSpPr>
          <p:sp>
            <p:nvSpPr>
              <p:cNvPr id="294" name=""/>
              <p:cNvSpPr/>
              <p:nvPr/>
            </p:nvSpPr>
            <p:spPr>
              <a:xfrm>
                <a:off x="5268600" y="4595760"/>
                <a:ext cx="259092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68600" y="4595760"/>
                <a:ext cx="2590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516120" y="4595760"/>
              <a:ext cx="1752480" cy="395280"/>
              <a:chOff x="3516120" y="4595760"/>
              <a:chExt cx="1752480" cy="39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3516120" y="459576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16120" y="459576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Devag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763640" y="4595760"/>
              <a:ext cx="1752480" cy="395280"/>
              <a:chOff x="1763640" y="4595760"/>
              <a:chExt cx="1752480" cy="39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763640" y="459576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3640" y="459576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F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268600" y="4200480"/>
              <a:ext cx="2590920" cy="395280"/>
              <a:chOff x="5268600" y="4200480"/>
              <a:chExt cx="2590920" cy="3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5268600" y="4200480"/>
                <a:ext cx="259092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68600" y="4200480"/>
                <a:ext cx="25909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516120" y="4200480"/>
              <a:ext cx="1752480" cy="395280"/>
              <a:chOff x="3516120" y="4200480"/>
              <a:chExt cx="1752480" cy="395280"/>
            </a:xfrm>
          </p:grpSpPr>
          <p:sp>
            <p:nvSpPr>
              <p:cNvPr id="306" name=""/>
              <p:cNvSpPr/>
              <p:nvPr/>
            </p:nvSpPr>
            <p:spPr>
              <a:xfrm>
                <a:off x="3516120" y="420048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16120" y="420048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Desliga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763640" y="4200480"/>
              <a:ext cx="1752480" cy="395280"/>
              <a:chOff x="1763640" y="4200480"/>
              <a:chExt cx="1752480" cy="3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1763640" y="4200480"/>
                <a:ext cx="1752480" cy="3952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63640" y="420048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Muito f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268600" y="3500280"/>
              <a:ext cx="2590920" cy="700200"/>
              <a:chOff x="5268600" y="3500280"/>
              <a:chExt cx="2590920" cy="700200"/>
            </a:xfrm>
          </p:grpSpPr>
          <p:sp>
            <p:nvSpPr>
              <p:cNvPr id="312" name=""/>
              <p:cNvSpPr/>
              <p:nvPr/>
            </p:nvSpPr>
            <p:spPr>
              <a:xfrm>
                <a:off x="5268600" y="3500280"/>
                <a:ext cx="2590920" cy="700200"/>
              </a:xfrm>
              <a:prstGeom prst="roundRect">
                <a:avLst>
                  <a:gd name="adj" fmla="val 227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68600" y="3500280"/>
                <a:ext cx="259092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Corrente relativa do mot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516120" y="3500280"/>
              <a:ext cx="1752480" cy="700200"/>
              <a:chOff x="3516120" y="3500280"/>
              <a:chExt cx="1752480" cy="700200"/>
            </a:xfrm>
          </p:grpSpPr>
          <p:sp>
            <p:nvSpPr>
              <p:cNvPr id="315" name=""/>
              <p:cNvSpPr/>
              <p:nvPr/>
            </p:nvSpPr>
            <p:spPr>
              <a:xfrm>
                <a:off x="3516120" y="3500280"/>
                <a:ext cx="1752480" cy="700200"/>
              </a:xfrm>
              <a:prstGeom prst="roundRect">
                <a:avLst>
                  <a:gd name="adj" fmla="val 227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16120" y="350028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Velocida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763640" y="3500280"/>
              <a:ext cx="1752480" cy="700200"/>
              <a:chOff x="1763640" y="3500280"/>
              <a:chExt cx="1752480" cy="700200"/>
            </a:xfrm>
          </p:grpSpPr>
          <p:sp>
            <p:nvSpPr>
              <p:cNvPr id="318" name=""/>
              <p:cNvSpPr/>
              <p:nvPr/>
            </p:nvSpPr>
            <p:spPr>
              <a:xfrm>
                <a:off x="1763640" y="3500280"/>
                <a:ext cx="1752480" cy="700200"/>
              </a:xfrm>
              <a:prstGeom prst="roundRect">
                <a:avLst>
                  <a:gd name="adj" fmla="val 227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63640" y="3500280"/>
                <a:ext cx="1752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 Unicode MS"/>
                  </a:rPr>
                  <a:t>Temperatu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763640" y="3500280"/>
              <a:ext cx="6095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63640" y="420048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63640" y="459576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63640" y="499104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63640" y="540540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3640" y="5800680"/>
              <a:ext cx="609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3640" y="3500280"/>
              <a:ext cx="1440" cy="23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6120" y="3500280"/>
              <a:ext cx="1440" cy="23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68600" y="3500280"/>
              <a:ext cx="1800" cy="23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59520" y="3500280"/>
              <a:ext cx="1440" cy="23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 (Fuzz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C2E-9F5B-444F-99DD-6C16A206FD5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3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omento de desenvolver um sistema baseado em lógica fuzzy, deve-se decid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o cada variável de entrada e saída será particionada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ociar uma função de pertinência para cada part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exemplo, tem-se 4 funções de pertinência para 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 quinta (moderada) poderia ser adicionada entre frio e q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número de funções necessárias depende da exatidão desejada para 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o mais curvas, mais sensibilidade, maior complex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Desenvolvendo o sistema fuzz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00B-8F50-4DF5-8F70-602C4E7B30B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31400" y="189000"/>
            <a:ext cx="82933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</a:rPr>
              <a:t>Exemplo: Conjuntos fuzzy correspondentes à variável Temperatura</a:t>
            </a:r>
            <a:endParaRPr b="1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76360" y="2781360"/>
            <a:ext cx="5943600" cy="2758320"/>
            <a:chOff x="1476360" y="2781360"/>
            <a:chExt cx="5943600" cy="2758320"/>
          </a:xfrm>
        </p:grpSpPr>
        <p:sp>
          <p:nvSpPr>
            <p:cNvPr id="335" name=""/>
            <p:cNvSpPr/>
            <p:nvPr/>
          </p:nvSpPr>
          <p:spPr>
            <a:xfrm>
              <a:off x="1933560" y="2781360"/>
              <a:ext cx="5486400" cy="243828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04960" y="5219640"/>
              <a:ext cx="5715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-1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2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3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76360" y="3054600"/>
              <a:ext cx="533520" cy="21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33560" y="3238560"/>
              <a:ext cx="19051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38680" y="3238560"/>
              <a:ext cx="638280" cy="1825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48160" y="3238560"/>
              <a:ext cx="53352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912840" y="3238560"/>
              <a:ext cx="53676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476960" y="3236760"/>
              <a:ext cx="609480" cy="1832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5085000" y="3236760"/>
              <a:ext cx="612720" cy="1832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981680" y="3236760"/>
              <a:ext cx="914400" cy="183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96080" y="3238560"/>
              <a:ext cx="1523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33560" y="5067360"/>
              <a:ext cx="5486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6200" y="2814840"/>
              <a:ext cx="12952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Unicode MS"/>
                </a:rPr>
                <a:t>Muito_f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67280" y="2814840"/>
              <a:ext cx="609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80"/>
                  </a:solidFill>
                  <a:latin typeface="Arial Unicode MS"/>
                </a:rPr>
                <a:t>Frio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76760" y="2814840"/>
              <a:ext cx="914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Arial Unicode MS"/>
                </a:rPr>
                <a:t>Qu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72400" y="2814840"/>
              <a:ext cx="14475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Muito_qu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169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ções de pertinência para a variável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exemplo tem-se apenas a variável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5950080"/>
            <a:ext cx="748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formatos mais utilizados para funções de pertinência são os trapezoidais e os triangulares. Mas qualquer função mais adequada ao caso pode ser util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178-CE4A-44C3-A3BE-84CEAC44DB4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6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</a:rPr>
              <a:t>Exemplo: Conjuntos fuzzy correspondentes à variável Velocidade</a:t>
            </a:r>
            <a:endParaRPr b="1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6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ções de pertinência para a variável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exemplo tem-se apenas a variável velo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692360" y="3213000"/>
            <a:ext cx="5943600" cy="2758320"/>
            <a:chOff x="1692360" y="3213000"/>
            <a:chExt cx="5943600" cy="2758320"/>
          </a:xfrm>
        </p:grpSpPr>
        <p:sp>
          <p:nvSpPr>
            <p:cNvPr id="356" name=""/>
            <p:cNvSpPr/>
            <p:nvPr/>
          </p:nvSpPr>
          <p:spPr>
            <a:xfrm>
              <a:off x="2149560" y="3213000"/>
              <a:ext cx="4648320" cy="243828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20960" y="5651280"/>
              <a:ext cx="5715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2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4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6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8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2360" y="3485880"/>
              <a:ext cx="533520" cy="22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9560" y="3670200"/>
              <a:ext cx="3049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54480" y="3670200"/>
              <a:ext cx="409320" cy="1825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73440" y="3670200"/>
              <a:ext cx="68580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00400" y="3670200"/>
              <a:ext cx="61272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5881320" y="3744360"/>
              <a:ext cx="917640" cy="1755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807160" y="3668760"/>
              <a:ext cx="990720" cy="18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49560" y="5499000"/>
              <a:ext cx="464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73240" y="3246480"/>
              <a:ext cx="6858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Unicode M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87640" y="324648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80"/>
                  </a:solidFill>
                  <a:latin typeface="Arial Unicode MS"/>
                </a:rPr>
                <a:t>baixa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92760" y="3246480"/>
              <a:ext cx="914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Arial Unicode MS"/>
                </a:rPr>
                <a:t>mé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40680" y="3246480"/>
              <a:ext cx="5331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al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1680" y="3670200"/>
              <a:ext cx="761760" cy="1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749760" y="3744360"/>
              <a:ext cx="914400" cy="1755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64160" y="3746520"/>
              <a:ext cx="1219320" cy="1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108-EFC5-49EE-9FA6-607C5C3638F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</a:rPr>
              <a:t>Exemplo: Definindo as regras de produção</a:t>
            </a:r>
            <a:endParaRPr b="1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660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muito_frio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frio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baix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quente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mé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muito_quente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a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nto as regras como os conjuntos fuzzy são especificados de acordo com o conhecimento de um especialista no domínio do 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091-9486-4999-A160-E0815D653FC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280" y="338040"/>
            <a:ext cx="7716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Processo de fuzzificaçã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6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ºC pode ser considerada “fria” ou “que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0% fria e 30% q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71640" y="5877000"/>
            <a:ext cx="7867440" cy="761760"/>
          </a:xfrm>
          <a:prstGeom prst="roundRect">
            <a:avLst>
              <a:gd name="adj" fmla="val 2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71640" y="5950080"/>
            <a:ext cx="7777080" cy="6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zzificaçã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ransformar variáveis qualitativas, com base nas funções de pertinência, em algum significado para o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52480" y="2743200"/>
            <a:ext cx="5486400" cy="2438280"/>
          </a:xfrm>
          <a:prstGeom prst="roundRect">
            <a:avLst>
              <a:gd name="adj" fmla="val 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181480"/>
            <a:ext cx="5715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-1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2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30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3016080"/>
            <a:ext cx="533520" cy="22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52480" y="3200400"/>
            <a:ext cx="19051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57600" y="3200400"/>
            <a:ext cx="638280" cy="1825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3200400"/>
            <a:ext cx="533520" cy="182880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731760" y="3200400"/>
            <a:ext cx="536760" cy="182880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4903920" y="3198960"/>
            <a:ext cx="612720" cy="18316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00600" y="3198960"/>
            <a:ext cx="914400" cy="183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3200400"/>
            <a:ext cx="1523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5029200"/>
            <a:ext cx="5486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2776680"/>
            <a:ext cx="1218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Unicode MS"/>
              </a:rPr>
              <a:t>Muito_f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2776680"/>
            <a:ext cx="7617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80"/>
                </a:solidFill>
                <a:latin typeface="Arial Unicode MS"/>
              </a:rPr>
              <a:t>Frio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2776680"/>
            <a:ext cx="91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Arial Unicode MS"/>
              </a:rPr>
              <a:t>Q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1320" y="2776680"/>
            <a:ext cx="1447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Muito_q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33920" y="3809880"/>
            <a:ext cx="1066680" cy="1220760"/>
          </a:xfrm>
          <a:custGeom>
            <a:avLst/>
            <a:gdLst/>
            <a:ahLst/>
            <a:rect l="l" t="t" r="r" b="b"/>
            <a:pathLst>
              <a:path w="2965" h="3389">
                <a:moveTo>
                  <a:pt x="1005" y="13"/>
                </a:moveTo>
                <a:lnTo>
                  <a:pt x="0" y="3388"/>
                </a:lnTo>
                <a:lnTo>
                  <a:pt x="2964" y="3388"/>
                </a:lnTo>
                <a:lnTo>
                  <a:pt x="1958" y="0"/>
                </a:lnTo>
                <a:lnTo>
                  <a:pt x="1005" y="13"/>
                </a:lnTo>
                <a:lnTo>
                  <a:pt x="1005" y="13"/>
                </a:lnTo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00560" y="4491000"/>
            <a:ext cx="1201680" cy="534960"/>
          </a:xfrm>
          <a:custGeom>
            <a:avLst/>
            <a:gdLst/>
            <a:ahLst/>
            <a:rect l="l" t="t" r="r" b="b"/>
            <a:pathLst>
              <a:path w="3336" h="1484">
                <a:moveTo>
                  <a:pt x="502" y="0"/>
                </a:moveTo>
                <a:lnTo>
                  <a:pt x="2885" y="0"/>
                </a:lnTo>
                <a:lnTo>
                  <a:pt x="3335" y="1469"/>
                </a:lnTo>
                <a:lnTo>
                  <a:pt x="0" y="1483"/>
                </a:lnTo>
                <a:lnTo>
                  <a:pt x="502" y="0"/>
                </a:lnTo>
                <a:lnTo>
                  <a:pt x="502" y="0"/>
                </a:lnTo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467240" y="2894040"/>
            <a:ext cx="1440" cy="244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23880" y="4486320"/>
            <a:ext cx="39625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3809880"/>
            <a:ext cx="3138480" cy="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295880" y="3198960"/>
            <a:ext cx="609480" cy="18316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B08-906A-472F-A6CD-479B54E918CE}" type="slidenum">
              <a:t>39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" dur="1" fill="hold"/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70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finição de regras para diagnóstico odontológico utilizando a lógica de primeira or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8000" y="2997360"/>
                <a:ext cx="5759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nt</m:t>
                    </m:r>
                    <m:r>
                      <m:rPr>
                        <m:lit/>
                        <m:nor/>
                      </m:rPr>
                      <m:t xml:space="preserve">oma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rDeDente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oença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ári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42920" y="4221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á regra está corre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D16-95AB-49A2-9AEA-CEF3069FF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280" y="338040"/>
            <a:ext cx="7716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Regras ativad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169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muito_frio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94476b"/>
                </a:solidFill>
                <a:latin typeface="Arial"/>
              </a:rPr>
              <a:t>If (temperatura is frio) then (velocidade is baix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f (temperatura is quente) then (velocidade is mé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66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emperatura is muito_quente)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locidade is a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00B-A597-48BA-BEDA-8AE85F5BB34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71280" y="338040"/>
            <a:ext cx="7716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Avaliação das regr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nte a avaliação de uma re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es são computados baseados nos níveis de ativação alcança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 cada uma das funções de pertin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 cada uma das 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es valores são associados às regras difusas de saí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ralmente uma função de minimização é utilizada para determinar o valor associado a cada variável de entrada quando mais de uma função de pertinência é ativada na mesma reg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C88-3AD0-45DD-886D-04FD9A153AC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Operações sobre conjuntos fuzz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169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seção de dois conjuntos, corresponde à função fuzzy-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(A AND B) = min(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,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ão de dois conjuntos, corresponde à função fuzzy-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(A OR B) = max(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,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A6C-4594-4F6E-963A-08F100BAEF1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048120" y="2057400"/>
            <a:ext cx="2361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71640" y="1484280"/>
            <a:ext cx="1353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42920" y="4797360"/>
            <a:ext cx="1871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124000" y="836640"/>
            <a:ext cx="5943600" cy="2758320"/>
            <a:chOff x="2124000" y="836640"/>
            <a:chExt cx="5943600" cy="2758320"/>
          </a:xfrm>
        </p:grpSpPr>
        <p:sp>
          <p:nvSpPr>
            <p:cNvPr id="410" name=""/>
            <p:cNvSpPr/>
            <p:nvPr/>
          </p:nvSpPr>
          <p:spPr>
            <a:xfrm>
              <a:off x="2581200" y="836640"/>
              <a:ext cx="5486400" cy="243828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52600" y="3274920"/>
              <a:ext cx="5715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-1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2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3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24000" y="1109880"/>
              <a:ext cx="533520" cy="21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81200" y="1293840"/>
              <a:ext cx="19051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86320" y="1293840"/>
              <a:ext cx="638280" cy="1825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95800" y="1293840"/>
              <a:ext cx="53352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560480" y="1293840"/>
              <a:ext cx="536760" cy="182880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24600" y="1292040"/>
              <a:ext cx="609480" cy="1832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5732640" y="1292040"/>
              <a:ext cx="612720" cy="1832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629320" y="1292040"/>
              <a:ext cx="914400" cy="183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43720" y="1293840"/>
              <a:ext cx="1523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81200" y="3122640"/>
              <a:ext cx="5486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33840" y="870120"/>
              <a:ext cx="12952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Unicode MS"/>
                </a:rPr>
                <a:t>Muito_f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14920" y="870120"/>
              <a:ext cx="609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80"/>
                  </a:solidFill>
                  <a:latin typeface="Arial Unicode MS"/>
                </a:rPr>
                <a:t>Frio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24400" y="870120"/>
              <a:ext cx="914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Arial Unicode MS"/>
                </a:rPr>
                <a:t>Qu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20040" y="870120"/>
              <a:ext cx="14475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Muito_qu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949480" y="4005360"/>
            <a:ext cx="5943600" cy="2757960"/>
            <a:chOff x="2949480" y="4005360"/>
            <a:chExt cx="5943600" cy="2757960"/>
          </a:xfrm>
        </p:grpSpPr>
        <p:sp>
          <p:nvSpPr>
            <p:cNvPr id="427" name=""/>
            <p:cNvSpPr/>
            <p:nvPr/>
          </p:nvSpPr>
          <p:spPr>
            <a:xfrm>
              <a:off x="3406680" y="4005360"/>
              <a:ext cx="4648320" cy="243792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78080" y="6443280"/>
              <a:ext cx="5715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2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4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6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8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49480" y="4277880"/>
              <a:ext cx="533520" cy="22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06680" y="4462200"/>
              <a:ext cx="304920" cy="1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11600" y="4462200"/>
              <a:ext cx="409320" cy="1825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30560" y="4462200"/>
              <a:ext cx="685800" cy="1828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557520" y="4462200"/>
              <a:ext cx="612720" cy="1828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38440" y="4536720"/>
              <a:ext cx="917640" cy="175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064280" y="4460400"/>
              <a:ext cx="990720" cy="183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06680" y="6291000"/>
              <a:ext cx="4648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30360" y="4038480"/>
              <a:ext cx="6858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ff"/>
                  </a:solidFill>
                  <a:latin typeface="Arial Unicode M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44760" y="403848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80"/>
                  </a:solidFill>
                  <a:latin typeface="Arial Unicode MS"/>
                </a:rPr>
                <a:t>baixa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9880" y="4038480"/>
              <a:ext cx="914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Arial Unicode MS"/>
                </a:rPr>
                <a:t>mé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97800" y="4038480"/>
              <a:ext cx="5331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Unicode MS"/>
                </a:rPr>
                <a:t>al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68800" y="4462200"/>
              <a:ext cx="761760" cy="10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006880" y="4536720"/>
              <a:ext cx="914400" cy="175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21280" y="4538520"/>
              <a:ext cx="1219320" cy="1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2C4-B091-42A0-90E7-103D56C8FAA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762120" y="45720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52880" y="45720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167652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167652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289548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289548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11480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411480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533412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525780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525780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541008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33520"/>
            <a:ext cx="3352680" cy="990360"/>
          </a:xfrm>
          <a:custGeom>
            <a:avLst/>
            <a:gdLst/>
            <a:ahLst/>
            <a:rect l="l" t="t" r="r" b="b"/>
            <a:pathLst>
              <a:path w="9315" h="2753">
                <a:moveTo>
                  <a:pt x="0" y="0"/>
                </a:moveTo>
                <a:lnTo>
                  <a:pt x="5080" y="0"/>
                </a:lnTo>
                <a:lnTo>
                  <a:pt x="6138" y="2752"/>
                </a:lnTo>
                <a:lnTo>
                  <a:pt x="9314" y="2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4191120"/>
            <a:ext cx="3352680" cy="990360"/>
          </a:xfrm>
          <a:custGeom>
            <a:avLst/>
            <a:gdLst/>
            <a:ahLst/>
            <a:rect l="l" t="t" r="r" b="b"/>
            <a:pathLst>
              <a:path w="9315" h="2753">
                <a:moveTo>
                  <a:pt x="0" y="2752"/>
                </a:moveTo>
                <a:lnTo>
                  <a:pt x="6985" y="2752"/>
                </a:lnTo>
                <a:lnTo>
                  <a:pt x="8467" y="0"/>
                </a:lnTo>
                <a:lnTo>
                  <a:pt x="9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533520"/>
            <a:ext cx="3354480" cy="990360"/>
          </a:xfrm>
          <a:custGeom>
            <a:avLst/>
            <a:gdLst/>
            <a:ahLst/>
            <a:rect l="l" t="t" r="r" b="b"/>
            <a:pathLst>
              <a:path w="9316" h="2753">
                <a:moveTo>
                  <a:pt x="0" y="0"/>
                </a:moveTo>
                <a:lnTo>
                  <a:pt x="423" y="0"/>
                </a:lnTo>
                <a:lnTo>
                  <a:pt x="1693" y="2752"/>
                </a:lnTo>
                <a:lnTo>
                  <a:pt x="9315" y="2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52880" y="4191120"/>
            <a:ext cx="3354480" cy="990360"/>
          </a:xfrm>
          <a:custGeom>
            <a:avLst/>
            <a:gdLst/>
            <a:ahLst/>
            <a:rect l="l" t="t" r="r" b="b"/>
            <a:pathLst>
              <a:path w="9316" h="2753">
                <a:moveTo>
                  <a:pt x="0" y="2752"/>
                </a:moveTo>
                <a:lnTo>
                  <a:pt x="7833" y="2752"/>
                </a:lnTo>
                <a:lnTo>
                  <a:pt x="93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90920" y="2050920"/>
            <a:ext cx="685800" cy="693720"/>
          </a:xfrm>
          <a:custGeom>
            <a:avLst/>
            <a:gdLst/>
            <a:ahLst/>
            <a:rect l="l" t="t" r="r" b="b"/>
            <a:pathLst>
              <a:path w="1907" h="1925">
                <a:moveTo>
                  <a:pt x="1253" y="0"/>
                </a:moveTo>
                <a:lnTo>
                  <a:pt x="741" y="0"/>
                </a:lnTo>
                <a:lnTo>
                  <a:pt x="0" y="1924"/>
                </a:lnTo>
                <a:lnTo>
                  <a:pt x="1906" y="1924"/>
                </a:lnTo>
                <a:lnTo>
                  <a:pt x="1253" y="0"/>
                </a:lnTo>
                <a:lnTo>
                  <a:pt x="1253" y="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95480" y="3657600"/>
            <a:ext cx="914400" cy="306360"/>
          </a:xfrm>
          <a:custGeom>
            <a:avLst/>
            <a:gdLst/>
            <a:ahLst/>
            <a:rect l="l" t="t" r="r" b="b"/>
            <a:pathLst>
              <a:path w="2542" h="849">
                <a:moveTo>
                  <a:pt x="423" y="0"/>
                </a:moveTo>
                <a:lnTo>
                  <a:pt x="2135" y="0"/>
                </a:lnTo>
                <a:lnTo>
                  <a:pt x="2541" y="848"/>
                </a:lnTo>
                <a:lnTo>
                  <a:pt x="0" y="848"/>
                </a:lnTo>
                <a:lnTo>
                  <a:pt x="423" y="0"/>
                </a:lnTo>
                <a:lnTo>
                  <a:pt x="423" y="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457200"/>
            <a:ext cx="144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8120" y="2057400"/>
            <a:ext cx="2361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657600"/>
            <a:ext cx="2666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2063880"/>
            <a:ext cx="1371600" cy="679320"/>
          </a:xfrm>
          <a:custGeom>
            <a:avLst/>
            <a:gdLst/>
            <a:ahLst/>
            <a:rect l="l" t="t" r="r" b="b"/>
            <a:pathLst>
              <a:path w="3812" h="1888">
                <a:moveTo>
                  <a:pt x="0" y="1887"/>
                </a:moveTo>
                <a:lnTo>
                  <a:pt x="723" y="0"/>
                </a:lnTo>
                <a:lnTo>
                  <a:pt x="3087" y="0"/>
                </a:lnTo>
                <a:lnTo>
                  <a:pt x="3811" y="1887"/>
                </a:lnTo>
                <a:lnTo>
                  <a:pt x="0" y="1887"/>
                </a:lnTo>
                <a:lnTo>
                  <a:pt x="0" y="1887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48520" y="3657600"/>
            <a:ext cx="2057400" cy="306360"/>
          </a:xfrm>
          <a:custGeom>
            <a:avLst/>
            <a:gdLst/>
            <a:ahLst/>
            <a:rect l="l" t="t" r="r" b="b"/>
            <a:pathLst>
              <a:path w="5717" h="849">
                <a:moveTo>
                  <a:pt x="0" y="848"/>
                </a:moveTo>
                <a:lnTo>
                  <a:pt x="264" y="0"/>
                </a:lnTo>
                <a:lnTo>
                  <a:pt x="5292" y="0"/>
                </a:lnTo>
                <a:lnTo>
                  <a:pt x="5716" y="848"/>
                </a:lnTo>
                <a:lnTo>
                  <a:pt x="0" y="848"/>
                </a:lnTo>
                <a:lnTo>
                  <a:pt x="0" y="848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971800"/>
            <a:ext cx="3354480" cy="992160"/>
          </a:xfrm>
          <a:custGeom>
            <a:avLst/>
            <a:gdLst/>
            <a:ahLst/>
            <a:rect l="l" t="t" r="r" b="b"/>
            <a:pathLst>
              <a:path w="9316" h="2754">
                <a:moveTo>
                  <a:pt x="0" y="2753"/>
                </a:moveTo>
                <a:lnTo>
                  <a:pt x="3598" y="2753"/>
                </a:lnTo>
                <a:lnTo>
                  <a:pt x="4445" y="0"/>
                </a:lnTo>
                <a:lnTo>
                  <a:pt x="7833" y="0"/>
                </a:lnTo>
                <a:lnTo>
                  <a:pt x="9315" y="27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1752480"/>
            <a:ext cx="3354480" cy="992160"/>
          </a:xfrm>
          <a:custGeom>
            <a:avLst/>
            <a:gdLst/>
            <a:ahLst/>
            <a:rect l="l" t="t" r="r" b="b"/>
            <a:pathLst>
              <a:path w="9316" h="2754">
                <a:moveTo>
                  <a:pt x="0" y="2753"/>
                </a:moveTo>
                <a:lnTo>
                  <a:pt x="635" y="2753"/>
                </a:lnTo>
                <a:lnTo>
                  <a:pt x="1693" y="0"/>
                </a:lnTo>
                <a:lnTo>
                  <a:pt x="3387" y="0"/>
                </a:lnTo>
                <a:lnTo>
                  <a:pt x="4445" y="2753"/>
                </a:lnTo>
                <a:lnTo>
                  <a:pt x="9315" y="27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1781280"/>
            <a:ext cx="3352680" cy="961920"/>
          </a:xfrm>
          <a:custGeom>
            <a:avLst/>
            <a:gdLst/>
            <a:ahLst/>
            <a:rect l="l" t="t" r="r" b="b"/>
            <a:pathLst>
              <a:path w="9315" h="2674">
                <a:moveTo>
                  <a:pt x="0" y="2673"/>
                </a:moveTo>
                <a:lnTo>
                  <a:pt x="5080" y="2673"/>
                </a:lnTo>
                <a:lnTo>
                  <a:pt x="6107" y="0"/>
                </a:lnTo>
                <a:lnTo>
                  <a:pt x="6985" y="2673"/>
                </a:lnTo>
                <a:lnTo>
                  <a:pt x="9314" y="26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000240"/>
            <a:ext cx="3352680" cy="963720"/>
          </a:xfrm>
          <a:custGeom>
            <a:avLst/>
            <a:gdLst/>
            <a:ahLst/>
            <a:rect l="l" t="t" r="r" b="b"/>
            <a:pathLst>
              <a:path w="9315" h="2675">
                <a:moveTo>
                  <a:pt x="0" y="2674"/>
                </a:moveTo>
                <a:lnTo>
                  <a:pt x="5927" y="2674"/>
                </a:lnTo>
                <a:lnTo>
                  <a:pt x="7236" y="0"/>
                </a:lnTo>
                <a:lnTo>
                  <a:pt x="8467" y="2674"/>
                </a:lnTo>
                <a:lnTo>
                  <a:pt x="9314" y="26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181480" y="5721480"/>
            <a:ext cx="1371600" cy="679320"/>
          </a:xfrm>
          <a:custGeom>
            <a:avLst/>
            <a:gdLst/>
            <a:ahLst/>
            <a:rect l="l" t="t" r="r" b="b"/>
            <a:pathLst>
              <a:path w="3812" h="1888">
                <a:moveTo>
                  <a:pt x="0" y="1887"/>
                </a:moveTo>
                <a:lnTo>
                  <a:pt x="723" y="0"/>
                </a:lnTo>
                <a:lnTo>
                  <a:pt x="3087" y="0"/>
                </a:lnTo>
                <a:lnTo>
                  <a:pt x="3811" y="1887"/>
                </a:lnTo>
                <a:lnTo>
                  <a:pt x="0" y="1887"/>
                </a:lnTo>
                <a:lnTo>
                  <a:pt x="0" y="1887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6095880"/>
            <a:ext cx="2057400" cy="306360"/>
          </a:xfrm>
          <a:custGeom>
            <a:avLst/>
            <a:gdLst/>
            <a:ahLst/>
            <a:rect l="l" t="t" r="r" b="b"/>
            <a:pathLst>
              <a:path w="5717" h="849">
                <a:moveTo>
                  <a:pt x="0" y="848"/>
                </a:moveTo>
                <a:lnTo>
                  <a:pt x="264" y="0"/>
                </a:lnTo>
                <a:lnTo>
                  <a:pt x="5292" y="0"/>
                </a:lnTo>
                <a:lnTo>
                  <a:pt x="5716" y="848"/>
                </a:lnTo>
                <a:lnTo>
                  <a:pt x="0" y="848"/>
                </a:lnTo>
                <a:lnTo>
                  <a:pt x="0" y="848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158760"/>
            <a:ext cx="297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29200" y="152280"/>
            <a:ext cx="297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715000"/>
            <a:ext cx="1371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omposi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644508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6445080"/>
            <a:ext cx="6094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F2E-EE98-4C8E-8178-565B270EC78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Processo de defuzzificaçã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 vez que já se sabe quais regras devem ser at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processo de defuzzificação da saída é necessári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frar o significado de uma ação vaga como: “a velocidade de ser baixa”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lver conflitos entre regras que possam parecer contraditó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 dos métodos mais utilizados se baseia no método de determinação do centróide (determinação do centro de gravidade ou mas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B72-9BF9-4EA9-BEDC-362FF5EC8E9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xemplo: Processo de defuzzificaçã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71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ificação das regras que foram ativ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0">
              <a:spcBef>
                <a:spcPts val="34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o de composição das regras dispar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0">
              <a:spcBef>
                <a:spcPts val="34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áreas que representam o grau de ativação de cada regra são compostas formando uma área result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0">
              <a:spcBef>
                <a:spcPts val="34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bre esta área se calcula o ponto central, baseado no cálculo do centro de ma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0">
              <a:spcBef>
                <a:spcPts val="34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m, o nível de ativação de cada regra age como um nível de ponderação no cálculo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9FE-0960-4779-9869-4065314358A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762120" y="45720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45720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167652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2880" y="167652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289548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952880" y="289548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4114800"/>
            <a:ext cx="335268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11480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52880" y="5334120"/>
            <a:ext cx="33530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525780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525780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41008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533520"/>
            <a:ext cx="3352680" cy="990360"/>
          </a:xfrm>
          <a:custGeom>
            <a:avLst/>
            <a:gdLst/>
            <a:ahLst/>
            <a:rect l="l" t="t" r="r" b="b"/>
            <a:pathLst>
              <a:path w="9315" h="2753">
                <a:moveTo>
                  <a:pt x="0" y="0"/>
                </a:moveTo>
                <a:lnTo>
                  <a:pt x="5080" y="0"/>
                </a:lnTo>
                <a:lnTo>
                  <a:pt x="6138" y="2752"/>
                </a:lnTo>
                <a:lnTo>
                  <a:pt x="9314" y="2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4191120"/>
            <a:ext cx="3352680" cy="990360"/>
          </a:xfrm>
          <a:custGeom>
            <a:avLst/>
            <a:gdLst/>
            <a:ahLst/>
            <a:rect l="l" t="t" r="r" b="b"/>
            <a:pathLst>
              <a:path w="9315" h="2753">
                <a:moveTo>
                  <a:pt x="0" y="2752"/>
                </a:moveTo>
                <a:lnTo>
                  <a:pt x="6985" y="2752"/>
                </a:lnTo>
                <a:lnTo>
                  <a:pt x="8467" y="0"/>
                </a:lnTo>
                <a:lnTo>
                  <a:pt x="93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533520"/>
            <a:ext cx="3354480" cy="990360"/>
          </a:xfrm>
          <a:custGeom>
            <a:avLst/>
            <a:gdLst/>
            <a:ahLst/>
            <a:rect l="l" t="t" r="r" b="b"/>
            <a:pathLst>
              <a:path w="9316" h="2753">
                <a:moveTo>
                  <a:pt x="0" y="0"/>
                </a:moveTo>
                <a:lnTo>
                  <a:pt x="423" y="0"/>
                </a:lnTo>
                <a:lnTo>
                  <a:pt x="1693" y="2752"/>
                </a:lnTo>
                <a:lnTo>
                  <a:pt x="9315" y="2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4191120"/>
            <a:ext cx="3354480" cy="990360"/>
          </a:xfrm>
          <a:custGeom>
            <a:avLst/>
            <a:gdLst/>
            <a:ahLst/>
            <a:rect l="l" t="t" r="r" b="b"/>
            <a:pathLst>
              <a:path w="9316" h="2753">
                <a:moveTo>
                  <a:pt x="0" y="2752"/>
                </a:moveTo>
                <a:lnTo>
                  <a:pt x="7833" y="2752"/>
                </a:lnTo>
                <a:lnTo>
                  <a:pt x="93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050920"/>
            <a:ext cx="685800" cy="693720"/>
          </a:xfrm>
          <a:custGeom>
            <a:avLst/>
            <a:gdLst/>
            <a:ahLst/>
            <a:rect l="l" t="t" r="r" b="b"/>
            <a:pathLst>
              <a:path w="1907" h="1925">
                <a:moveTo>
                  <a:pt x="1253" y="0"/>
                </a:moveTo>
                <a:lnTo>
                  <a:pt x="741" y="0"/>
                </a:lnTo>
                <a:lnTo>
                  <a:pt x="0" y="1924"/>
                </a:lnTo>
                <a:lnTo>
                  <a:pt x="1906" y="1924"/>
                </a:lnTo>
                <a:lnTo>
                  <a:pt x="1253" y="0"/>
                </a:lnTo>
                <a:lnTo>
                  <a:pt x="1253" y="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95480" y="3657600"/>
            <a:ext cx="914400" cy="306360"/>
          </a:xfrm>
          <a:custGeom>
            <a:avLst/>
            <a:gdLst/>
            <a:ahLst/>
            <a:rect l="l" t="t" r="r" b="b"/>
            <a:pathLst>
              <a:path w="2542" h="849">
                <a:moveTo>
                  <a:pt x="423" y="0"/>
                </a:moveTo>
                <a:lnTo>
                  <a:pt x="2135" y="0"/>
                </a:lnTo>
                <a:lnTo>
                  <a:pt x="2541" y="848"/>
                </a:lnTo>
                <a:lnTo>
                  <a:pt x="0" y="848"/>
                </a:lnTo>
                <a:lnTo>
                  <a:pt x="423" y="0"/>
                </a:lnTo>
                <a:lnTo>
                  <a:pt x="423" y="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48120" y="457200"/>
            <a:ext cx="144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48120" y="2057400"/>
            <a:ext cx="2361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0" y="3657600"/>
            <a:ext cx="2666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81480" y="2063880"/>
            <a:ext cx="1371600" cy="679320"/>
          </a:xfrm>
          <a:custGeom>
            <a:avLst/>
            <a:gdLst/>
            <a:ahLst/>
            <a:rect l="l" t="t" r="r" b="b"/>
            <a:pathLst>
              <a:path w="3812" h="1888">
                <a:moveTo>
                  <a:pt x="0" y="1887"/>
                </a:moveTo>
                <a:lnTo>
                  <a:pt x="723" y="0"/>
                </a:lnTo>
                <a:lnTo>
                  <a:pt x="3087" y="0"/>
                </a:lnTo>
                <a:lnTo>
                  <a:pt x="3811" y="1887"/>
                </a:lnTo>
                <a:lnTo>
                  <a:pt x="0" y="1887"/>
                </a:lnTo>
                <a:lnTo>
                  <a:pt x="0" y="1887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48520" y="3657600"/>
            <a:ext cx="2057400" cy="306360"/>
          </a:xfrm>
          <a:custGeom>
            <a:avLst/>
            <a:gdLst/>
            <a:ahLst/>
            <a:rect l="l" t="t" r="r" b="b"/>
            <a:pathLst>
              <a:path w="5717" h="849">
                <a:moveTo>
                  <a:pt x="0" y="848"/>
                </a:moveTo>
                <a:lnTo>
                  <a:pt x="264" y="0"/>
                </a:lnTo>
                <a:lnTo>
                  <a:pt x="5292" y="0"/>
                </a:lnTo>
                <a:lnTo>
                  <a:pt x="5716" y="848"/>
                </a:lnTo>
                <a:lnTo>
                  <a:pt x="0" y="848"/>
                </a:lnTo>
                <a:lnTo>
                  <a:pt x="0" y="848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2971800"/>
            <a:ext cx="3354480" cy="992160"/>
          </a:xfrm>
          <a:custGeom>
            <a:avLst/>
            <a:gdLst/>
            <a:ahLst/>
            <a:rect l="l" t="t" r="r" b="b"/>
            <a:pathLst>
              <a:path w="9316" h="2754">
                <a:moveTo>
                  <a:pt x="0" y="2753"/>
                </a:moveTo>
                <a:lnTo>
                  <a:pt x="3598" y="2753"/>
                </a:lnTo>
                <a:lnTo>
                  <a:pt x="4445" y="0"/>
                </a:lnTo>
                <a:lnTo>
                  <a:pt x="7833" y="0"/>
                </a:lnTo>
                <a:lnTo>
                  <a:pt x="9315" y="27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1752480"/>
            <a:ext cx="3354480" cy="992160"/>
          </a:xfrm>
          <a:custGeom>
            <a:avLst/>
            <a:gdLst/>
            <a:ahLst/>
            <a:rect l="l" t="t" r="r" b="b"/>
            <a:pathLst>
              <a:path w="9316" h="2754">
                <a:moveTo>
                  <a:pt x="0" y="2753"/>
                </a:moveTo>
                <a:lnTo>
                  <a:pt x="635" y="2753"/>
                </a:lnTo>
                <a:lnTo>
                  <a:pt x="1693" y="0"/>
                </a:lnTo>
                <a:lnTo>
                  <a:pt x="3387" y="0"/>
                </a:lnTo>
                <a:lnTo>
                  <a:pt x="4445" y="2753"/>
                </a:lnTo>
                <a:lnTo>
                  <a:pt x="9315" y="27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2120" y="1781280"/>
            <a:ext cx="3352680" cy="961920"/>
          </a:xfrm>
          <a:custGeom>
            <a:avLst/>
            <a:gdLst/>
            <a:ahLst/>
            <a:rect l="l" t="t" r="r" b="b"/>
            <a:pathLst>
              <a:path w="9315" h="2674">
                <a:moveTo>
                  <a:pt x="0" y="2673"/>
                </a:moveTo>
                <a:lnTo>
                  <a:pt x="5080" y="2673"/>
                </a:lnTo>
                <a:lnTo>
                  <a:pt x="6107" y="0"/>
                </a:lnTo>
                <a:lnTo>
                  <a:pt x="6985" y="2673"/>
                </a:lnTo>
                <a:lnTo>
                  <a:pt x="9314" y="26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2120" y="3000240"/>
            <a:ext cx="3352680" cy="963720"/>
          </a:xfrm>
          <a:custGeom>
            <a:avLst/>
            <a:gdLst/>
            <a:ahLst/>
            <a:rect l="l" t="t" r="r" b="b"/>
            <a:pathLst>
              <a:path w="9315" h="2675">
                <a:moveTo>
                  <a:pt x="0" y="2674"/>
                </a:moveTo>
                <a:lnTo>
                  <a:pt x="5927" y="2674"/>
                </a:lnTo>
                <a:lnTo>
                  <a:pt x="7236" y="0"/>
                </a:lnTo>
                <a:lnTo>
                  <a:pt x="8467" y="2674"/>
                </a:lnTo>
                <a:lnTo>
                  <a:pt x="9314" y="26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81480" y="5721480"/>
            <a:ext cx="1371600" cy="679320"/>
          </a:xfrm>
          <a:custGeom>
            <a:avLst/>
            <a:gdLst/>
            <a:ahLst/>
            <a:rect l="l" t="t" r="r" b="b"/>
            <a:pathLst>
              <a:path w="3812" h="1888">
                <a:moveTo>
                  <a:pt x="0" y="1887"/>
                </a:moveTo>
                <a:lnTo>
                  <a:pt x="723" y="0"/>
                </a:lnTo>
                <a:lnTo>
                  <a:pt x="3087" y="0"/>
                </a:lnTo>
                <a:lnTo>
                  <a:pt x="3811" y="1887"/>
                </a:lnTo>
                <a:lnTo>
                  <a:pt x="0" y="1887"/>
                </a:lnTo>
                <a:lnTo>
                  <a:pt x="0" y="1887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48520" y="6095880"/>
            <a:ext cx="2057400" cy="306360"/>
          </a:xfrm>
          <a:custGeom>
            <a:avLst/>
            <a:gdLst/>
            <a:ahLst/>
            <a:rect l="l" t="t" r="r" b="b"/>
            <a:pathLst>
              <a:path w="5717" h="849">
                <a:moveTo>
                  <a:pt x="0" y="848"/>
                </a:moveTo>
                <a:lnTo>
                  <a:pt x="264" y="0"/>
                </a:lnTo>
                <a:lnTo>
                  <a:pt x="5292" y="0"/>
                </a:lnTo>
                <a:lnTo>
                  <a:pt x="5716" y="848"/>
                </a:lnTo>
                <a:lnTo>
                  <a:pt x="0" y="848"/>
                </a:lnTo>
                <a:lnTo>
                  <a:pt x="0" y="848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5334120"/>
            <a:ext cx="14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97760" y="6445080"/>
            <a:ext cx="12697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4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158760"/>
            <a:ext cx="297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152280"/>
            <a:ext cx="297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715000"/>
            <a:ext cx="1371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omposi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00600" y="6445080"/>
            <a:ext cx="457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077320" y="6445080"/>
            <a:ext cx="6094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83F-1902-408B-8F14-E57F8D1B2CC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delo Nebulos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tilização mais significativa da teoria dos conjuntos nebulosos em sistemas baseados em conhecimento são os controladores nebulo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ntrolador nebuloso pode ser visto como um sistema especialista simplificado, em que a conseqüência de uma regra não é aplicada como antecedente de outra. Isto porque as ações de controle são baseadas em um único nível de inferê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0E6-87A0-4130-AB48-407E88F95ED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plicações 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8501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e de Aeronave (Rockwell Cor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ção do Metrô de Sendai (Hitac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missão Automática (Nissan, Suba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ce Shuttle Docking (NA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imização 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vadores (Hitachi, Fujitech, Mitsubis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álise do Mercado de Ações (Yamaic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álise de S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juste da Imagem de TV (S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focus para Câmera de Video (Can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49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ilizador de Imagens de Video (Panaso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022-038C-4C76-9580-BBE72EAEADD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m todos os pacientes com dores de dentes têm caries; alguns deles têm gengivite, abscessos ou outros 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tativa de transformar a regra em uma regra cau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 regra também não é correta; nem todas as cáries causam 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71640" y="2924280"/>
                <a:ext cx="80280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om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orDeDent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enç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árie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Doenç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engivite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Doenç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scess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58920" y="5013360"/>
                <a:ext cx="691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Doença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árie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nt</m:t>
                    </m:r>
                    <m:r>
                      <m:rPr>
                        <m:lit/>
                        <m:nor/>
                      </m:rPr>
                      <m:t xml:space="preserve">oma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rDeDent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49D-E792-4260-A0AB-BC23FE69E3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plicações 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8501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áquinas de lavar (Hitachi) – uso otimizado de potência, água e det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 condicionado industrial (Mitsubishi) – reduz o consumo de potência em 24%, usa menos sen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45D-B044-40ED-8C9C-7F66FFE64CD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81010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ros projetos japon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onhecimento de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stemas fuzzy 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obô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licópteros comandados por vo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SA – controle fuzzy para ancorar suas naves automaticamente no espa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E57-63C2-4B9D-BCED-CDDE87C9BF7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71280" y="320400"/>
            <a:ext cx="7716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erspectiv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660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cial manuseio de incertezas e controle de sistemas compl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ógica fuzzy combinada com redes neurais artif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acidade de adaptação e aprendiz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bi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as classes de sistemas e de controlador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urodif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C2D-F149-4B0E-99D0-A4358B4F5CB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tar usar a lógica de primeira ordem para lidar com um domínio como diagnóstico médico é uma abordagem falha, por três razões princip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gui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norância Te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norância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hecimento do agente pode, na melhor das hipóteses, fornecer apenas um grau de “crença” nas sentenç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l ferramenta para lidar com graus de “crença” –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ia da Prob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951-1F3F-49B6-8CEB-620F7A204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ratamento de Incertez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99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de representar imperfeições da informação, imprecisão, conflito, ignorância parci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inform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feita: a aula começa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recisa: a aula começa entre 8h e 9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erta: acho que a aula começa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ga: a aula começa lá pela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abilística: é provável que a aula comece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ibilista: é possível que a aula comece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onsistente: segundo Maria, a aula começa as 8h, porém segundo João ela começa às 9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ompleta: não sei quando a aula começa, mas usualmente as aulas têm começado às 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1FD-7261-438F-B357-03732E79A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ratamento de Incertez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smo lidando com informações imperfeitas, ainda é possível tomar decisões razo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 modelo formal para tratar cada um dos tipos de informações apresentadas anterio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abilíst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oria de probabilidades; ou teoria da evidência (Dempster-Sha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mprecisa/Vag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oria dos conjuntos nebulosos; conjuntos de aproximaçã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ough set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; ou classes de re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ssibilis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oria de possi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cer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oria de probabilidades; possibilidades; evidência; ou model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consist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lógicas não cláss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comple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lógicas não monotônicas como lógica de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01B-8E88-4979-B450-0EB7E52D8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ratamento de Incertez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numéricos mais conhecidos para a representação da informação imperfei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i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bul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888-DB63-4BF7-903E-9A49073E1C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9T04:01:58Z</dcterms:modified>
  <cp:revision>64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