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9E9-BF96-401F-A4F4-48ED658C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087-7E97-4DA2-BB34-C0B9AFC2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B39-F840-46F3-93E5-320C2AD8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5DD-5C33-4F13-B0D9-8BA40C21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88E8A-4291-4251-A603-11B576C558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E99E1-C64B-4975-AFE0-2674178246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9D0BE-3781-40E4-BDD4-27E0938EB5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FF1F8-58BC-464D-B08A-65E3F97963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BEBC5-6B66-4089-98C3-1F0744193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E23FA-3217-47AE-8AFD-3CDA02A414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31324-1FF8-40FD-8D41-32547690D9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7BE-9BB8-44F9-9DA7-BBD8DECB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BA042-263D-4FF8-B19B-38C7D19F78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AFE2C-A2D6-454E-9E6A-282103272E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3A236-437C-4533-BF9F-82C86A30AE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AEA0B-1B56-4066-914D-D06889938B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E7544-D400-4339-87D2-42CB3E0E2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750-B346-41A4-B123-11DF43EE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971-B61B-4562-A252-694CF3DD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46E-3368-497E-8B47-C0999D97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997-D0C4-4904-9AE9-02000A56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F0A-6D57-445D-9BE6-A6B42BAD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620-1614-4040-A7A3-5A6D783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93B-FB96-41BD-90F5-8DADE9B5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97B7-63FF-45EA-9DE4-8444592F7C0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86B7-14DC-4B81-B31B-61CA9A88DE8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V - Exerc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48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a uma base de conhecimento utilizando regras que permita descrever o processo de decisão para identificar (1) o tipo de emergência, a partir dos sintomas, e (2) o tratamento, a partir do tipo de emerg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o no sistema construído, suponha que um paciente sendo atendido tenha os seguintes sintomas: Dores de Cabeça e Perda dos Sent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o mecanismo de inferência com encadeamento progressivo, qual o tipo de emergência e o respectivo tratamento o sistema indicaria? Ilustre o processo (Conteúdos da Memória de Trabalho e Conjunto Conflito para cada pas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19A-6636-4939-A700-49F0CCFFA0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 – Sistemas Especia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292-C56E-46B5-838B-2DF97E471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e um Sistema Especialista para diagnóstico de automóveis, em que os Fatores de Certeza são precedidos por CF (inteiros de -100 a +100 indicam definitivamente falso até definitivamente verdadei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C5B-AFF2-4281-91C5-8AE860BD68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3781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42920" y="2060640"/>
          <a:ext cx="7776720" cy="4606920"/>
        </p:xfrm>
        <a:graphic>
          <a:graphicData uri="http://schemas.openxmlformats.org/drawingml/2006/table">
            <a:tbl>
              <a:tblPr/>
              <a:tblGrid>
                <a:gridCol w="3937680"/>
                <a:gridCol w="3839040"/>
              </a:tblGrid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NOT motor_arranca AND bateria_ru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“Problema: BATERIA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farois_fra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bateria_ruim CF=5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radio_fr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bateria_ruim” CF=5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motor_arranca AND cheiro_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“Problema: AFOGADO” CF=8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motor_arranca AND tanque=vaz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“Problema: SEM GASOLINA” CF=9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a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motor_arranca AND tanque=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N “Problema: SEM GASOLINA” CF=3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4A5-7539-4CEA-BD72-869229B6F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781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2705040"/>
            <a:ext cx="770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Motor arranca?' [sim, não]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Radio está fraco?' [sim, não]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O que mostra o marcador de gás?' [vazio, cheio, baix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Luzes estão fracas?' [sim, nã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cheiro de gasolina?' [sim, nã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66B-9581-452A-A6F2-13DF36CD9B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88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tenha o resultado para a seguinte consul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419200"/>
            <a:ext cx="6624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tor arranca?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cheiro de gasolina?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mostra o marcador de gas?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va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 o 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5091840"/>
            <a:ext cx="79218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a premissa de uma regra é incerta devido a fatos incertos e a conclusão é incerta devido a uma especificação na regra, então a seguinte fórmula é usada para calcular o fator de certeza ajustado da conclus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40000" y="6021360"/>
            <a:ext cx="4757760" cy="44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E50-1498-4ACF-AA1D-8D3219C7E3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88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tenha o resultado para a seguinte consul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491200"/>
            <a:ext cx="66247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tor arranca?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cheiro de gasolina?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im CF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mostra o marcador de gas?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va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l o Result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5091840"/>
            <a:ext cx="79218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a premissa de uma regra é incerta devido a fatos incertos e a conclusão é incerta devido a uma especificação na regra, então a seguinte fórmula é usada para calcular o fator de certeza ajustado da conclus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40000" y="6021360"/>
            <a:ext cx="4757760" cy="44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0DB-A06D-4F54-A4E3-B3170A3421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48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ine que você foi contrato para desenvolver um sistema especialista que auxilie um paramédico a prestar os primeiros socorros a vítimas de acidentes, identificando a emergência e indicando o tratamento mais adequ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CBB-2A1D-4C2E-9C34-548E9B7EA8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48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responder as questões abaixo, considere o conjunto de emergências, os sintomas e os tratamento indicados na tabela a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073320"/>
            <a:ext cx="914400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BD0-FD8B-4DC9-BF21-C0A5231788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2T10:10:51Z</dcterms:modified>
  <cp:revision>65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