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D8E-0D4B-4ED0-A6CD-DC6E5ACC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F1C-2C37-4627-890B-72487E86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80D-4CCF-482C-BA1F-B1C8F1BE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7E1-8BE5-4118-8B7F-AC7F8DD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4FAB2-0B59-4ED3-A831-E6FA2F1C8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F3EF9-8CF4-4868-84B3-80520DF5BA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DB30A-7136-4962-8048-11864937D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4F628-E4EE-451D-A115-A265272A7A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2D8D9-EB20-4B5D-896C-79A4A5AE0B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D3CF8-95D6-4C36-A5A2-128FD73C0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5536D-31DC-42DD-AA8B-C61CB0AA3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69D-44D3-4E27-93F7-CD7B169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2DF22-AC56-4E9B-929C-DF7EF00336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9526-1B34-4F89-B42A-1156FBAB2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8D8AD-58D1-44C0-9052-86D9200F6E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B7749-FA3E-4A8A-BB96-E17E226C1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A70AE-5924-4BD2-8F75-A19889988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E90-2333-40A7-8AB8-956298B7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EC5-6BAC-407F-86F6-33119EEE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D37-20D0-49C6-9FFD-15651D4B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EF0-68C3-4380-825F-D9D69A7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AEB-02EB-404B-92DC-64CD8B4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F36-22FC-4DA6-A661-9214062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65D-3320-4108-AFFA-7786E96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E7F-54BC-40FA-9ED2-403100B76E0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E28-2BA7-4440-9DB9-D8097F8EA64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V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açã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sistemas que comparam comportamento de sistemas reais com comportamentos esper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Monitoração de leitura de instrumentos num reator nuclear para detectar condições de acidente; Monitoração de pacientes em U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E51-0414-4BED-9D05-F313CE07B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çã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SEs que desempenham tarefas de diagnóstico e conserto de comportamento de estudantes. Eles avaliam o que os estudantes conhecem e suas deficiências e traçam planos para corrigir as deficiê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s planos são executados diretamente com os estud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Ensinar estudantes a rastrear falhas em circuitos elétricos; Ensinar estudantes de medicina na área de seleção de antimicró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264-769C-44A0-9268-0E066DCDF5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7E1-CAEC-4891-86DB-91F7F80AA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nentes de qualquer 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s -&gt;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-&gt; Fatos Condi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de Conhecimento: Conjunto de Representações do Conhecimento (Ex.: Fatos e Reg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 de Inferência -&gt; Procedimentos gerais para resolução de problemas (decide em que ordem e como aplicar as regr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 -&gt; Interação do Sistema Especialista com o Usuário (caracterizada pela explicação de suas soluções e diagnós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B91-9E10-481F-B0B5-61A68ED32E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43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de um Sistema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3897" t="0" r="0" b="0"/>
          <a:stretch/>
        </p:blipFill>
        <p:spPr>
          <a:xfrm>
            <a:off x="1004760" y="2205000"/>
            <a:ext cx="8139240" cy="2901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42920" y="5877000"/>
            <a:ext cx="7632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Módulo composto pela máquina de inferência e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mada de interface de um sistema especi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E24-B5CF-4032-92BF-9A7A1390AB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çã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pre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r situações através de sensores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s dados podem ser de várias formas: imagens, sinais de áudio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médicos de Interpretação usam medidas obtidas através da monitoração de dados de pacientes: pressão sanguínea, batimentos cardía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avés da Interpretação desses dados, o SE apresenta um diagnóstico para a doen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C85-0DAF-4F12-B3DD-366143C1E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nóstic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m as prováveis consequências de dadas situ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predizer o estrago em determinada plantação causado por alguma praga; predizer a demanda de petróleo através da situação geopolítica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Prognóstico são, às vezes, modelos de simulação, modelos que espelham alguma atividade do mun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D34-949C-4E9C-876F-4EBBA4364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óstic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gn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 descrições de situações e características de comportamento para inferir prováveis causas de mau funcionamento em siste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Diagnosticar causas de doenças em pacientes através da observação de seus sintomas; Localizar falhas em circuitos elét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A62-136F-4FA3-AB25-1AA16DE3E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que desempenham tarefas de Projeto desenvolvem configurações de objetos baseados num conjunto de restr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s: Layout de circuitos integrados; Criação de moléculas orgânicas complex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AF6-597D-4FAE-A2E8-04FA60796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ção de Sistemas Especialistas de acordo com suas a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ment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sistemas que decidem sobre estratégias de ação antes das ações serem tom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: Planejar as ações de vários dias em uma guerra para reduzir a capacidade militar das forças inimi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7A3-9668-4FFB-886F-135232330E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2T09:46:30Z</dcterms:modified>
  <cp:revision>65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