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A22-B4E9-4F8A-B49C-E0EDA96E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16F-FAC1-4123-A639-034881F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D9A-4C2B-4103-875C-73657C7E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7D2-CD71-4F06-8964-2A73D565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A71B5-32FE-473C-9659-9A274ACEE3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AD31-9EE8-479B-85F9-BADD4FED0C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B3FE4-BCDA-4FF3-8F9D-40A0FE2B17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B66E-28C6-478B-862B-030599DDE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0842-1BD2-40C4-BA38-5D0EC1560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A942B-3123-44C0-A3DD-631498DA43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A101-FAAD-45B6-BBB5-FAA274609D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D72-2EE1-4C24-B0BA-026C3CD4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0964-2098-4D14-AFEC-CFC826046A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B582D-8DC8-43B0-B727-32763ED77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BB10B-2AE1-45D6-9AB2-B95F16D800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402B0-8AA9-478F-AF07-1123F7A4F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4C81F-9A91-4EF5-9C1D-F47FD6A67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8FF-A5DB-4AD3-B16C-FBAABA9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E12-629D-404A-91D9-24B85B12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053-CD59-47FA-800D-9AE568DD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D47-6DC0-4023-AD85-4A585A8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11F-4A2A-41A1-87DF-307CED8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069-A896-430F-B0DC-11D3D82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964-6338-48F4-BD1E-28538F0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5927-F89B-49F6-AC96-A7511E99D48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40A4-928D-464A-909A-68BD43FCD11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V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 – Redes Semân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4C8-8445-48A5-969D-C75E1395B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81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e o conhecimento abaixo utilizando Redes Semânticas e informe qual é o tipo de rede construí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s que se deseja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) Enciclopédias e dicionários são liv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) O Aurélio é um dicio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) A Britânica é uma enciclopé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) Cada livro tem uma c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) Vermelho e verde são 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) Todos os dicionários são verme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) As enciclopédias nunca são verme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) A Britânica é ve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Cada livro é uma enciclopédia ou um dicionário, mas não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045-9317-42D3-8A20-F7B5CDC608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e o Prolog para construir cada repres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a um exemplo de consulta para cada representação usando o 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s que se deseja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) Enciclopédias e dicionários são liv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) O Aurélio é um dicio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) A Britânica é uma enciclopé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) Cada livro tem uma c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) Vermelho e verde são 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) Todos os dicionários são verme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) As enciclopédias nunca são verme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) A Britânica é ve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Cada livro é uma enciclopédia ou um dicionário, mas não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5F1-0E49-4810-AAF1-398C93ED4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4560" y="155736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idere a Rede Bayesiana a segu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probabilidade de que a grama esteja molhada, tenha chovido, tenha sido usado regador e o tempo esteja nubl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probabilidade de que a grama esteja molhada e de que tenha chovido?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7130" t="31870" r="17591" b="15807"/>
          <a:stretch/>
        </p:blipFill>
        <p:spPr>
          <a:xfrm>
            <a:off x="1835280" y="3267000"/>
            <a:ext cx="5832360" cy="35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F23-20C0-46F5-A5B4-F91FE588F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2T09:51:42Z</dcterms:modified>
  <cp:revision>64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