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D750-7B01-4E91-A9E9-0A05F645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14F3-FD51-4A75-90D5-330BE158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0E3F-177F-4D46-9996-64358E5E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843F-6598-41F7-9FED-1D7BEA9A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795C7-37B3-4170-BC55-D19B2BEB96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97F10-A6EC-4DEC-8DEE-3B81793BCA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18309-AEC5-49FE-B575-D29E47FD1D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7A90A-9238-4974-B94F-892845CC3C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886A6-DCC1-45C7-BF84-C7DF54EF5C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047FE-69A5-4B50-A0B7-59CDC73124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083CD-31BD-4219-AE8D-C69D9E7992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19D-EB65-4878-9627-AC1CD0E2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6EA15-B4C9-4591-842B-C327C0E9FF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C32E4-371B-4A42-BB03-1CB2F11D7E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5E7D0-AE09-4BA1-90A5-8D0471BDB1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59972-C4EC-4E05-B8DF-6CF9CF906E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9135D-A5B6-4CC2-9983-BBC3F92D5B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BA6F-8121-4B39-90F0-3F22CCA0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E62B-2F03-4513-92F8-97A6D777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CE5A-A158-4EA8-B3D3-7DFFD0A4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873-A1C7-4C01-8155-A5F30280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3879-B950-401E-BD83-5D2D3F8F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9A0-CF64-4487-B5F2-62BC9564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FD1C-26BD-439A-A11D-A6E01F94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E9B2-7B5E-42DD-BED8-89291EB6AB7B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3B5B-D3C8-4DDE-A239-E81F3A04BB58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81360"/>
            <a:ext cx="576360" cy="476640"/>
            <a:chOff x="826920" y="638136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826920" y="676296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9480" y="65325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3920" y="638100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1640" y="65397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5360" y="638856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presentação do Conhecimento    (Parte 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es de Asserção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ão desenvolvidas para garantir proposições. Diferentemente das redes de definição, a informação em uma rede de asserção é considerada contingentemente verdadeira, a não ser que seja explicitamente marcada com um operador de mo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am desenvolvidas para a asserção de proposições lógicas. A notação gráfica foi criada com base na notação utilizada pela química orgân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grafos relacionais conseguem representar apenas dois tipos de operadores: operadores de conjunção e operadores de "existência'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6021360"/>
            <a:ext cx="7129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Esta notação foi criada por Although Peirce em 1882, e serviria para mostrar “os átomos e as moléculas da lógica''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A0CB-468B-4993-8DA8-09F83632B1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280" y="1484280"/>
            <a:ext cx="7561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emantic Networ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rocessing System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SN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6370560" cy="3255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71640" y="515772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e thinks that Bob believes that a dog is eating a 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936720" y="5626080"/>
            <a:ext cx="817236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position M1 states that Sue is the experiencer (Expr) of the verb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think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whose theme (Thme) is another proposition M2. For M2, the experiencer is Bob, the verb is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believ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and the theme is a proposition M3. For M3, the agent (Agnt) is some entity B1, which is a member of the class Dog, the verb is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ea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and the patient (Ptnt) is an entity B2, which is a member of the class Bone. As Figure illustrates, propositions may be used at the metalevel to make statements about other propositions: M1 states that M2 is thought by Sue, and M2 states that M3 is believed by Bob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36C2-54B0-44DE-8F53-1DBFEDA94A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343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es de Implic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usam a implicação com principal relação para conexão de nodos. Podem ser usadas para representar padrões de crenças, causalidade, ou inferê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redes de implicação estabelecem relações de implicação entre os no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pendendo da interpretação, estas redes podem ser vistas como redes de crenças e redes Bayesianas, para isto seria necessário envolver valores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babilida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as relações de verdadeiro e fals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5734080"/>
            <a:ext cx="75596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ntes de se obter alguma evidência fala-se de </a:t>
            </a: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probabilidade a priori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ou </a:t>
            </a: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probabilidade não condicionada.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Depois de obtida evidência fala-se de </a:t>
            </a: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probabilidade a posteriori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ou </a:t>
            </a: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probabilidade condicio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BE76-C286-462F-9299-19E1D3081D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42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des Bayesi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diagramas que organizam o conhecimento numa dada área por meio de um mapeamento entr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ausa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fe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stemas baseados em redes Bayesianas: são capazes de gerar automaticamente predições ou decisões mesmo na situação de inexistência de algumas peças de inform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 Bayesiana: definida pela sua estrutura e modelo probabilístico, determinando de forma unívoca a distribuição conjunta para as variáveis que descre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E0C-F8B1-4FBB-93BB-5A931E8A58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71640" y="1628640"/>
            <a:ext cx="7921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des Bayesianas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ão grafos direcionados acíclicos com as seguintes caracterís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nós correspondem a variáveis aleató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ligação direcionada ou arco com seta liga pares de variáveis (nós). O significado intuitivo de um arco dirigido do nó X para o nó Y é qu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 tem uma influência direta sobre 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nó tem associados os estados da variável que representa e uma tabela de probabilidades condicionadas que quantifica os efeitos que os pais exercem sobre um nó (probabilidade do nó estar num estado específico dado os estados dos seus pa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grafo não possui ciclos direcion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C5F3-30A2-4366-A902-B51B4F099A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42560" y="198900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des Bayesi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tematicame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uma Re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ayesian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uma representação compacta de uma tabela de conjunção de probabilidades do universo do proble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o ponto de vista de um especialist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Redes Bayesianas constituem um modelo gráfico que representa de forma simples as relações de causalidade das variáveis de um siste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4763-440E-46D7-90A1-D9A23908D4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044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ma Re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Bayesian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siste 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conjunto de variáveis e um conjunto de arcos ligando as variáve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variável possui um conjunto limitado de estados mutuamente exclusiv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variáveis e arcos formam um grafo dirigido sem ciclos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A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cada variável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 possui como pai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, ..., B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xiste uma tabel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(A| B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, ..., B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040-B334-4DD8-B4FB-2D5E36B514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des Bayesi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Você possui um novo alarme contra ladrões em casa. Este alarme é muito confiável na detecção de ladrões, entretanto, ele também pode disparar caso ocorra um terremo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Você tem dois vizinhos, João e Maria, os quais prometeram telefonar-lhe no trabalho caso o alarme disp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João sempre liga quando ouve o alarme, entretanto, algumas vezes confunde o alarme com o telefone e também liga nestes cas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aria, por outro lado, gosta de ouvir música alta e às vezes não escuta o alarme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8A49-AFE9-4E09-A61F-29AC692005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7128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presentação do problema (Rede Bayesia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122560" y="2492280"/>
            <a:ext cx="5113080" cy="3170160"/>
            <a:chOff x="2122560" y="2492280"/>
            <a:chExt cx="5113080" cy="3170160"/>
          </a:xfrm>
        </p:grpSpPr>
        <p:grpSp>
          <p:nvGrpSpPr>
            <p:cNvPr id="143" name=""/>
            <p:cNvGrpSpPr/>
            <p:nvPr/>
          </p:nvGrpSpPr>
          <p:grpSpPr>
            <a:xfrm>
              <a:off x="2193840" y="2492280"/>
              <a:ext cx="1368360" cy="865440"/>
              <a:chOff x="2193840" y="2492280"/>
              <a:chExt cx="1368360" cy="865440"/>
            </a:xfrm>
          </p:grpSpPr>
          <p:sp>
            <p:nvSpPr>
              <p:cNvPr id="144" name=""/>
              <p:cNvSpPr/>
              <p:nvPr/>
            </p:nvSpPr>
            <p:spPr>
              <a:xfrm>
                <a:off x="2193840" y="2492280"/>
                <a:ext cx="1368360" cy="865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265120" y="2708280"/>
                <a:ext cx="122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Assal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5867280" y="2492280"/>
              <a:ext cx="1368360" cy="865080"/>
              <a:chOff x="5867280" y="2492280"/>
              <a:chExt cx="1368360" cy="865080"/>
            </a:xfrm>
          </p:grpSpPr>
          <p:sp>
            <p:nvSpPr>
              <p:cNvPr id="147" name=""/>
              <p:cNvSpPr/>
              <p:nvPr/>
            </p:nvSpPr>
            <p:spPr>
              <a:xfrm>
                <a:off x="5867280" y="2492280"/>
                <a:ext cx="1368360" cy="86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938560" y="2571480"/>
                <a:ext cx="12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Tremor de terr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4067280" y="3716280"/>
              <a:ext cx="1368360" cy="865080"/>
              <a:chOff x="4067280" y="3716280"/>
              <a:chExt cx="1368360" cy="865080"/>
            </a:xfrm>
          </p:grpSpPr>
          <p:sp>
            <p:nvSpPr>
              <p:cNvPr id="150" name=""/>
              <p:cNvSpPr/>
              <p:nvPr/>
            </p:nvSpPr>
            <p:spPr>
              <a:xfrm>
                <a:off x="4067280" y="3716280"/>
                <a:ext cx="1368360" cy="86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138560" y="3931920"/>
                <a:ext cx="122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Alar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2122560" y="4797360"/>
              <a:ext cx="1368360" cy="865080"/>
              <a:chOff x="2122560" y="4797360"/>
              <a:chExt cx="1368360" cy="865080"/>
            </a:xfrm>
          </p:grpSpPr>
          <p:sp>
            <p:nvSpPr>
              <p:cNvPr id="153" name=""/>
              <p:cNvSpPr/>
              <p:nvPr/>
            </p:nvSpPr>
            <p:spPr>
              <a:xfrm>
                <a:off x="2122560" y="4797360"/>
                <a:ext cx="1368360" cy="86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194200" y="4868640"/>
                <a:ext cx="12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João telefo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5867280" y="4797360"/>
              <a:ext cx="1368360" cy="865080"/>
              <a:chOff x="5867280" y="4797360"/>
              <a:chExt cx="1368360" cy="865080"/>
            </a:xfrm>
          </p:grpSpPr>
          <p:sp>
            <p:nvSpPr>
              <p:cNvPr id="156" name=""/>
              <p:cNvSpPr/>
              <p:nvPr/>
            </p:nvSpPr>
            <p:spPr>
              <a:xfrm>
                <a:off x="5867280" y="4797360"/>
                <a:ext cx="1368360" cy="86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938920" y="4870080"/>
                <a:ext cx="12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Maria telefo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3417840" y="3213000"/>
              <a:ext cx="936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5219280" y="3355920"/>
              <a:ext cx="1079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417480" y="4437000"/>
              <a:ext cx="8650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18200" y="4437000"/>
              <a:ext cx="79200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E2D5-155D-44C8-A7C5-6B7EEA4863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167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abela de Probabilidades (Redes Bayesia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332000" y="2924280"/>
          <a:ext cx="7200720" cy="2520720"/>
        </p:xfrm>
        <a:graphic>
          <a:graphicData uri="http://schemas.openxmlformats.org/drawingml/2006/table">
            <a:tbl>
              <a:tblPr/>
              <a:tblGrid>
                <a:gridCol w="2881080"/>
                <a:gridCol w="431964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alto   Terremo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Alarme|Assalto, Terremot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ade             Fal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ade      Ver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50                0,0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ade        Fal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50                0,0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o         Ver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90                0,7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o           Fal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1                0,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86C0-9BC5-44F0-A138-D8B07395CD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des Semân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89C5-35CC-4990-AB28-081614138C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54200" y="2060640"/>
            <a:ext cx="136836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25840" y="2276640"/>
            <a:ext cx="1224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sal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35640" y="2062080"/>
            <a:ext cx="1368360" cy="865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08720" y="2278080"/>
            <a:ext cx="1224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rrem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922560" y="3718080"/>
            <a:ext cx="1368360" cy="865080"/>
            <a:chOff x="3922560" y="3718080"/>
            <a:chExt cx="1368360" cy="865080"/>
          </a:xfrm>
        </p:grpSpPr>
        <p:sp>
          <p:nvSpPr>
            <p:cNvPr id="170" name=""/>
            <p:cNvSpPr/>
            <p:nvPr/>
          </p:nvSpPr>
          <p:spPr>
            <a:xfrm>
              <a:off x="3922560" y="3718080"/>
              <a:ext cx="1368360" cy="86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93840" y="3933720"/>
              <a:ext cx="12240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lar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482920" y="5157720"/>
            <a:ext cx="136836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4200" y="5157720"/>
            <a:ext cx="12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João telefona (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64000" y="5157720"/>
            <a:ext cx="136872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35640" y="5192640"/>
            <a:ext cx="12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ria telefona (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90920" y="2925720"/>
            <a:ext cx="649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074920" y="2925720"/>
            <a:ext cx="865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63640" y="4510080"/>
            <a:ext cx="57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443880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619280" y="2133720"/>
          <a:ext cx="647640" cy="606240"/>
        </p:xfrm>
        <a:graphic>
          <a:graphicData uri="http://schemas.openxmlformats.org/drawingml/2006/table">
            <a:tbl>
              <a:tblPr/>
              <a:tblGrid>
                <a:gridCol w="647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164360" y="2206800"/>
          <a:ext cx="647640" cy="606240"/>
        </p:xfrm>
        <a:graphic>
          <a:graphicData uri="http://schemas.openxmlformats.org/drawingml/2006/table">
            <a:tbl>
              <a:tblPr/>
              <a:tblGrid>
                <a:gridCol w="647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724360" y="3429000"/>
          <a:ext cx="1440000" cy="1376280"/>
        </p:xfrm>
        <a:graphic>
          <a:graphicData uri="http://schemas.openxmlformats.org/drawingml/2006/table">
            <a:tbl>
              <a:tblPr/>
              <a:tblGrid>
                <a:gridCol w="792360"/>
                <a:gridCol w="647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   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 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 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547640" y="5877000"/>
          <a:ext cx="909720" cy="865080"/>
        </p:xfrm>
        <a:graphic>
          <a:graphicData uri="http://schemas.openxmlformats.org/drawingml/2006/table">
            <a:tbl>
              <a:tblPr/>
              <a:tblGrid>
                <a:gridCol w="282600"/>
                <a:gridCol w="627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6804000" y="5873760"/>
          <a:ext cx="936360" cy="795240"/>
        </p:xfrm>
        <a:graphic>
          <a:graphicData uri="http://schemas.openxmlformats.org/drawingml/2006/table">
            <a:tbl>
              <a:tblPr/>
              <a:tblGrid>
                <a:gridCol w="291960"/>
                <a:gridCol w="644400"/>
              </a:tblGrid>
              <a:tr h="30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1419120"/>
            <a:ext cx="77151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de Bayesiana e proba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3872-A9E8-4914-B3F9-772B26375F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87280" y="1628640"/>
            <a:ext cx="76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Redes Bayesi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Quest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Calcular a probabilidade do alarme ter tocado, mas, nem um ladrão nem um terremoto aconteceram, e ambos, João em Maria liga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350028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tribuição conjunta de probabilida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050920" y="3933720"/>
                <a:ext cx="5761080" cy="26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ai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  <m:e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¬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¬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¬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¬</m:t>
                            </m:r>
                            <m:r>
                              <m:t xml:space="preserve">E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¬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¬</m:t>
                            </m:r>
                            <m:r>
                              <m:t xml:space="preserve">E</m:t>
                            </m:r>
                          </m:e>
                        </m:d>
                      </m:e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99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9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6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1E6-C806-4A97-BE7F-6BED7A4039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cedimento geral para construção de Rede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Bayesian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Escolher um conjunto de variávei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 descrevam o domín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 Escolher uma ordem para as variáve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Enquanto existir variávei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. Escolher uma variável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adicionar um nó na re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. Determinar os nó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ais(Xi)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ntre os nós que já estejam na rede e que satisfaçam a equaçã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 * 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. Definir a tabela de probabilidades condicionais par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fato de que cada nó é conectado aos nós mais antigos na rede garante que o grafo será sempre acícl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58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619280" y="5805360"/>
                <a:ext cx="69483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Pai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para </m:t>
                    </m:r>
                    <m:r>
                      <m:rPr>
                        <m:lit/>
                        <m:nor/>
                      </m:rPr>
                      <m:t xml:space="preserve">Pai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⊆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7138-C5C2-4E53-B37E-AFA95ABE84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ferência usando Redes Bayesi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istribuição conjunta pode ser usada para responder à qualquer pergunta sobre o domín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redes Bayesianas, como representação gráfica desta distribuição, podem também ser usadas para responder qualquer quest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C33A-FB5C-4DC6-9AC5-FC7E7CBFDD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71280" y="1628640"/>
            <a:ext cx="771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ma Rede Bayesiana para diagnó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473120" y="2357280"/>
            <a:ext cx="6915240" cy="3879720"/>
            <a:chOff x="1473120" y="2357280"/>
            <a:chExt cx="6915240" cy="3879720"/>
          </a:xfrm>
        </p:grpSpPr>
        <p:sp>
          <p:nvSpPr>
            <p:cNvPr id="199" name=""/>
            <p:cNvSpPr/>
            <p:nvPr/>
          </p:nvSpPr>
          <p:spPr>
            <a:xfrm>
              <a:off x="1473120" y="2788920"/>
              <a:ext cx="18734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Fatores de predisposi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65480" y="3811320"/>
              <a:ext cx="1729080" cy="9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Problem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(Doença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(Causa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92760" y="3509640"/>
              <a:ext cx="1800000" cy="15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59640" y="4949640"/>
              <a:ext cx="1728720" cy="9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Tes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(Sintoma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(Efeit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86560" y="4723920"/>
              <a:ext cx="1800360" cy="151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74920" y="2357280"/>
              <a:ext cx="1800000" cy="15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02200" y="3438360"/>
              <a:ext cx="936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22920" y="4589280"/>
              <a:ext cx="100800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F6C-E378-455B-9EF0-5D7572B67D2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5640" y="169992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es Executáve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ncluem algum mecanismo, como procedimentos anexos, para execução de inferências, passagem de mensagens, ou busca por padrões e associaçõ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redes executáveis contêm mecanismos que permitem a alteração dinâmica na própria rede. Três tipos de mecanismos são mais comumente utilizad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ssagem de mensagens - dados passados entre os no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cedimentos anexados - cada nodo possui um procedi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nsformações de grafos - combinar, modificar e quebrar graf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exemplo bastante utilizado de redes executáveis são a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des de Petr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28AD-FF0E-4543-AE63-F9C5A6921F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756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es de Aprendiza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constroem, ou estendem a sua representação por meio da aquisição de conhecimento a partir de exempl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novo conhecimento pode mudar a antiga rede pela adição e remoção de arcos e nodos, ou pela alteração de valores numéricos, que associam nodos e arco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sistema de aprendizado, natural ou artificial, responde a novas informações a partir da alteração de sua representação interna do conheci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B437-6796-4459-AC74-5ADEF8E6241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9214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sistemas que utilizam redes de aprendizado podem se valer de três mecanismos para alteração de sua red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Rote memory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conversão da nova informação em uma rede e adição da mesma na rede at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Alteração de pes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Alteração de valores associados a nodos ou ar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Reestruturaç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é o mais complexo de todos, e implica basicamente na alteração das conexões entre os n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sistemas que se utilizam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ote memory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ão mais indicados para aplicações que necessitam da recuperação exata de d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stemas que utilizam alteração de pesos (exemplo: redes neurais) são mais indicados para reconhecimento de padrõ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es Híbrid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combinam duas ou mais das redes anteri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8EEC-7B26-4992-B1BE-CB273958297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Aplica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compreensão de linguagem natur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de taxonomias de conhecimentos nos quais as ligações entre conceitos são de natureza hierárqu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72A8-A510-490E-961C-0C8B7FFEC9D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em adaptadas à representação de um conjunto hierárquico de conce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svant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mitações na definição de raciocí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3C21-385B-4891-AA7D-953DD21C09F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1484280"/>
            <a:ext cx="7993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de Semâ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me utilizado para definir um conjunto heterogêneo de siste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rede semântica consiste em um conjunto de nodos (nós) conectados por um conjunto de arc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dos - em geral, representam objet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rcos - relações binárias entre esses objetos. Os nodos podem também ser utilizados para representar predicados, classes, palavras de uma linguagem, entre outras possíveis interpretações, dependendo do sistema de redes semân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5877000"/>
            <a:ext cx="79200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des Semântic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São grafos rotulados em que os nós representam conceitos e os arcos relações  de natureza semântica entre conceitos. Surgiram em 1968, com os estudos realizados por Quillian a respeito da memória associativa huma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96DA-DA4D-4FAD-8BBF-76C46C00B0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7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35280" y="2033640"/>
            <a:ext cx="6265800" cy="431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86A-0DE1-4421-89C4-9D699B3DFF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16000" y="2276640"/>
                <a:ext cx="7489800" cy="12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Pessoas</m:t>
                        </m:r>
                        <m:r>
                          <m:t xml:space="preserve">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∀</m:t>
                            </m:r>
                            <m:r>
                              <m:t xml:space="preserve">y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emMãe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⇒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essoasF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as</m:t>
                            </m:r>
                          </m:e>
                        </m:d>
                      </m:e>
                      <m:e/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Pessoas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Perna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0CE0-64F0-4A5F-90FD-2644D490AC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922400"/>
            <a:ext cx="8172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aciocíni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- tentar projetar uma rede semântica representando o problema a ser resolvido sobre uma rede de conhecimento por meio de um mecanismo de correspondência estrutur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ramente, há correspondência imediata: é necessário a consideração d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erança de propriedad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0A1C-9F01-4916-9E7B-87C65DA3E2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redes semânticas podem ser divididas 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es de Defini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es de Asser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es de Implic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es Execut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es de Aprend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es Híbr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6A26-9DC3-4AE4-9878-1ED3A23520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es de Definição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fatizam o subtipo, ou a relação do tipo “é um” entre um tipo conceitual e um subtipo recém defini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de resultante suporta a regra da herança a partir da cópia de propriedades definidas para o supertipo para todos os seus subtipos.  Já que as definições são verdadeiras por definição, a informação neste tipo de rede é geralmente assumida como necessariamente verdadei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primeiras implementações de redes semânticas surgiram para definições de tipos conceituais e para padrões de relação para máquinas de tradu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5734080"/>
            <a:ext cx="77580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É a mais antiga das redes semânticas. Foi proposta pelo filósofo grego Porfírio que ilustrou o método de categorização proposto por Aristóteles. O método utilizava uma estrutura hierárquica de tipos e subtip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8234-9C8B-4C98-97B9-4578D7AB12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2637000"/>
            <a:ext cx="2592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Árvore de Porfíri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0" b="3796"/>
          <a:stretch/>
        </p:blipFill>
        <p:spPr>
          <a:xfrm>
            <a:off x="3564000" y="44280"/>
            <a:ext cx="498636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F815-33BD-48F8-9C65-D56805FC54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2-27T10:22:07Z</dcterms:modified>
  <cp:revision>669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